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01A-6622-4393-9D9B-531435CB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B15-3877-441B-8CFD-7568124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2B9-0167-4DA7-BD04-2B011615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F9B-5564-4283-AA1B-32AA48BA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D965-0BBE-4645-8B15-124C9AD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AB1-EB2D-46C8-A2A2-656B6E5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7775-B75A-4F64-908E-B5D0BF6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312A-6577-4F04-B762-7D808554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E71-D8FD-4CEC-9955-35BB117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7A5-CD6F-497E-8F9F-CE2695AD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0A41-3C29-40C5-A19E-53101209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224-4FA9-4EE9-A97A-C95E7B18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C2E-FC65-489E-B970-6C2DE1E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6E44-16C9-4BCE-B21B-5CC78DFD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C007-DFCF-480E-AE69-A50247E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B15-2923-4D9B-8B3F-E37954FF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4935-71AB-4004-B4E2-07971850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9A8-D1BB-48B1-A7F5-5AED1D0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F64-6411-43CA-8A7E-37984C6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279-04C3-4465-B14D-45F945EB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644-9025-412F-9AEE-C88C41C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56E-DD2D-4D58-AC93-34E7BF0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B0F-A01D-480C-936C-B2EDE49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485-F630-4BE1-B44C-C6AAFC7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E2E-AE15-4BEE-A169-097094DDD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027-E283-4E6F-A0F7-EEBF79036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3644640"/>
            <a:ext cx="82818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Ребята – «математики»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составляют формулы стран или регионов Росси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эти формулы составлены уже учеником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0" name="Organization Chart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21" name="Picture 16" descr="Изображение"/>
          <p:cNvPicPr/>
          <p:nvPr/>
        </p:nvPicPr>
        <p:blipFill>
          <a:blip r:embed="rId1"/>
          <a:srcRect l="0" t="0" r="0" b="49223"/>
          <a:stretch/>
        </p:blipFill>
        <p:spPr>
          <a:xfrm>
            <a:off x="250920" y="3716280"/>
            <a:ext cx="3635280" cy="247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Изображение"/>
          <p:cNvPicPr/>
          <p:nvPr/>
        </p:nvPicPr>
        <p:blipFill>
          <a:blip r:embed="rId2"/>
          <a:srcRect l="0" t="50603" r="7133" b="0"/>
          <a:stretch/>
        </p:blipFill>
        <p:spPr>
          <a:xfrm>
            <a:off x="5435640" y="33336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Изображение"/>
          <p:cNvPicPr/>
          <p:nvPr/>
        </p:nvPicPr>
        <p:blipFill>
          <a:blip r:embed="rId3"/>
          <a:srcRect l="9273" t="42065" r="2066" b="24601"/>
          <a:stretch/>
        </p:blipFill>
        <p:spPr>
          <a:xfrm>
            <a:off x="4211640" y="3651120"/>
            <a:ext cx="4537080" cy="246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Изображение 001"/>
          <p:cNvPicPr/>
          <p:nvPr/>
        </p:nvPicPr>
        <p:blipFill>
          <a:blip r:embed="rId4"/>
          <a:srcRect l="6475" t="33656" r="3654" b="21250"/>
          <a:stretch/>
        </p:blipFill>
        <p:spPr>
          <a:xfrm>
            <a:off x="250920" y="260280"/>
            <a:ext cx="3743280" cy="196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Изображение 001"/>
          <p:cNvPicPr/>
          <p:nvPr/>
        </p:nvPicPr>
        <p:blipFill>
          <a:blip r:embed="rId5"/>
          <a:srcRect l="6475" t="33656" r="3654" b="21250"/>
          <a:stretch/>
        </p:blipFill>
        <p:spPr>
          <a:xfrm>
            <a:off x="250920" y="260280"/>
            <a:ext cx="374328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«Юристы» собирают  «паспорт» страны или региона России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3573360"/>
            <a:ext cx="548316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Изображение 006"/>
          <p:cNvPicPr/>
          <p:nvPr/>
        </p:nvPicPr>
        <p:blipFill>
          <a:blip r:embed="rId1"/>
          <a:stretch/>
        </p:blipFill>
        <p:spPr>
          <a:xfrm>
            <a:off x="539640" y="1052640"/>
            <a:ext cx="2737080" cy="367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Изображение 008"/>
          <p:cNvPicPr/>
          <p:nvPr/>
        </p:nvPicPr>
        <p:blipFill>
          <a:blip r:embed="rId2"/>
          <a:stretch/>
        </p:blipFill>
        <p:spPr>
          <a:xfrm>
            <a:off x="4932360" y="407664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Изображение 003"/>
          <p:cNvPicPr/>
          <p:nvPr/>
        </p:nvPicPr>
        <p:blipFill>
          <a:blip r:embed="rId3"/>
          <a:stretch/>
        </p:blipFill>
        <p:spPr>
          <a:xfrm>
            <a:off x="4500720" y="1197000"/>
            <a:ext cx="324144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Изображение 004"/>
          <p:cNvPicPr/>
          <p:nvPr/>
        </p:nvPicPr>
        <p:blipFill>
          <a:blip r:embed="rId4"/>
          <a:stretch/>
        </p:blipFill>
        <p:spPr>
          <a:xfrm>
            <a:off x="755640" y="4076640"/>
            <a:ext cx="396072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Определение региона России или государство по контурам – дело «пограничников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Изображение 006"/>
          <p:cNvPicPr/>
          <p:nvPr/>
        </p:nvPicPr>
        <p:blipFill>
          <a:blip r:embed="rId1"/>
          <a:stretch/>
        </p:blipFill>
        <p:spPr>
          <a:xfrm rot="433800">
            <a:off x="3995640" y="3284640"/>
            <a:ext cx="475308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Изображение 007"/>
          <p:cNvPicPr/>
          <p:nvPr/>
        </p:nvPicPr>
        <p:blipFill>
          <a:blip r:embed="rId2"/>
          <a:stretch/>
        </p:blipFill>
        <p:spPr>
          <a:xfrm rot="20979000">
            <a:off x="395280" y="1915920"/>
            <a:ext cx="54309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873288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Решением  географических</a:t>
            </a:r>
            <a:br>
              <a:rPr sz="2800"/>
            </a:b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детективных задач занимаются «оперативники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Изображение"/>
          <p:cNvPicPr/>
          <p:nvPr/>
        </p:nvPicPr>
        <p:blipFill>
          <a:blip r:embed="rId1"/>
          <a:srcRect l="10695" t="5980" r="1890" b="5724"/>
          <a:stretch/>
        </p:blipFill>
        <p:spPr>
          <a:xfrm>
            <a:off x="539640" y="1484280"/>
            <a:ext cx="3888000" cy="511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Изображение 001"/>
          <p:cNvPicPr/>
          <p:nvPr/>
        </p:nvPicPr>
        <p:blipFill>
          <a:blip r:embed="rId2"/>
          <a:srcRect l="4979" t="4667" r="6994" b="8126"/>
          <a:stretch/>
        </p:blipFill>
        <p:spPr>
          <a:xfrm>
            <a:off x="4788000" y="1484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Ребята - «лирики» любят собирать и писать  стихи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7" descr="Изображение 004"/>
          <p:cNvPicPr/>
          <p:nvPr/>
        </p:nvPicPr>
        <p:blipFill>
          <a:blip r:embed="rId1"/>
          <a:stretch/>
        </p:blipFill>
        <p:spPr>
          <a:xfrm>
            <a:off x="-6480" y="901800"/>
            <a:ext cx="254160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6638760" y="828720"/>
            <a:ext cx="2303640" cy="6084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492360" y="4653000"/>
            <a:ext cx="5400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Осень Мизура. 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(Вика Берое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ahoma"/>
              </a:rPr>
              <a:t>Осень Мизура – прекрасная Муз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ahoma"/>
              </a:rPr>
              <a:t>Оранжевый запах, красивый двор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ahoma"/>
              </a:rPr>
              <a:t>И вдохновение многих серд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ahoma"/>
              </a:rPr>
              <a:t>Земли покрыты ковром золо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ahoma"/>
              </a:rPr>
              <a:t>И «капли дождя» золотистой лист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Уносят беду и приносят мечты</a:t>
            </a:r>
            <a:r>
              <a:rPr b="1" lang="ru-RU" sz="2000" spc="-1" strike="noStrike">
                <a:solidFill>
                  <a:srgbClr val="6666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771640" y="692280"/>
            <a:ext cx="4552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Зарина Кли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В дальний путь с собою он зовет.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Счастье верю принесет,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И аул мой расцветет!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На берегу реки живет Мизур,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Ритм ему дает реки той гул.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А Мизур мой - воздух мне,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Tahoma"/>
              </a:rPr>
              <a:t>Жить здесь нравится вполне!</a:t>
            </a:r>
            <a:br>
              <a:rPr sz="1800"/>
            </a:br>
            <a:br>
              <a:rPr sz="2800"/>
            </a:br>
            <a:r>
              <a:rPr b="0" i="1" lang="ru-RU" sz="2000" spc="-1" strike="noStrike">
                <a:solidFill>
                  <a:srgbClr val="006666"/>
                </a:solidFill>
                <a:latin typeface="Tahoma"/>
              </a:rPr>
              <a:t>Как цветет у нас сирень,</a:t>
            </a:r>
            <a:br>
              <a:rPr sz="2000"/>
            </a:br>
            <a:r>
              <a:rPr b="0" i="1" lang="ru-RU" sz="2000" spc="-1" strike="noStrike">
                <a:solidFill>
                  <a:srgbClr val="006666"/>
                </a:solidFill>
                <a:latin typeface="Tahoma"/>
              </a:rPr>
              <a:t>Люди здешние не любят лень,</a:t>
            </a:r>
            <a:br>
              <a:rPr sz="2000"/>
            </a:br>
            <a:r>
              <a:rPr b="0" i="1" lang="ru-RU" sz="2000" spc="-1" strike="noStrike">
                <a:solidFill>
                  <a:srgbClr val="006666"/>
                </a:solidFill>
                <a:latin typeface="Tahoma"/>
              </a:rPr>
              <a:t>Предков агъдау они все чтут,</a:t>
            </a:r>
            <a:br>
              <a:rPr sz="2000"/>
            </a:br>
            <a:r>
              <a:rPr b="0" i="1" lang="ru-RU" sz="2000" spc="-1" strike="noStrike">
                <a:solidFill>
                  <a:srgbClr val="006666"/>
                </a:solidFill>
                <a:latin typeface="Tahoma"/>
              </a:rPr>
              <a:t>И на симд гостей зову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-181440" y="4868640"/>
            <a:ext cx="792360" cy="1145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image?id=610078406923&amp;bid=610078406923&amp;t=13&amp;plc=WEB&amp;tkn=pgKUx2zBCFInmV5ovPO6wnm3tH0"/>
          <p:cNvPicPr/>
          <p:nvPr/>
        </p:nvPicPr>
        <p:blipFill>
          <a:blip r:embed="rId4"/>
          <a:stretch/>
        </p:blipFill>
        <p:spPr>
          <a:xfrm>
            <a:off x="250920" y="4049640"/>
            <a:ext cx="246528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1:54:00Z</dcterms:created>
  <dc:creator>Мзоков</dc:creator>
  <dc:description/>
  <dc:language>en-US</dc:language>
  <cp:lastModifiedBy>Мзоков</cp:lastModifiedBy>
  <dcterms:modified xsi:type="dcterms:W3CDTF">2014-11-10T16:58:58Z</dcterms:modified>
  <cp:revision>4</cp:revision>
  <dc:subject/>
  <dc:title>Краеведческая направленность работы представлена материалом:</dc:title>
</cp:coreProperties>
</file>