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4D4-4688-40EC-9FA7-75C3988E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39A-FD93-46B3-9422-C44B17CC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BB1-C03D-4684-AE09-18AF750E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4EF-B052-4DD3-8B3A-C5E75B3D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6129-DE84-49FC-B1D4-D9910CB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1C55-D23D-4027-B8A2-D44A6B4D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1D3B-C54F-4301-8EBE-B405B8A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96D2-C99C-47C6-89E7-B114455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8E4-4951-4385-B894-8374662C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ED1-F122-4330-97F9-D84277A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753F-EA81-469D-B51B-C9C4E16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755-B452-46EF-9D37-17B2F82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6C90-05C5-4A9F-9458-E004431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4B59-F760-4016-BBA0-2CEAF86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A1A1-B02E-4B86-9D5A-31BD5AA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4B60-13F1-4DF9-8836-BC244F1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2CCE-C857-45D3-8E06-1C051CA0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15BD-53C5-46B0-9D6E-ED56E6D0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AE37-4B07-438F-A894-D83603A7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064E-FB8D-4ADD-ABA1-F835747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3677-B31B-4E4D-861F-70A81861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B7B7-3002-43C3-BACA-27B13E6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512-5DA7-47B0-904B-17DE0D7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9C2E-578A-4264-A8D7-EEC84C2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650E-EBD5-4123-84D2-13778F9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65BE-D505-4C86-812C-C058AC3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9BD0-5D97-4290-A587-01F20858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7DA5-7543-4287-9D8C-57BE4C8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E670-5FA0-4700-9AFF-983BA357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086D-769D-4CEE-9A63-D1DBC506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5B38-8847-4060-83CF-FD5F3E59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A55B-0834-4739-B770-592376E6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89F4-4707-4A78-A293-EC486F8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B71-6820-416B-8754-E99232B5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EB3E-75A8-4CE3-873A-5C5A407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DB98-C942-448F-AA31-0D1E9B9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9384-77E2-4B74-A81B-3701D94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5DFF-C001-4B21-9203-1E7A7CD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4FC7-15FE-43B6-A137-79873D4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A84F-FC9D-4E4F-9CC8-D5BD0AC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568E-6F96-4C28-8E55-AC4B8FA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1906C-1F32-4C83-8485-F8AC3328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083C-CE42-4EDB-AED2-0E0C1600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775B2-0BB9-4601-9A34-3872E2F2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3CF-8F6D-473F-92F6-0F35665E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F9F2-E18E-46CD-B529-D694715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1EDC-9216-4A1A-A19D-2EAD4C21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07DF-972E-427B-A4D9-70F7326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DC4B-73A2-458D-A60B-47D04D73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D1B3-4420-4FB7-A36C-7983407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2A84-B83B-497A-AE46-45F28DA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E2D4-EE1D-4C2A-8C50-65556B1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A3A8-B461-4478-9988-051D2EA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1C47-6BB5-44B4-B60C-50BA6797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3682-A07E-404C-90FE-38960F4B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5B5-7FAA-4D7A-80F8-FACA236A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C212-CE2D-470A-A8B1-A35174DE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E8DA-28CD-4BC0-A44F-711BCCE9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7D277-40FC-4AAF-BA1C-084FF6B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867A-E6D0-45A3-8473-94411E1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A91B-F1AC-4D1A-B578-E62825F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F787-9674-439D-8BE7-A423193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37C8-4DAE-4A3A-9E26-1147BC89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0F80E-27E5-4915-AFB7-A0F8424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495B-B5A0-49B6-8AA0-F963C9A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8029-D796-4FA3-BA36-1137E78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24C-049A-4370-89DB-68DBD6D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4922-1287-4F00-98D5-B696D64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A428-EFCB-4D5A-A265-0B35C7D5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7EE4-2783-4425-8D82-D13966C2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BD47-3ACB-4547-99E7-84B307EC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74C4-91E2-499E-AA8F-6AB1F89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FBDF9-985D-44A9-9381-DB39449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54BBA-5EE9-49F8-9D75-C2552E2B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9DE09-B310-429F-AC63-44B7C25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A03BA-A48F-4745-8C08-5D17F3C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D791-DD6A-4579-B343-EC21B26E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A69-38FB-4370-ACE0-88263D1C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E4654-60CE-4A77-BCFA-A3028774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A954-115A-4485-8CA0-5DEFF3C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C047-DB0E-47E0-BD51-1AA2200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FD83-BCA8-4469-B54C-5A311731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B0C7-2939-4CD3-9C42-50914F4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E35-EE41-4F25-9C69-5EDE2C6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B07-9689-4A57-A75D-8F9896A5CF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8559-8B5A-43E4-980B-3CC17696C15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2712-5771-4105-B96E-EA474EDB13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131-4A37-4B22-B4AA-63A725002B8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83E-3CC1-4843-A8AD-17835D2428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F99C-7E29-4012-BEAE-076C7974080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677-3EB5-4D77-B75B-9C8597F393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http://img1.liveinternet.ru/images/attach/b/4/104/598/104598631_5355770_2812.jpg"/>
          <p:cNvPicPr/>
          <p:nvPr/>
        </p:nvPicPr>
        <p:blipFill>
          <a:blip r:embed="rId1"/>
          <a:stretch/>
        </p:blipFill>
        <p:spPr>
          <a:xfrm>
            <a:off x="0" y="0"/>
            <a:ext cx="6629400" cy="52578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203640" y="510552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Шаровагина Юлия Михайлов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16360" y="404640"/>
            <a:ext cx="4176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БДОУ  ЦРР –Д/С №4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рода Санкт –Петербург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Колпи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елкой     мотор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Развитие тактильных ощущен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гры с пуговицами- Пуговичный массаж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полните просторную коробку пуговицами. Опустите руки в коробку; Поводите ладонями по поверх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еретирайте пуговицы между ладонями; Пересыпайте их из ладошки в ладошку; Найдите самую большую пуговицу, самую маленькую, квадратную, гладкую и п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5" descr="I:\фото\368903ff29fd.jpg"/>
          <p:cNvPicPr/>
          <p:nvPr/>
        </p:nvPicPr>
        <p:blipFill>
          <a:blip r:embed="rId1"/>
          <a:stretch/>
        </p:blipFill>
        <p:spPr>
          <a:xfrm rot="20375400">
            <a:off x="4606920" y="1153800"/>
            <a:ext cx="5200560" cy="468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крупой, бусам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920" y="836640"/>
            <a:ext cx="2952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«Ракушка» - круглая игрушка, в которой перекатывается один или несколько шариков или бусинок. Ребенок ощупывает их через ткань, перебирает пальчиками, массируя активные зоны рук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5" descr="I:\фото\1341164.59890871.jpeg"/>
          <p:cNvPicPr/>
          <p:nvPr/>
        </p:nvPicPr>
        <p:blipFill>
          <a:blip r:embed="rId1"/>
          <a:stretch/>
        </p:blipFill>
        <p:spPr>
          <a:xfrm rot="20055600">
            <a:off x="3932280" y="1757160"/>
            <a:ext cx="6572160" cy="584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I:\фото\101735306_200783_9681800x600.jpg"/>
          <p:cNvPicPr/>
          <p:nvPr/>
        </p:nvPicPr>
        <p:blipFill>
          <a:blip r:embed="rId2"/>
          <a:stretch/>
        </p:blipFill>
        <p:spPr>
          <a:xfrm rot="19889400">
            <a:off x="6078240" y="2880"/>
            <a:ext cx="4011480" cy="340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260280"/>
            <a:ext cx="397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Черепашка» - круглый мешочек, заполненный любым наполнителем. Ребенок ощупывает наполнитель через ткань. Наполнители могут быть разными. Игрушки можно использовать, как счетный материал, как пирамидку (укладывая одну черепашку на другую) 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I:\фото\fcd5db80a54411cb4771fc5bf2cefec5.jpg.jpg"/>
          <p:cNvPicPr/>
          <p:nvPr/>
        </p:nvPicPr>
        <p:blipFill>
          <a:blip r:embed="rId1"/>
          <a:stretch/>
        </p:blipFill>
        <p:spPr>
          <a:xfrm>
            <a:off x="5796000" y="1844640"/>
            <a:ext cx="2830320" cy="3774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60280"/>
            <a:ext cx="4619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чем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ем круп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, гр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ормим птиче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 по тарелочк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ная каш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 игруш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Зол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тгадай, какая крупа в мешоч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ухой бассейн» из гороха и фасо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4" descr="I:\фото\post-846-1099457787_thumb.jpg"/>
          <p:cNvPicPr/>
          <p:nvPr/>
        </p:nvPicPr>
        <p:blipFill>
          <a:blip r:embed="rId1"/>
          <a:stretch/>
        </p:blipFill>
        <p:spPr>
          <a:xfrm rot="20380800">
            <a:off x="5008680" y="2023560"/>
            <a:ext cx="4584600" cy="3392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Игры с природным материалом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уляя с ребенком во дворе, в парке, в лесу, обратите внимание на то, как щедро может одарить природа наблюдательного человека. Из камешков и палочек можно создавать интересные творческие композиции, из снега и глины лепить большие и маленькие фигуры. Все это позволяет развивать тактильно-двигательное восприятие ребенк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Рисов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620280"/>
            <a:ext cx="29624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исование – занятие, любимое всеми детьми и очень полезное. И не обязательно рисовать только карандашом или кистью на бумаге или картоне. Можно рисовать на снегу и песке, на запотевшем окне и асфальте. Полезно рисовать пальцем, ладонью, палочкой, делать отпечатки кусочком ваты, скомканной бумаг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I:\фото\13612694029282.jpg"/>
          <p:cNvPicPr/>
          <p:nvPr/>
        </p:nvPicPr>
        <p:blipFill>
          <a:blip r:embed="rId1"/>
          <a:stretch/>
        </p:blipFill>
        <p:spPr>
          <a:xfrm rot="20377200">
            <a:off x="3564000" y="620280"/>
            <a:ext cx="6594480" cy="4944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песко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1000"/>
            <a:ext cx="36100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гладь рукой песок. Что ты чувствуешь? Какой песок? Как его сделать сырым? Попрыскай из пульверизатора. - Положи свою ладонь на песок. Это след от твоей ладони. А это след от моей ладони. Чей след больше? Чей меньше? Посмотри, какие следы можно сделать с помощью крышек от бутылок, палочек. Попробуй изобразить след кошки. Сделай большой след и маленький. - Разгладь песок двумя руками. Отряхни руки. - Я закопаю несколько игрушек, а ты попробуй най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" descr="I:\фото\untitled.jpg"/>
          <p:cNvPicPr/>
          <p:nvPr/>
        </p:nvPicPr>
        <p:blipFill>
          <a:blip r:embed="rId1"/>
          <a:stretch/>
        </p:blipFill>
        <p:spPr>
          <a:xfrm rot="20158200">
            <a:off x="4529160" y="1275840"/>
            <a:ext cx="4956120" cy="4092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на кухн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 на кухне найдется дело, полезное для развития пальчиков. Попросите ребенка помочь приготовить блюдо из теста, и ваш пирог украсится необычными узорами, созданными детскими руками и фантази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6" descr="http://www.s-rebenkom.ru/wp-content/uploads/2010/07/%D1%82%D0%B5%D1%81%D1%82%D0%BE-5-%D0%BC%D0%B0%D0%BA%D0%B0%D1%80%D0%BE%D0%BD%D1%8B.jpg"/>
          <p:cNvPicPr/>
          <p:nvPr/>
        </p:nvPicPr>
        <p:blipFill>
          <a:blip r:embed="rId1"/>
          <a:stretch/>
        </p:blipFill>
        <p:spPr>
          <a:xfrm rot="20275200">
            <a:off x="4706640" y="558360"/>
            <a:ext cx="5040360" cy="4448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вод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0638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озьми бутылку двумя руками. Какая вода в этой бутылке, теплая или холодная? А в другой бутылке? Открой бутылку с теплой водой, вылей воду в таз. - Возьми губку, намочи ее в воде. Выжми воду в миску сначала одной рукой, потом намочи губку и выжми другой рукой. - Намочи салфетку, выжми ее двумя руками, протри стол. Расправь салфетку и сложи ее. Вытри руки полотенце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4" descr="I:\фото\24184_html_325b9bf1.jpg"/>
          <p:cNvPicPr/>
          <p:nvPr/>
        </p:nvPicPr>
        <p:blipFill>
          <a:blip r:embed="rId1"/>
          <a:stretch/>
        </p:blipFill>
        <p:spPr>
          <a:xfrm rot="20663400">
            <a:off x="5027760" y="653760"/>
            <a:ext cx="599580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веревочк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24000" y="765000"/>
            <a:ext cx="396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и любая игра, требующая концентрации внимания, игры с веревочкой производят психотерапевтический эффект, позволяя отключаться на время от забот повседневности. Врачи-физиотерапевты убеждаются, что упражнения с веревкой способствуют более быстрому восстановлению моторики пальцев после полученных травм рук. Учителя математики находят их полезными для объяснения некоторых абстрактных понятий и термин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4" descr="I:\фото\4b60028e2700cec130fe86f2c4e1343c.jpg.jpg"/>
          <p:cNvPicPr/>
          <p:nvPr/>
        </p:nvPicPr>
        <p:blipFill>
          <a:blip r:embed="rId1"/>
          <a:stretch/>
        </p:blipFill>
        <p:spPr>
          <a:xfrm rot="20491800">
            <a:off x="4816440" y="1093320"/>
            <a:ext cx="3406680" cy="2552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I:\фото\101735306_200783_9681800x600.jpg"/>
          <p:cNvPicPr/>
          <p:nvPr/>
        </p:nvPicPr>
        <p:blipFill>
          <a:blip r:embed="rId2"/>
          <a:stretch/>
        </p:blipFill>
        <p:spPr>
          <a:xfrm rot="520200">
            <a:off x="4860720" y="3960720"/>
            <a:ext cx="4140000" cy="3235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360" y="476280"/>
            <a:ext cx="3610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" descr="http://www.jlady.ru/wp-content/uploads/2011/09/razvitie-melkoj-motoriki-u-detej-doshkolnogo-vozrasta-1.jpg"/>
          <p:cNvPicPr/>
          <p:nvPr/>
        </p:nvPicPr>
        <p:blipFill>
          <a:blip r:embed="rId1"/>
          <a:stretch/>
        </p:blipFill>
        <p:spPr>
          <a:xfrm rot="20506800">
            <a:off x="5879880" y="2960640"/>
            <a:ext cx="4776480" cy="4071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http://baby-zone.ru/uploads/posts/2011-12/1323105915_ree.jpg"/>
          <p:cNvPicPr/>
          <p:nvPr/>
        </p:nvPicPr>
        <p:blipFill>
          <a:blip r:embed="rId2"/>
          <a:stretch/>
        </p:blipFill>
        <p:spPr>
          <a:xfrm rot="21283200">
            <a:off x="4170240" y="-9000"/>
            <a:ext cx="4605480" cy="324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560" y="260280"/>
            <a:ext cx="36003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клы Для развития мелкой моторики используются куклы, соответствующие возможностям ребенка и развивающие их. Куклы бывают разные: петрушечные куклы, вязаные пальчиковые куклы, мягкие подвижные «куклы-рукавички», комбинированные куклы, «я–куклы», куклы- марионет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сские народные кук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I:\фото\1306564544_5.jpg"/>
          <p:cNvPicPr/>
          <p:nvPr/>
        </p:nvPicPr>
        <p:blipFill>
          <a:blip r:embed="rId1"/>
          <a:stretch/>
        </p:blipFill>
        <p:spPr>
          <a:xfrm rot="20307000">
            <a:off x="4157640" y="345960"/>
            <a:ext cx="7170840" cy="5383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Массаж кистей рук и пальцев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аж является одним из видов пассивной гимнастики. Он оказывает общеукрепляющее действие на мышечную систему, повышая тонус, эластичность и сократительную способность мышц. Приемы массажа и самомассажа кистей и пальцев рук: массаж тыльной стороны кистей рук массаж ладони массаж пальцев ру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ассажер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56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жнения с массажерами: катать по столу от кончиков пальцев до локтя, между ладонями, по тыльной стороне кисти. Выполнять упражнения надо обязательно каждой рукой по очереди. с мяч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рупных бус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I:\фото\0019-022-Razvitie-melkoj-motoriki-s-pomoschju-massazhnykh-mjachikov-kompleks.jpg"/>
          <p:cNvPicPr/>
          <p:nvPr/>
        </p:nvPicPr>
        <p:blipFill>
          <a:blip r:embed="rId1"/>
          <a:stretch/>
        </p:blipFill>
        <p:spPr>
          <a:xfrm rot="20341200">
            <a:off x="4511160" y="1246320"/>
            <a:ext cx="5146920" cy="3860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Пальчиковая гимнаст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859280" y="907560"/>
            <a:ext cx="410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ьчиковая гимнастика Включение пальчиковых игр и упражнений в любой урок или занятие вызывает у детей оживление, эмоциональный подъем и оказывает специфическое тонизирующее действие на функциональное состояние мозга и развитие ре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I:\фото\IMG_8177.JPG"/>
          <p:cNvPicPr/>
          <p:nvPr/>
        </p:nvPicPr>
        <p:blipFill>
          <a:blip r:embed="rId1"/>
          <a:stretch/>
        </p:blipFill>
        <p:spPr>
          <a:xfrm rot="20676600">
            <a:off x="635040" y="1204920"/>
            <a:ext cx="3363840" cy="2690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I:\фото\img_201e46bd66ab.jpg"/>
          <p:cNvPicPr/>
          <p:nvPr/>
        </p:nvPicPr>
        <p:blipFill>
          <a:blip r:embed="rId2"/>
          <a:stretch/>
        </p:blipFill>
        <p:spPr>
          <a:xfrm rot="21094200">
            <a:off x="3131640" y="3933720"/>
            <a:ext cx="2046600" cy="2664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:\фото\Deti-78.jpg"/>
          <p:cNvPicPr/>
          <p:nvPr/>
        </p:nvPicPr>
        <p:blipFill>
          <a:blip r:embed="rId3"/>
          <a:stretch/>
        </p:blipFill>
        <p:spPr>
          <a:xfrm rot="19666800">
            <a:off x="58320" y="4101840"/>
            <a:ext cx="3016440" cy="213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692280"/>
            <a:ext cx="3683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родные пальчиковые игры С народными пальчиковыми играми ребенок встречался уже в грудном возрасте. Это были еще не игры, а потешки и пестушки – забавы взрослого с ребенком. Например, «Сорока-ворона», «Перепелочка», «Кисель», «Банька», «Барашка купишь?» и друг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5" descr="http://wildkat.users.photofile.ru/photo/wildkat/115252067/xlarge/126222649.jpg"/>
          <p:cNvPicPr/>
          <p:nvPr/>
        </p:nvPicPr>
        <p:blipFill>
          <a:blip r:embed="rId1"/>
          <a:stretch/>
        </p:blipFill>
        <p:spPr>
          <a:xfrm rot="20696400">
            <a:off x="5199120" y="1161720"/>
            <a:ext cx="311796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Народные пальчиковые игр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х смысл не только в развитии мелкой моторики. Они позволяют ребенку ощутить радость телесного контакта, почувствовать свои пальцы, локоть, плечо; осознать себя в системе телесных координат, сформировать схему тела. Это предотвращает возможность возникновения многих неврозов в дальнейшем, дает человеку чувство самообладания. Аналогичные игры встречаются у очень многих народо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звитие мелкой моторики и тактильно-двигательного восприятия у детей позволяет детям овладеть навыками письма, рисования, ручного труда, что в будущем поможет избежать многих проблем школьного обучения, лучше адаптироваться в практической жизни, научиться понимать многие явления окружающего мир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рашивайте в магазинах книги и … DVD «Пальчиковая гимнастика» DVD «Веселые пальчики» (Е. Железнова) DVD«Оригами» Аудио-CD «Пять поросят», авторы С. и Е. Железнов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Средства развития мелкой мотори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3640" y="1341360"/>
            <a:ext cx="2663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сти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гов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родный матери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сь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е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нур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к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анда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етные пал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4" descr="I:\фото\4feb4d02bf71bb4f0e0211fd1cb408b9.jpg.jpg"/>
          <p:cNvPicPr/>
          <p:nvPr/>
        </p:nvPicPr>
        <p:blipFill>
          <a:blip r:embed="rId1"/>
          <a:stretch/>
        </p:blipFill>
        <p:spPr>
          <a:xfrm>
            <a:off x="5148360" y="3860640"/>
            <a:ext cx="3755880" cy="281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I:\фото\1c609e5e93fc83234a4820c71fa6faf2.jpg.jpg"/>
          <p:cNvPicPr/>
          <p:nvPr/>
        </p:nvPicPr>
        <p:blipFill>
          <a:blip r:embed="rId2"/>
          <a:stretch/>
        </p:blipFill>
        <p:spPr>
          <a:xfrm rot="21341400">
            <a:off x="5600880" y="1106280"/>
            <a:ext cx="3450960" cy="259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I:\фото\a6c253a64a11dbba6184a33616536b9d.jpg.jpg"/>
          <p:cNvPicPr/>
          <p:nvPr/>
        </p:nvPicPr>
        <p:blipFill>
          <a:blip r:embed="rId3"/>
          <a:stretch/>
        </p:blipFill>
        <p:spPr>
          <a:xfrm rot="20106000">
            <a:off x="2371680" y="2534760"/>
            <a:ext cx="3521160" cy="2638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пластилино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9280" y="105264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стилин дает уникальные возможности проводить интересные игры с пользой для общего развития ребенка. Покажите малышу все чудеса пластилинового мира, заинтересуйте его, и вы удивитесь, как быстро детские пальчики начнут создавать сначала неуклюжие, а потом все более сложные фигурк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I:\фото\102126246_1.jpg"/>
          <p:cNvPicPr/>
          <p:nvPr/>
        </p:nvPicPr>
        <p:blipFill>
          <a:blip r:embed="rId1"/>
          <a:stretch/>
        </p:blipFill>
        <p:spPr>
          <a:xfrm rot="1437000">
            <a:off x="5263920" y="2550600"/>
            <a:ext cx="408780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нем и отщипыва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давливаем и размазыва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катываем шарики, раскатываем колбаск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ежем на кусоч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епим картин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отовим обе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956720" y="-458640"/>
          <a:ext cx="725400" cy="1511280"/>
        </p:xfrm>
        <a:graphic>
          <a:graphicData uri="http://schemas.openxmlformats.org/drawingml/2006/table">
            <a:tbl>
              <a:tblPr/>
              <a:tblGrid>
                <a:gridCol w="725400"/>
              </a:tblGrid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nherit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Picture 1025" descr="http://062013.imgbb.ru/user/26/267882/fae880546f21badfee4cf90990321150.jpg"/>
          <p:cNvPicPr/>
          <p:nvPr/>
        </p:nvPicPr>
        <p:blipFill>
          <a:blip r:embed="rId1"/>
          <a:stretch/>
        </p:blipFill>
        <p:spPr>
          <a:xfrm rot="20839800">
            <a:off x="3916080" y="220680"/>
            <a:ext cx="4572000" cy="304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27" descr="http://www.maaam.ru/images/photos/490f4004fc8fd93043d4635ced9b240c.jpg"/>
          <p:cNvPicPr/>
          <p:nvPr/>
        </p:nvPicPr>
        <p:blipFill>
          <a:blip r:embed="rId2"/>
          <a:stretch/>
        </p:blipFill>
        <p:spPr>
          <a:xfrm rot="1041000">
            <a:off x="4494240" y="3503160"/>
            <a:ext cx="4200480" cy="3432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inherit"/>
                <a:ea typeface="Times New Roman"/>
              </a:rPr>
              <a:t>Для детей со слабыми мышцами рук очень полезно проводить занятия лепкой из пластилина. Работа с пластилином является подготовительной к работе с другими материалами и овладению разными инструментами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27280" y="1599840"/>
            <a:ext cx="2459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http://koryazhma-info.ru/sites/default/files/1_247.jpg"/>
          <p:cNvPicPr/>
          <p:nvPr/>
        </p:nvPicPr>
        <p:blipFill>
          <a:blip r:embed="rId1"/>
          <a:stretch/>
        </p:blipFill>
        <p:spPr>
          <a:xfrm>
            <a:off x="358920" y="3213000"/>
            <a:ext cx="4111560" cy="30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www.maaam.ru/upload/blogs/773f63950d7bfa0663a238e559060440.jpg.jpg"/>
          <p:cNvPicPr/>
          <p:nvPr/>
        </p:nvPicPr>
        <p:blipFill>
          <a:blip r:embed="rId2"/>
          <a:stretch/>
        </p:blipFill>
        <p:spPr>
          <a:xfrm>
            <a:off x="4788000" y="321300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 бумаг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620640"/>
            <a:ext cx="3251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гу можно рвать, мять, складывать, разрезать ножницами. Эти игры и упражнения помогут ребенку узнать, как обычная бумага превращается в красивые аппликации и забавные объемные игрушки. Развитию точных движений и памяти помогают плетение ковриков из бумажных полос, занятия в технике «оригами»: складывание корабликов, самолетиков, цветов, животных и других фигур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I:\фото\cfc56b17180b7bef096af68ca88ff2a3.jpg.jpg"/>
          <p:cNvPicPr/>
          <p:nvPr/>
        </p:nvPicPr>
        <p:blipFill>
          <a:blip r:embed="rId1"/>
          <a:stretch/>
        </p:blipFill>
        <p:spPr>
          <a:xfrm rot="20396400">
            <a:off x="5873760" y="472680"/>
            <a:ext cx="3157560" cy="2270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I:\фото\d2ef9e9aa332258a94bac602f6482575.jpg.jpg"/>
          <p:cNvPicPr/>
          <p:nvPr/>
        </p:nvPicPr>
        <p:blipFill>
          <a:blip r:embed="rId2"/>
          <a:stretch/>
        </p:blipFill>
        <p:spPr>
          <a:xfrm rot="21058800">
            <a:off x="5504040" y="3711240"/>
            <a:ext cx="3057480" cy="295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I:\фото\7e65eb654ebdaa6cc8f941037e05b2df.jpg.jpg"/>
          <p:cNvPicPr/>
          <p:nvPr/>
        </p:nvPicPr>
        <p:blipFill>
          <a:blip r:embed="rId3"/>
          <a:stretch/>
        </p:blipFill>
        <p:spPr>
          <a:xfrm rot="1480800">
            <a:off x="3639960" y="1986120"/>
            <a:ext cx="3544920" cy="2414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Игры со счетными палочкам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356000" y="1341360"/>
            <a:ext cx="4608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их играх хорошими помощниками станут обыкновенные счетные палочки, карандаши или соломинки, веточки (если игра происходит на улице). Нехитрые задания помогут ребенку развить внимание, воображение, познакомиться с геометрическими фигурами и понятием симметри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I:\фото\9678_html_643732ea.jpg"/>
          <p:cNvPicPr/>
          <p:nvPr/>
        </p:nvPicPr>
        <p:blipFill>
          <a:blip r:embed="rId1"/>
          <a:stretch/>
        </p:blipFill>
        <p:spPr>
          <a:xfrm rot="19839000">
            <a:off x="-3201840" y="1658520"/>
            <a:ext cx="6894360" cy="593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Игры с конструктором, мозаи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372000" y="2852280"/>
            <a:ext cx="2314440" cy="3273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I:\фото\150e620ff3d576065c42d2fedf8b894e.jpg.jpg"/>
          <p:cNvPicPr/>
          <p:nvPr/>
        </p:nvPicPr>
        <p:blipFill>
          <a:blip r:embed="rId2"/>
          <a:stretch/>
        </p:blipFill>
        <p:spPr>
          <a:xfrm rot="21150000">
            <a:off x="611280" y="1318680"/>
            <a:ext cx="3313080" cy="441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sva-mama.ru/sites/default/files/127_178_0.jpg"/>
          <p:cNvPicPr/>
          <p:nvPr/>
        </p:nvPicPr>
        <p:blipFill>
          <a:blip r:embed="rId3"/>
          <a:stretch/>
        </p:blipFill>
        <p:spPr>
          <a:xfrm rot="21181800">
            <a:off x="4290480" y="1652760"/>
            <a:ext cx="4951440" cy="370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8:53:17Z</dcterms:created>
  <dc:creator>User</dc:creator>
  <dc:description/>
  <dc:language>en-US</dc:language>
  <cp:lastModifiedBy>punsh</cp:lastModifiedBy>
  <dcterms:modified xsi:type="dcterms:W3CDTF">2014-11-10T20:32:25Z</dcterms:modified>
  <cp:revision>33</cp:revision>
  <dc:subject/>
  <dc:title>Презентация на тему: "Развитие мелкой моторики."  </dc:title>
</cp:coreProperties>
</file>