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F9A-A18F-404F-B363-55D34002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638-AE0F-4DCC-992F-FD186801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EA1-E696-4229-A0BA-B9E3E5DC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007-816A-4DAC-B1F0-14727322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14D-C75E-4CEB-AE70-2674A5D8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6FD-4D2A-48B0-B92D-D7F7C0CE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78A-E1EB-4E0D-AC1F-A469D53B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9B1-113C-4D07-BCFB-32B18B35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F19-49CF-4425-B00F-2CEEC7FB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656-800D-43C1-8A46-43AC9306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CF9-9A19-4597-B3B1-55AF1AA2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CCB-F067-4558-B969-D0642EC9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E7BB-1253-4443-99D3-E7B802D3CC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forum.rybolov-profi.ru/" TargetMode="External"/><Relationship Id="rId2" Type="http://schemas.openxmlformats.org/officeDocument/2006/relationships/hyperlink" Target="http://pedsovet.s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9840" y="227628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Краснокнижные птицы Югр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63640" y="3716280"/>
            <a:ext cx="4824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коро гости к тебе соберутся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колько гнезд понавьют, – посмотри!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то за звуки, за песни польются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ень-деньской, от зари до зари!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Никит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908560" y="97920"/>
            <a:ext cx="22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22222"/>
                </a:solidFill>
                <a:latin typeface="Verdana"/>
              </a:rPr>
              <a:t>(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C:\Users\Пользователь\Desktop\i.jpg"/>
          <p:cNvPicPr/>
          <p:nvPr/>
        </p:nvPicPr>
        <p:blipFill>
          <a:blip r:embed="rId1"/>
          <a:stretch/>
        </p:blipFill>
        <p:spPr>
          <a:xfrm>
            <a:off x="7164360" y="404640"/>
            <a:ext cx="1540080" cy="1662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Пользователь\Downloads\73885000_3719215_29722_kopiya.png"/>
          <p:cNvPicPr/>
          <p:nvPr/>
        </p:nvPicPr>
        <p:blipFill>
          <a:blip r:embed="rId2"/>
          <a:stretch/>
        </p:blipFill>
        <p:spPr>
          <a:xfrm>
            <a:off x="-684360" y="3068640"/>
            <a:ext cx="5326200" cy="33987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978200" y="438120"/>
            <a:ext cx="489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БУ СОШ №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. Пойков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 химии и биоло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нийчук Ирина Иванов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раснозобая казар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II катег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Редкий, малочисленный в приро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и распространения и происхожден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демик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се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ти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Пользователь\Desktop\краснозобая казарка.jpg"/>
          <p:cNvPicPr/>
          <p:nvPr/>
        </p:nvPicPr>
        <p:blipFill>
          <a:blip r:embed="rId2"/>
          <a:stretch/>
        </p:blipFill>
        <p:spPr>
          <a:xfrm>
            <a:off x="826920" y="1700280"/>
            <a:ext cx="3697560" cy="31417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7"/>
          <p:cNvSpPr/>
          <p:nvPr/>
        </p:nvSpPr>
        <p:spPr>
          <a:xfrm>
            <a:off x="1339560" y="515772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ufibrenta ruficjl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гара краснозоба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II катег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кий, малочисленный в приро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и распространения и происхожден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спорадичное распростра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гаро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агаровы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C:\Users\Пользователь\Desktop\гагара краснозобая.jpg"/>
          <p:cNvPicPr/>
          <p:nvPr/>
        </p:nvPicPr>
        <p:blipFill>
          <a:blip r:embed="rId1"/>
          <a:stretch/>
        </p:blipFill>
        <p:spPr>
          <a:xfrm>
            <a:off x="539640" y="1844640"/>
            <a:ext cx="4038840" cy="31989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5"/>
          <p:cNvSpPr/>
          <p:nvPr/>
        </p:nvSpPr>
        <p:spPr>
          <a:xfrm>
            <a:off x="1403280" y="537372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Gavia stellat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уменник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2920" y="1268280"/>
            <a:ext cx="468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I катег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язвимый, сокращающий числен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и распространения и происхожден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сокращающейся численностью таежных популя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се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ины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C:\Users\Пользователь\Desktop\гуменник.jpg"/>
          <p:cNvPicPr/>
          <p:nvPr/>
        </p:nvPicPr>
        <p:blipFill>
          <a:blip r:embed="rId1"/>
          <a:stretch/>
        </p:blipFill>
        <p:spPr>
          <a:xfrm>
            <a:off x="611280" y="1916280"/>
            <a:ext cx="4038480" cy="27874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1771200" y="551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ser fab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рнозобик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V катег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пределенного стату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и распространения и происхожден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лированная и малоизученная популяц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жанко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екасовы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C:\Users\Пользователь\Desktop\чернозобик.jpg"/>
          <p:cNvPicPr/>
          <p:nvPr/>
        </p:nvPicPr>
        <p:blipFill>
          <a:blip r:embed="rId1"/>
          <a:stretch/>
        </p:blipFill>
        <p:spPr>
          <a:xfrm>
            <a:off x="457200" y="249408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1476360" y="537372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alidris alpin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ыкновенный турпа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27640" y="1988640"/>
            <a:ext cx="4403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III катег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дкий, малочисленный в природ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т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усеобраз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ти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C:\Users\Пользователь\Desktop\обык турпан.jpg"/>
          <p:cNvPicPr/>
          <p:nvPr/>
        </p:nvPicPr>
        <p:blipFill>
          <a:blip r:embed="rId1"/>
          <a:stretch/>
        </p:blipFill>
        <p:spPr>
          <a:xfrm>
            <a:off x="611280" y="2133720"/>
            <a:ext cx="3908160" cy="20872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5"/>
          <p:cNvSpPr/>
          <p:nvPr/>
        </p:nvSpPr>
        <p:spPr>
          <a:xfrm>
            <a:off x="971640" y="4437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elanitta fusc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рку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0" y="184464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II катег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язвимый, сокращающий числен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т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колообраз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стреби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C:\Users\Пользователь\Desktop\беркут.jpg"/>
          <p:cNvPicPr/>
          <p:nvPr/>
        </p:nvPicPr>
        <p:blipFill>
          <a:blip r:embed="rId1"/>
          <a:stretch/>
        </p:blipFill>
        <p:spPr>
          <a:xfrm>
            <a:off x="395280" y="1916280"/>
            <a:ext cx="4038480" cy="27651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1116000" y="494172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quila chrysaet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пса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I катег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язвимый, сокращающий числен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т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колообраз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коли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C:\Users\Пользователь\Desktop\сапсан.jpg"/>
          <p:cNvPicPr/>
          <p:nvPr/>
        </p:nvPicPr>
        <p:blipFill>
          <a:blip r:embed="rId1"/>
          <a:stretch/>
        </p:blipFill>
        <p:spPr>
          <a:xfrm>
            <a:off x="971640" y="1197000"/>
            <a:ext cx="3017880" cy="4525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826920" y="58053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alco peregrinus Tunstal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ерый журавл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00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II катег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кий, малочисленный в приро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уравле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уравлины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C:\Users\Пользователь\Desktop\серый журавль.jpg"/>
          <p:cNvPicPr/>
          <p:nvPr/>
        </p:nvPicPr>
        <p:blipFill>
          <a:blip r:embed="rId1"/>
          <a:stretch/>
        </p:blipFill>
        <p:spPr>
          <a:xfrm>
            <a:off x="826920" y="1341360"/>
            <a:ext cx="343080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1619280" y="580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Grus gru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ерх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 катег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угрозой исчезнов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и распространения и происхожден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демик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уравле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Журавли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C:\Users\Пользователь\Desktop\стерх.jpg"/>
          <p:cNvPicPr/>
          <p:nvPr/>
        </p:nvPicPr>
        <p:blipFill>
          <a:blip r:embed="rId1"/>
          <a:stretch/>
        </p:blipFill>
        <p:spPr>
          <a:xfrm>
            <a:off x="684360" y="206064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611280" y="501336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Grus leucogeranus Pall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или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II катег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язвимый, сокращающий числен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т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вообраз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и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C:\Users\Пользователь\Desktop\филин.jpg"/>
          <p:cNvPicPr/>
          <p:nvPr/>
        </p:nvPicPr>
        <p:blipFill>
          <a:blip r:embed="rId1"/>
          <a:stretch/>
        </p:blipFill>
        <p:spPr>
          <a:xfrm>
            <a:off x="1116000" y="1125360"/>
            <a:ext cx="3095640" cy="46818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5"/>
          <p:cNvSpPr/>
          <p:nvPr/>
        </p:nvSpPr>
        <p:spPr>
          <a:xfrm>
            <a:off x="1619280" y="5877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ubo bub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0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Красная книга Югр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900000" y="242100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лияние человека на природу не позитивно: за последние 400 лет с лица Земли исчезло 74 вида птиц и 63 вида млекопитающих. Красная книга – первый шаг к сохранению растительного и животного мира»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–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рис Костюхин, директор департамента экологии Югр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C:\Users\Пользователь\Desktop\13.jpg"/>
          <p:cNvPicPr/>
          <p:nvPr/>
        </p:nvPicPr>
        <p:blipFill>
          <a:blip r:embed="rId1"/>
          <a:stretch/>
        </p:blipFill>
        <p:spPr>
          <a:xfrm>
            <a:off x="5651640" y="2349360"/>
            <a:ext cx="25905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нтернет-источн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forum.rybolov-profi.ru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pedsovet.su/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шабл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Яндекс картин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5"/>
          <p:cNvSpPr/>
          <p:nvPr/>
        </p:nvSpPr>
        <p:spPr>
          <a:xfrm>
            <a:off x="755640" y="5493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 Югре всё больше животных и растений заносят в Красную кни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826920" y="162864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ёные отмечают катастрофическое сокращение биологического разнообразия. Сейчас в Красную книгу Ханты-Мансийского округа внесены 70 видов животных, 140 видов растений и 16 видов грибов. По мнению экспертов, сокращение видов растений и животных может привести к нарушению экологического равновесия на планете, в результате могут сложиться условия, непригодные для жизни людей. Именно поэтому работы учёных на особо охраняемых природных территориях очень важны. Сегодня в Югре отмечается увеличение численности охотничье-промысловых и краснокнижных видов живот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Users\Пользователь\Desktop\karta.gif"/>
          <p:cNvPicPr/>
          <p:nvPr/>
        </p:nvPicPr>
        <p:blipFill>
          <a:blip r:embed="rId1"/>
          <a:stretch/>
        </p:blipFill>
        <p:spPr>
          <a:xfrm>
            <a:off x="2987640" y="3564000"/>
            <a:ext cx="48481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Красная книга Югр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есять лет исполнилось Красной книге Ханты-Мансийского автономного округа-Югры. Выпущенная по заказу правительства Югры, она относится  к числу региональных изданий, которые существуют во многих субъектах Российской Федерации.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:\Users\Пользователь\Desktop\e898f037db2b.gif"/>
          <p:cNvPicPr/>
          <p:nvPr/>
        </p:nvPicPr>
        <p:blipFill>
          <a:blip r:embed="rId1"/>
          <a:stretch/>
        </p:blipFill>
        <p:spPr>
          <a:xfrm>
            <a:off x="3203640" y="3645000"/>
            <a:ext cx="2467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Крече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1700280"/>
            <a:ext cx="425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II катег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язвимый, сокращающий числен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т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колообраз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коли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C:\Users\Пользователь\Desktop\кречет.jpg"/>
          <p:cNvPicPr/>
          <p:nvPr/>
        </p:nvPicPr>
        <p:blipFill>
          <a:blip r:embed="rId1"/>
          <a:stretch/>
        </p:blipFill>
        <p:spPr>
          <a:xfrm>
            <a:off x="395280" y="1413000"/>
            <a:ext cx="392436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556920" y="595008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alco rusticolus Linna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ист чёрны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II катег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язвимый, сокращающий числен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т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истообраз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Аистов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Users\Пользователь\Desktop\аист чёрный.jpg"/>
          <p:cNvPicPr/>
          <p:nvPr/>
        </p:nvPicPr>
        <p:blipFill>
          <a:blip r:embed="rId1"/>
          <a:stretch/>
        </p:blipFill>
        <p:spPr>
          <a:xfrm>
            <a:off x="684360" y="1341360"/>
            <a:ext cx="36273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1042920" y="590400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iconia nig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роткохвостый поморник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00360" y="126828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V катег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тус вида: неопределенного стату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и распространения и происхожден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лированные, малоизученные популя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жанко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морниковы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C:\Users\Пользователь\Desktop\короткохв поморник.jpg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30862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611280" y="501336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tercorarius parasiticu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лый лебед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2920" y="112500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язвимый, сокращающий численность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и распространения и происхожден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ндемик России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тицы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усеобразные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и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C:\Users\Пользователь\Desktop\малый лебедь.jpg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27003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755640" y="4941720"/>
            <a:ext cx="36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ygnus bewickii Yarrel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искуль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0" y="1916280"/>
            <a:ext cx="425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атегор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II катег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тус вид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язвимый, сокращающий числен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т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ряд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усеобраз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ство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и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C:\Users\Пользователь\Desktop\пискулька.jpg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5607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1042920" y="5445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ser erythropu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dcterms:modified xsi:type="dcterms:W3CDTF">2014-11-10T12:26:54Z</dcterms:modified>
  <cp:revision>19</cp:revision>
  <dc:subject/>
  <dc:title>Слайд 1</dc:title>
</cp:coreProperties>
</file>