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dt" idx="1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5D0FE-A31E-4CEF-AA5D-E0F59229EA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7D855-E9D8-4256-BD9F-529E664D4F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580F3-A1F0-46B8-A781-4AEFC47E18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29EBB-B842-453B-8C7F-CCA5E6309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59668-BC88-4684-BF56-E9A978CEA9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2297-D976-4652-97FD-BB901BCAB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686D-A572-4191-9431-349D3A91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B48C-9ADD-4006-B8C1-AA05FEB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9742-F8A8-47D6-8B56-9EF7EE942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256D0-76EF-40B1-90AE-D847B62506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DCEA6-D55D-4FE2-B60B-41F0406D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329CA-E5BB-4516-B6BD-CCEB252F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0D5AD-B4D8-4764-8487-2535A252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DABBE-D4C5-4D74-BFF2-01C59547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FBD5B-6254-4C07-BAF3-3A6C2E26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9E531-ECAA-4387-BA51-F8344111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8D68-C304-4817-ABC3-0FCEE219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36D4C-07FB-4E89-A86B-792C4B6F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AB5B3-FDCE-4F19-B77F-F06EBE02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7A2A6-9C84-4AB8-B029-831B7CBC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0B39D-2309-4165-B218-9F79F81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13974-AAD3-42F9-887E-7982878BA0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3F70-DABA-4352-A00F-8A3068CBA5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D81-EC84-4AC7-B5EC-A2374003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2BB3-46DA-431F-BC34-F425F5A9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2E16-0C5B-4D09-976D-D1FFB4E5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19C9-9829-40B4-BB3E-AE696640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7AEB-275B-4591-A5BE-7F13CA19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4358-514B-483B-A7B5-C7559190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B565-D101-4F74-9BE7-CB0BB137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E08C-277F-4E7E-BA54-0886289B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98B1-E631-4617-B988-6A6B18A9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1637-FABD-418B-B3BE-AA4FDE1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D6E3-80BB-424A-91B8-8417243A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1FD3-86C4-45B1-8CF7-8D66AAAD6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16225-7459-4169-A65D-8C2BA61D5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6A644-DA6B-48A1-B856-776D5FA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19AA8-CADD-4E3F-A592-99D57869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1D9E-032F-4515-BC38-72CF05D4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104A4-3819-4C8C-9E2A-0B88CD22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81C95-218D-4D6F-BF21-2F7E9956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405D0-AF0A-489D-AC5E-F6A28A94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3FB04-869C-497B-85AF-A21A41F2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FD445-2EBB-467C-B654-316A6D79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05A7C-FC19-4E34-9B2E-EBEC2CBB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EC742-18FC-4C3F-AA95-C8EA6CD2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886FA-4F1F-4C20-B51D-5149E9C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65BBB-0749-4DBE-9FC7-AD507F49B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079C7-3081-4948-BFEB-F3756D83E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19B7-D92C-4923-ABED-71E8E915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BDB81-A5C9-4AB5-A856-7111D8D5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C3A022-4AB9-40D4-A8C5-FC4DAED3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0C6A4-CCE4-474A-A2A3-8CC84CE2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47B6B-8050-4AC6-8969-DBE38259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C600D-A5BE-4535-9986-C319CE9E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86225-AC03-4822-A343-8AD7DA37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0C7E4-224B-4BC3-B578-353666A4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D1DC1-D054-4FE2-BF80-2F43E06F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D925E-6DED-49B7-BBF9-3AA059B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A2800-B14E-4B00-84AE-D627978E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F2F5-7F40-471C-A94B-A7172581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50985-55C5-4BE6-97FA-DCB870B554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C3DCB6-2F02-4ABF-8EED-EBB55A8E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D2E25C-793C-4324-909D-4FCD12EE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7DD3BA-0095-4810-952A-F3331DED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60980C-4772-4536-ADA5-7AABF791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BA4237-50FB-4582-989E-330FB083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A08FCF-2E60-4A4F-A646-105CB9D5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A55C00-7E60-4FA3-AF5B-E2E6CCEB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02ACBD-BB3D-4F97-9C05-5E041E80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F500D-68B9-4A23-9143-00019773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AFE5-EF73-48A0-9C24-3F2A9645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F1A287-9319-4428-B4F5-7AF5CDB4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BCFAF2-E4F3-42D6-8F56-BF19F7AF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A99AE-A545-4DF6-87F2-C95EFC1B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662EAB-1822-424E-8AF8-A78E70FB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A702F-C26F-4BFB-B162-02507C6A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6EF6F5-A3A3-414C-9211-DB9D1A97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64D07C-D41F-4E29-9195-F6D3A824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2BA4EF-8EF1-47C9-B6E0-885CABFD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A76A86-2436-4514-96E5-131E9E17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E14CC-3FEA-462D-BD19-6EEED02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024E-4D2F-4A1F-9EC0-EDD19146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4B862F-254B-4EE3-8141-96ADF77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F7724-4709-4C61-9911-6CFB5C0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18AB15-6654-45D7-BD4D-B00EE8CC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86BC95-E12A-466D-8BA0-E5EA213E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6BBF34-7984-4234-8783-4E6C2C2B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952B-E65D-4C88-A9A2-2FAD24E5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6760"/>
            <a:ext cx="200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40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48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t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00E0D-4CC7-454F-9097-5B1259CFEA4B}" type="slidenum"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6480" y="217080"/>
            <a:ext cx="228096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12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39920" y="4928760"/>
            <a:ext cx="60480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tt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3857C-9B54-46E8-A1B7-370453ED635F}" type="slidenum">
              <a:rPr b="1" lang="tt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6760"/>
            <a:ext cx="200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48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tt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274B1-357D-4EB7-9BF5-07A78D54312A}" type="slidenum">
              <a:rPr b="1" lang="tt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44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8786880" y="266760"/>
            <a:ext cx="200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3720"/>
            <a:ext cx="6048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tt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6FDAF-22B4-47AB-84FC-FB4318F16631}" type="slidenum">
              <a:rPr b="1" lang="tt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 rot="5400000">
            <a:off x="69944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9"/>
          </p:nvPr>
        </p:nvSpPr>
        <p:spPr>
          <a:xfrm>
            <a:off x="8786880" y="266760"/>
            <a:ext cx="200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48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tt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3FDEB-46CD-450D-8A6F-9FE5ED4EBF1C}" type="slidenum">
              <a:rPr b="1" lang="tt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 rot="5400000">
            <a:off x="69944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248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50000">
                  <a:srgbClr val="008000"/>
                </a:gs>
                <a:gs pos="100000">
                  <a:srgbClr val="00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49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3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4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6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7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8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28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28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50000">
                  <a:srgbClr val="008000"/>
                </a:gs>
                <a:gs pos="100000">
                  <a:srgbClr val="00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t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9A1D-D760-40C1-BAAF-797D27972CFA}" type="slidenum">
              <a:rPr b="0" lang="tt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308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50000">
                  <a:srgbClr val="008000"/>
                </a:gs>
                <a:gs pos="100000">
                  <a:srgbClr val="00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09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1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3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6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9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28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0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28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1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2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3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4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50000">
                  <a:srgbClr val="008000"/>
                </a:gs>
                <a:gs pos="100000">
                  <a:srgbClr val="00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5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t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87A8E-D5CC-4D00-8AB5-681D6E72B0AB}" type="slidenum">
              <a:rPr b="0" lang="tt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395280" y="1773360"/>
            <a:ext cx="835344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t-RU" sz="14400" spc="-1" strike="noStrike">
                <a:solidFill>
                  <a:srgbClr val="ffffcc"/>
                </a:solidFill>
                <a:latin typeface="Georgia"/>
              </a:rPr>
              <a:t>САННАР</a:t>
            </a:r>
            <a:endParaRPr b="0" lang="en-US" sz="14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760400" y="1738440"/>
            <a:ext cx="480060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WordArt 3" descr=""/>
          <p:cNvPicPr/>
          <p:nvPr/>
        </p:nvPicPr>
        <p:blipFill>
          <a:blip r:embed="rId2"/>
          <a:stretch/>
        </p:blipFill>
        <p:spPr>
          <a:xfrm>
            <a:off x="4359240" y="3718080"/>
            <a:ext cx="2932200" cy="263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31760"/>
            <a:ext cx="8213760" cy="67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ffffcc"/>
                </a:solidFill>
                <a:latin typeface="Times New Roman"/>
              </a:rPr>
              <a:t>1. Күчереп язарга һәм саннар астына сызарга. </a:t>
            </a:r>
            <a:br>
              <a:rPr sz="4000"/>
            </a:br>
            <a:r>
              <a:rPr b="1" lang="tt-RU" sz="4000" spc="-1" strike="noStrike">
                <a:solidFill>
                  <a:srgbClr val="ffffcc"/>
                </a:solidFill>
                <a:latin typeface="Times New Roman"/>
              </a:rPr>
              <a:t>Тукталышка килүем булды дүртенче автобус килеп җитте. Автобуска мин өченче кеше булып кердем дә, унбишәр сумнан билет сатып алдым. Алты тукталыштан соң автобуста бары дүрт кеше калды. Автобус йөртүче илле-илле биш яш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ь</a:t>
            </a:r>
            <a:r>
              <a:rPr b="1" lang="tt-RU" sz="4000" spc="-1" strike="noStrike">
                <a:solidFill>
                  <a:srgbClr val="ffffcc"/>
                </a:solidFill>
                <a:latin typeface="Times New Roman"/>
              </a:rPr>
              <a:t>ләрдәге абый иде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4920" y="131760"/>
            <a:ext cx="8286840" cy="63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400" spc="-1" strike="noStrike">
                <a:solidFill>
                  <a:srgbClr val="ffffcc"/>
                </a:solidFill>
                <a:latin typeface="Times New Roman"/>
              </a:rPr>
              <a:t>2. –нчы/-нче, -ынчы/-енче кушымчаларын язарга. </a:t>
            </a:r>
            <a:br>
              <a:rPr sz="4400"/>
            </a:br>
            <a:br>
              <a:rPr sz="4400"/>
            </a:br>
            <a:r>
              <a:rPr b="1" lang="tt-RU" sz="4400" spc="-1" strike="noStrike">
                <a:solidFill>
                  <a:srgbClr val="ffffcc"/>
                </a:solidFill>
                <a:latin typeface="Times New Roman"/>
              </a:rPr>
              <a:t>Мин 5... сыйныфта укыйм. Сеңелем 1... сыныфта укый. Мин 36... автобуска утырып мәктәпкә йөрим. Резидә 4... партада утыра. Мин сәгат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ь</a:t>
            </a:r>
            <a:r>
              <a:rPr b="1" lang="tt-RU" sz="4400" spc="-1" strike="noStrike">
                <a:solidFill>
                  <a:srgbClr val="ffffcc"/>
                </a:solidFill>
                <a:latin typeface="Times New Roman"/>
              </a:rPr>
              <a:t> 8...дә өйдән чыгып китәм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31400"/>
            <a:ext cx="822492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5400" spc="-1" strike="noStrike">
                <a:solidFill>
                  <a:srgbClr val="ffffcc"/>
                </a:solidFill>
                <a:latin typeface="Times New Roman"/>
              </a:rPr>
              <a:t>Өй эше: </a:t>
            </a:r>
            <a:br>
              <a:rPr sz="5400"/>
            </a:br>
            <a:r>
              <a:rPr b="1" lang="tt-RU" sz="5400" spc="-1" strike="noStrike">
                <a:solidFill>
                  <a:srgbClr val="ffffcc"/>
                </a:solidFill>
                <a:latin typeface="Times New Roman"/>
              </a:rPr>
              <a:t>61нче бит, 7нче күнегү.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395280" y="0"/>
            <a:ext cx="7467480" cy="61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5400" spc="-1" strike="noStrike">
                <a:solidFill>
                  <a:srgbClr val="ffffff"/>
                </a:solidFill>
                <a:latin typeface="Times New Roman"/>
              </a:rPr>
              <a:t>Нинди сүз төркеме сан дип атала?</a:t>
            </a:r>
            <a:endParaRPr b="0" lang="en-US" sz="5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Georgia"/>
              </a:rPr>
              <a:t>Предметның санын,исәбен белдереп, </a:t>
            </a:r>
            <a:r>
              <a:rPr b="1" lang="tt-RU" sz="4000" spc="-1" strike="noStrike">
                <a:solidFill>
                  <a:srgbClr val="ffffff"/>
                </a:solidFill>
                <a:latin typeface="Georgia"/>
              </a:rPr>
              <a:t>күпме? никадәр? ничәнче? ничәшәр? ничәләп? ничәү? </a:t>
            </a:r>
            <a:r>
              <a:rPr b="0" lang="tt-RU" sz="4000" spc="-1" strike="noStrike">
                <a:solidFill>
                  <a:srgbClr val="ffffff"/>
                </a:solidFill>
                <a:latin typeface="Georgia"/>
              </a:rPr>
              <a:t>сорауларына җавап бирә торган мөстәкыйль сүз төркеме сан дип атала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-500040" y="5715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755640" y="1916280"/>
            <a:ext cx="7345440" cy="4321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7885080" y="5734080"/>
            <a:ext cx="1258920" cy="11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131760"/>
            <a:ext cx="84312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1. Сан бел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ән ачыкланган сүз саналмыш дип атала.</a:t>
            </a:r>
            <a:br>
              <a:rPr sz="4000"/>
            </a:b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2. Сан күбрәк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ц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ифрлар белән язып күрсәтелә. </a:t>
            </a:r>
            <a:br>
              <a:rPr sz="4000"/>
            </a:b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3. Сан сүз белән язып та белдерелә ала.  </a:t>
            </a:r>
            <a:br>
              <a:rPr sz="4000"/>
            </a:b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4. Саннар ике төрле була: гарәп һәм рим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ц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ифрлары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971640" y="112536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imes New Roman"/>
              </a:rPr>
              <a:t>Нинди сан төркемчәләрен беләсез?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273528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900000" y="-3719520"/>
            <a:ext cx="70246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r>
              <a:rPr b="0" lang="tt-RU" sz="5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0" lang="tt-RU" sz="4800" spc="-1" strike="noStrike">
                <a:solidFill>
                  <a:srgbClr val="ffffcc"/>
                </a:solidFill>
                <a:latin typeface="Georgia"/>
              </a:rPr>
              <a:t>САН ТӨРКЕМЧӘЛӘРЕ</a:t>
            </a:r>
            <a:br>
              <a:rPr sz="5600"/>
            </a:b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685800" y="1336680"/>
            <a:ext cx="84945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Ми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ъ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дар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Тәртип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үлем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Җыю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Чама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388" name="AutoShape 3"/>
          <p:cNvCxnSpPr>
            <a:stCxn id="387" idx="3"/>
            <a:endCxn id="387" idx="3"/>
          </p:cNvCxnSpPr>
          <p:nvPr/>
        </p:nvCxnSpPr>
        <p:spPr>
          <a:xfrm>
            <a:off x="9180000" y="398304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1905120" cy="1806480"/>
          </a:xfrm>
          <a:prstGeom prst="rect">
            <a:avLst/>
          </a:prstGeom>
          <a:ln w="0">
            <a:noFill/>
          </a:ln>
        </p:spPr>
      </p:pic>
      <p:sp>
        <p:nvSpPr>
          <p:cNvPr id="390" name="Line 5"/>
          <p:cNvSpPr/>
          <p:nvPr/>
        </p:nvSpPr>
        <p:spPr>
          <a:xfrm>
            <a:off x="1817640" y="1558800"/>
            <a:ext cx="162000" cy="9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3492360" y="1558800"/>
            <a:ext cx="43200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2" name="Line 7"/>
          <p:cNvSpPr/>
          <p:nvPr/>
        </p:nvSpPr>
        <p:spPr>
          <a:xfrm>
            <a:off x="4599000" y="1558800"/>
            <a:ext cx="430200" cy="232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3" name="Line 8"/>
          <p:cNvSpPr/>
          <p:nvPr/>
        </p:nvSpPr>
        <p:spPr>
          <a:xfrm>
            <a:off x="5715000" y="1600200"/>
            <a:ext cx="685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6858000" y="1600200"/>
            <a:ext cx="631800" cy="33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131760"/>
            <a:ext cx="8286840" cy="61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азан ш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әһәрендә 7 район бар. Безнең 7нче гимназия Яңа Савин районында урнашкан. Гимназиядә 24 сыйныф бар. Анда 501 укучы укый. Аларга 43кә якын укытучы белем бирә. Без үзебезнең гимназияне яратабыз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Саннарны сүзләр белән әйтегез: </a:t>
            </a:r>
            <a:br>
              <a:rPr sz="4400"/>
            </a:b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1) 45нче өй; </a:t>
            </a:r>
            <a:br>
              <a:rPr sz="4400"/>
            </a:b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2) 222 сум; </a:t>
            </a:r>
            <a:br>
              <a:rPr sz="4400"/>
            </a:b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3) 6шар китап; </a:t>
            </a:r>
            <a:br>
              <a:rPr sz="4400"/>
            </a:b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4) 10ау бардык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31400"/>
            <a:ext cx="822492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Саннарны дөрес итеп укыгыз. </a:t>
            </a: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    1. Укучылар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цирк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 янында сәгат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ь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tt-RU" sz="4000" spc="-1" strike="noStrike" u="sng">
                <a:solidFill>
                  <a:srgbClr val="ffffcc"/>
                </a:solidFill>
                <a:uFillTx/>
                <a:latin typeface="Arial"/>
              </a:rPr>
              <a:t>унда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 очраштылар. </a:t>
            </a:r>
            <a:br>
              <a:rPr sz="4000"/>
            </a:b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 2. Декабр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ь аенда </a:t>
            </a: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утыз бер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к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өн. </a:t>
            </a:r>
            <a:br>
              <a:rPr sz="4000"/>
            </a:b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 3. Ярышларда якынча </a:t>
            </a:r>
            <a:r>
              <a:rPr b="1" lang="tt-RU" sz="4000" spc="-1" strike="noStrike" u="sng">
                <a:solidFill>
                  <a:srgbClr val="ffffcc"/>
                </a:solidFill>
                <a:uFillTx/>
                <a:latin typeface="Arial"/>
              </a:rPr>
              <a:t>илле биш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 кеше катнашты. </a:t>
            </a:r>
            <a:br>
              <a:rPr sz="4000"/>
            </a:b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    4. Гаиләдә без </a:t>
            </a:r>
            <a:r>
              <a:rPr b="1" lang="tt-RU" sz="4000" spc="-1" strike="noStrike" u="sng">
                <a:solidFill>
                  <a:srgbClr val="ffffcc"/>
                </a:solidFill>
                <a:uFillTx/>
                <a:latin typeface="Arial"/>
              </a:rPr>
              <a:t>алтау</a:t>
            </a:r>
            <a:r>
              <a:rPr b="1" lang="tt-RU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131400"/>
            <a:ext cx="82868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Саннарны сүзләр белән      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әйтегез:</a:t>
            </a:r>
            <a:br>
              <a:rPr sz="4400"/>
            </a:b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1. 100 кат әйткәнче, 1 кат эшләп күрсәт. </a:t>
            </a:r>
            <a:br>
              <a:rPr sz="4400"/>
            </a:b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2. 7 кат үлчә, 1 кат кис. </a:t>
            </a:r>
            <a:br>
              <a:rPr sz="4400"/>
            </a:b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tt-RU" sz="4400" spc="-1" strike="noStrike">
                <a:solidFill>
                  <a:srgbClr val="ffffcc"/>
                </a:solidFill>
                <a:latin typeface="Arial"/>
              </a:rPr>
              <a:t>3. Егет кешегә 70 төрле һөнәр дә аз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7:15:26Z</dcterms:created>
  <dc:creator>Елена</dc:creator>
  <dc:description/>
  <dc:language>en-US</dc:language>
  <cp:lastModifiedBy>Admin</cp:lastModifiedBy>
  <dcterms:modified xsi:type="dcterms:W3CDTF">2013-12-09T17:29:44Z</dcterms:modified>
  <cp:revision>41</cp:revision>
  <dc:subject/>
  <dc:title>САННАР</dc:title>
</cp:coreProperties>
</file>