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FB5-304A-4F6C-B8DA-5E91AD0B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9D5-0280-4B05-8025-B98891A6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1AF-1CCC-4C81-B627-6AE42D33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EA5-4AF9-4482-B8CD-6E6AA52D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D42-77A2-4FBE-84AC-32059732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249-A197-4616-B81E-9B4FE734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2DC-F412-4F60-BFB8-F9259F21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538-DF9D-4018-8D17-3657F54B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114-85D8-42EA-8C75-E554A8E8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0F3-11BB-4D4E-9408-970F7176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9F7-8FA3-4CEE-B12E-7FE1CC0C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820-B552-418A-A34F-3812934C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7E9F-23CB-41AE-A828-2DA8C952DF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920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e941c"/>
                </a:solidFill>
                <a:latin typeface="Arial"/>
              </a:rPr>
              <a:t>Основы </a:t>
            </a:r>
            <a:br>
              <a:rPr sz="6000"/>
            </a:br>
            <a:r>
              <a:rPr b="0" lang="ru-RU" sz="6000" spc="-1" strike="noStrike">
                <a:solidFill>
                  <a:srgbClr val="ee941c"/>
                </a:solidFill>
                <a:latin typeface="Arial"/>
              </a:rPr>
              <a:t>операционных систем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333360"/>
            <a:ext cx="851040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Многоуровневая модель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построения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 сетевых вычислительных систем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395280" y="227664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Формальный перечень правил, определяющих последовательность и формат сообщений, которыми обмениваются сетевые компоненты вычислительных систем, лежащие на одном уровне называется </a:t>
            </a: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сетевым протоколом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358920" y="4427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ся совокупность вертикальных и горизонтальных протоколов (интерфейсов и сетевых протоколов) называется </a:t>
            </a: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семейством протоколов</a:t>
            </a: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стеком протоколов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8510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Модель </a:t>
            </a:r>
            <a:r>
              <a:rPr b="0" lang="en-US" sz="3600" spc="-1" strike="noStrike">
                <a:solidFill>
                  <a:srgbClr val="ee941c"/>
                </a:solidFill>
                <a:latin typeface="Arial"/>
              </a:rPr>
              <a:t>OSI/IS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900000" y="256536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еансовы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900000" y="335772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транспортны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00000" y="414972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етево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900000" y="494028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канальны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900000" y="573264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физически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29973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1835280" y="37893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1835280" y="457992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835280" y="537228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6300720" y="256536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еансовы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300720" y="335772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транспортны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6300720" y="414972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етево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300720" y="494028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канальны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6300720" y="573264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физически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 flipV="1">
            <a:off x="7236000" y="2997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V="1">
            <a:off x="7236000" y="3789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 flipV="1">
            <a:off x="7236000" y="45795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V="1">
            <a:off x="7236000" y="537192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Line 25"/>
          <p:cNvSpPr/>
          <p:nvPr/>
        </p:nvSpPr>
        <p:spPr>
          <a:xfrm>
            <a:off x="2771640" y="595008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Line 26"/>
          <p:cNvSpPr/>
          <p:nvPr/>
        </p:nvSpPr>
        <p:spPr>
          <a:xfrm>
            <a:off x="2771640" y="515772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Line 27"/>
          <p:cNvSpPr/>
          <p:nvPr/>
        </p:nvSpPr>
        <p:spPr>
          <a:xfrm>
            <a:off x="2771640" y="436572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2771640" y="357336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Line 29"/>
          <p:cNvSpPr/>
          <p:nvPr/>
        </p:nvSpPr>
        <p:spPr>
          <a:xfrm>
            <a:off x="2771640" y="278136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863640" y="101592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риложени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863640" y="180828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редставления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Line 42"/>
          <p:cNvSpPr/>
          <p:nvPr/>
        </p:nvSpPr>
        <p:spPr>
          <a:xfrm>
            <a:off x="1798560" y="144792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Line 43"/>
          <p:cNvSpPr/>
          <p:nvPr/>
        </p:nvSpPr>
        <p:spPr>
          <a:xfrm>
            <a:off x="1798560" y="223992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6264360" y="101592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риложений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6264360" y="180828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редставления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Line 46"/>
          <p:cNvSpPr/>
          <p:nvPr/>
        </p:nvSpPr>
        <p:spPr>
          <a:xfrm flipV="1">
            <a:off x="7199280" y="14475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Line 47"/>
          <p:cNvSpPr/>
          <p:nvPr/>
        </p:nvSpPr>
        <p:spPr>
          <a:xfrm flipV="1">
            <a:off x="7199280" y="22395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Line 48"/>
          <p:cNvSpPr/>
          <p:nvPr/>
        </p:nvSpPr>
        <p:spPr>
          <a:xfrm>
            <a:off x="2735280" y="202392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Line 49"/>
          <p:cNvSpPr/>
          <p:nvPr/>
        </p:nvSpPr>
        <p:spPr>
          <a:xfrm>
            <a:off x="2735280" y="123192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Text Box 50"/>
          <p:cNvSpPr/>
          <p:nvPr/>
        </p:nvSpPr>
        <p:spPr>
          <a:xfrm>
            <a:off x="324000" y="576900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358920" y="497664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Text Box 52"/>
          <p:cNvSpPr/>
          <p:nvPr/>
        </p:nvSpPr>
        <p:spPr>
          <a:xfrm>
            <a:off x="358920" y="422100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Text Box 53"/>
          <p:cNvSpPr/>
          <p:nvPr/>
        </p:nvSpPr>
        <p:spPr>
          <a:xfrm>
            <a:off x="358920" y="342900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Text Box 54"/>
          <p:cNvSpPr/>
          <p:nvPr/>
        </p:nvSpPr>
        <p:spPr>
          <a:xfrm>
            <a:off x="358920" y="263700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Text Box 55"/>
          <p:cNvSpPr/>
          <p:nvPr/>
        </p:nvSpPr>
        <p:spPr>
          <a:xfrm>
            <a:off x="324000" y="186840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Text Box 56"/>
          <p:cNvSpPr/>
          <p:nvPr/>
        </p:nvSpPr>
        <p:spPr>
          <a:xfrm>
            <a:off x="324000" y="105264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Text Box 57"/>
          <p:cNvSpPr/>
          <p:nvPr/>
        </p:nvSpPr>
        <p:spPr>
          <a:xfrm>
            <a:off x="8209080" y="576900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Text Box 58"/>
          <p:cNvSpPr/>
          <p:nvPr/>
        </p:nvSpPr>
        <p:spPr>
          <a:xfrm>
            <a:off x="8244000" y="497664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Text Box 59"/>
          <p:cNvSpPr/>
          <p:nvPr/>
        </p:nvSpPr>
        <p:spPr>
          <a:xfrm>
            <a:off x="8244000" y="422100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Text Box 60"/>
          <p:cNvSpPr/>
          <p:nvPr/>
        </p:nvSpPr>
        <p:spPr>
          <a:xfrm>
            <a:off x="8244000" y="342900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Text Box 61"/>
          <p:cNvSpPr/>
          <p:nvPr/>
        </p:nvSpPr>
        <p:spPr>
          <a:xfrm>
            <a:off x="8244000" y="263700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8209080" y="186840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Text Box 63"/>
          <p:cNvSpPr/>
          <p:nvPr/>
        </p:nvSpPr>
        <p:spPr>
          <a:xfrm>
            <a:off x="8209080" y="105264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431640" y="6237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Компьютер 1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5832360" y="6273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Компьютер 2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33300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Одноуровневая адресац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запрашивает свою ОС о возможности использовать адр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 опрашивает все другие ОС о возможности присвоения адре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сбора всех ответов ОС принимает р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 извещает процесс о принятом реш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33300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Двухуровневая адресация: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удаленные адрес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а уникальности адре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а разрешения адре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781280" y="2781360"/>
            <a:ext cx="55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Централизованный подход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58920" y="3619440"/>
            <a:ext cx="8540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я о всех символьных и числовых адресах хранится в специальном файле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вносятся в файл только администратором сети на специальном компьютере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йл с изменениями рассылается на все компьютеры сет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21"/>
          <p:cNvSpPr/>
          <p:nvPr/>
        </p:nvSpPr>
        <p:spPr>
          <a:xfrm>
            <a:off x="557280" y="3392640"/>
            <a:ext cx="8029440" cy="313200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971640" y="4184640"/>
            <a:ext cx="1042920" cy="43164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5867280" y="3789360"/>
            <a:ext cx="2160720" cy="230364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33300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Двухуровневая адресация: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удаленные адрес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а уникальности адре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а разрешения адре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95280" y="2781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Распределенный подход (на примере 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DNS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655640" y="440064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122560" y="458136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987640" y="476100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3166920" y="540864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2411280" y="558792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851280" y="5767560"/>
            <a:ext cx="108000" cy="107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030560" y="490536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492360" y="425772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4968720" y="443700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5148360" y="533700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6408720" y="551664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588000" y="501336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6767640" y="422100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7451640" y="494172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7559640" y="5589720"/>
            <a:ext cx="108000" cy="107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826920" y="5084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Ранг 0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1908000" y="3933720"/>
            <a:ext cx="2376720" cy="24130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2376360" y="59371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Ранг 1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Oval 26"/>
          <p:cNvSpPr/>
          <p:nvPr/>
        </p:nvSpPr>
        <p:spPr>
          <a:xfrm>
            <a:off x="4716360" y="4149720"/>
            <a:ext cx="792360" cy="187164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4572000" y="48340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Ранг 1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6227640" y="4545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Ранг 1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863640" y="42084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Ранг 1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5003640" y="5229360"/>
            <a:ext cx="32400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Oval 35"/>
          <p:cNvSpPr/>
          <p:nvPr/>
        </p:nvSpPr>
        <p:spPr>
          <a:xfrm>
            <a:off x="4896000" y="4365720"/>
            <a:ext cx="32364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Oval 36"/>
          <p:cNvSpPr/>
          <p:nvPr/>
        </p:nvSpPr>
        <p:spPr>
          <a:xfrm>
            <a:off x="2087640" y="4508640"/>
            <a:ext cx="32364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Oval 37"/>
          <p:cNvSpPr/>
          <p:nvPr/>
        </p:nvSpPr>
        <p:spPr>
          <a:xfrm>
            <a:off x="3887640" y="4797360"/>
            <a:ext cx="32400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Oval 38"/>
          <p:cNvSpPr/>
          <p:nvPr/>
        </p:nvSpPr>
        <p:spPr>
          <a:xfrm>
            <a:off x="3384720" y="4149720"/>
            <a:ext cx="32364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Oval 39"/>
          <p:cNvSpPr/>
          <p:nvPr/>
        </p:nvSpPr>
        <p:spPr>
          <a:xfrm>
            <a:off x="3672000" y="5662440"/>
            <a:ext cx="323640" cy="28764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Oval 40"/>
          <p:cNvSpPr/>
          <p:nvPr/>
        </p:nvSpPr>
        <p:spPr>
          <a:xfrm>
            <a:off x="2303640" y="5481720"/>
            <a:ext cx="32364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Oval 41"/>
          <p:cNvSpPr/>
          <p:nvPr/>
        </p:nvSpPr>
        <p:spPr>
          <a:xfrm>
            <a:off x="3060720" y="5337000"/>
            <a:ext cx="324000" cy="28764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Oval 42"/>
          <p:cNvSpPr/>
          <p:nvPr/>
        </p:nvSpPr>
        <p:spPr>
          <a:xfrm>
            <a:off x="2879640" y="4689360"/>
            <a:ext cx="32400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Oval 43"/>
          <p:cNvSpPr/>
          <p:nvPr/>
        </p:nvSpPr>
        <p:spPr>
          <a:xfrm>
            <a:off x="6335640" y="5410080"/>
            <a:ext cx="32400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Oval 44"/>
          <p:cNvSpPr/>
          <p:nvPr/>
        </p:nvSpPr>
        <p:spPr>
          <a:xfrm>
            <a:off x="7416720" y="5481720"/>
            <a:ext cx="32400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Oval 45"/>
          <p:cNvSpPr/>
          <p:nvPr/>
        </p:nvSpPr>
        <p:spPr>
          <a:xfrm>
            <a:off x="7380360" y="4834080"/>
            <a:ext cx="32364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Oval 46"/>
          <p:cNvSpPr/>
          <p:nvPr/>
        </p:nvSpPr>
        <p:spPr>
          <a:xfrm>
            <a:off x="6624720" y="4113360"/>
            <a:ext cx="32364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Oval 47"/>
          <p:cNvSpPr/>
          <p:nvPr/>
        </p:nvSpPr>
        <p:spPr>
          <a:xfrm>
            <a:off x="6480000" y="4905360"/>
            <a:ext cx="32400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Oval 48"/>
          <p:cNvSpPr/>
          <p:nvPr/>
        </p:nvSpPr>
        <p:spPr>
          <a:xfrm>
            <a:off x="2735280" y="4545000"/>
            <a:ext cx="828720" cy="1297080"/>
          </a:xfrm>
          <a:prstGeom prst="ellipse">
            <a:avLst/>
          </a:prstGeom>
          <a:solidFill>
            <a:srgbClr val="ffffff">
              <a:alpha val="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Oval 49"/>
          <p:cNvSpPr/>
          <p:nvPr/>
        </p:nvSpPr>
        <p:spPr>
          <a:xfrm>
            <a:off x="6372360" y="4653000"/>
            <a:ext cx="1512720" cy="79200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6"/>
          <p:cNvSpPr/>
          <p:nvPr/>
        </p:nvSpPr>
        <p:spPr>
          <a:xfrm>
            <a:off x="2376360" y="5589720"/>
            <a:ext cx="9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serv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Oval 47"/>
          <p:cNvSpPr/>
          <p:nvPr/>
        </p:nvSpPr>
        <p:spPr>
          <a:xfrm>
            <a:off x="2195640" y="4473720"/>
            <a:ext cx="1763640" cy="180000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Oval 50"/>
          <p:cNvSpPr/>
          <p:nvPr/>
        </p:nvSpPr>
        <p:spPr>
          <a:xfrm>
            <a:off x="1763640" y="4113360"/>
            <a:ext cx="2521080" cy="2303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Oval 52"/>
          <p:cNvSpPr/>
          <p:nvPr/>
        </p:nvSpPr>
        <p:spPr>
          <a:xfrm>
            <a:off x="1511280" y="4005360"/>
            <a:ext cx="3421080" cy="262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Oval 2"/>
          <p:cNvSpPr/>
          <p:nvPr/>
        </p:nvSpPr>
        <p:spPr>
          <a:xfrm>
            <a:off x="557280" y="3681360"/>
            <a:ext cx="8029440" cy="313236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6080" y="33300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Двухуровневая адресация: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удаленные адрес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а уникальности адре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а разрешения адре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95280" y="2781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Распределенный подход (на примере 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DNS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2303640" y="5481720"/>
            <a:ext cx="32364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2411280" y="558792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2303640" y="48690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crec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Text Box 51"/>
          <p:cNvSpPr/>
          <p:nvPr/>
        </p:nvSpPr>
        <p:spPr>
          <a:xfrm>
            <a:off x="2482920" y="411336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mipt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9" name="Text Box 53"/>
          <p:cNvSpPr/>
          <p:nvPr/>
        </p:nvSpPr>
        <p:spPr>
          <a:xfrm>
            <a:off x="3816360" y="43164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ru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Text Box 54"/>
          <p:cNvSpPr/>
          <p:nvPr/>
        </p:nvSpPr>
        <p:spPr>
          <a:xfrm>
            <a:off x="0" y="3632040"/>
            <a:ext cx="24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serv.crec.mipt.ru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Oval 57"/>
          <p:cNvSpPr/>
          <p:nvPr/>
        </p:nvSpPr>
        <p:spPr>
          <a:xfrm>
            <a:off x="3095640" y="5194440"/>
            <a:ext cx="32400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Rectangle 58"/>
          <p:cNvSpPr/>
          <p:nvPr/>
        </p:nvSpPr>
        <p:spPr>
          <a:xfrm>
            <a:off x="3203640" y="5302080"/>
            <a:ext cx="108000" cy="1080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Oval 59"/>
          <p:cNvSpPr/>
          <p:nvPr/>
        </p:nvSpPr>
        <p:spPr>
          <a:xfrm>
            <a:off x="3887640" y="4869000"/>
            <a:ext cx="32400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Rectangle 60"/>
          <p:cNvSpPr/>
          <p:nvPr/>
        </p:nvSpPr>
        <p:spPr>
          <a:xfrm>
            <a:off x="3995640" y="4976640"/>
            <a:ext cx="108000" cy="1080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Oval 61"/>
          <p:cNvSpPr/>
          <p:nvPr/>
        </p:nvSpPr>
        <p:spPr>
          <a:xfrm>
            <a:off x="4427640" y="5048280"/>
            <a:ext cx="32364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Rectangle 62"/>
          <p:cNvSpPr/>
          <p:nvPr/>
        </p:nvSpPr>
        <p:spPr>
          <a:xfrm>
            <a:off x="4535640" y="5156280"/>
            <a:ext cx="107640" cy="1080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2843280" y="5408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Сервер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Text Box 64"/>
          <p:cNvSpPr/>
          <p:nvPr/>
        </p:nvSpPr>
        <p:spPr>
          <a:xfrm>
            <a:off x="2916360" y="4508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Сервер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Text Box 65"/>
          <p:cNvSpPr/>
          <p:nvPr/>
        </p:nvSpPr>
        <p:spPr>
          <a:xfrm>
            <a:off x="3887640" y="526104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Сервер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Oval 66"/>
          <p:cNvSpPr/>
          <p:nvPr/>
        </p:nvSpPr>
        <p:spPr>
          <a:xfrm>
            <a:off x="6912000" y="5084640"/>
            <a:ext cx="324000" cy="28764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Rectangle 67"/>
          <p:cNvSpPr/>
          <p:nvPr/>
        </p:nvSpPr>
        <p:spPr>
          <a:xfrm>
            <a:off x="7020000" y="5192640"/>
            <a:ext cx="108000" cy="1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Oval 69"/>
          <p:cNvSpPr/>
          <p:nvPr/>
        </p:nvSpPr>
        <p:spPr>
          <a:xfrm>
            <a:off x="6119640" y="4689360"/>
            <a:ext cx="1764000" cy="118764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Text Box 68"/>
          <p:cNvSpPr/>
          <p:nvPr/>
        </p:nvSpPr>
        <p:spPr>
          <a:xfrm>
            <a:off x="6804000" y="52531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ssp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Text Box 70"/>
          <p:cNvSpPr/>
          <p:nvPr/>
        </p:nvSpPr>
        <p:spPr>
          <a:xfrm>
            <a:off x="6516720" y="468936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brown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Oval 71"/>
          <p:cNvSpPr/>
          <p:nvPr/>
        </p:nvSpPr>
        <p:spPr>
          <a:xfrm>
            <a:off x="5435640" y="4257720"/>
            <a:ext cx="2736720" cy="201600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Text Box 72"/>
          <p:cNvSpPr/>
          <p:nvPr/>
        </p:nvSpPr>
        <p:spPr>
          <a:xfrm>
            <a:off x="6084720" y="4365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edu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Text Box 73"/>
          <p:cNvSpPr/>
          <p:nvPr/>
        </p:nvSpPr>
        <p:spPr>
          <a:xfrm>
            <a:off x="6985080" y="37051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ssp.brown.edu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8" name="Line 74"/>
          <p:cNvSpPr/>
          <p:nvPr/>
        </p:nvSpPr>
        <p:spPr>
          <a:xfrm flipV="1">
            <a:off x="2627280" y="5373720"/>
            <a:ext cx="504720" cy="21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Line 75"/>
          <p:cNvSpPr/>
          <p:nvPr/>
        </p:nvSpPr>
        <p:spPr>
          <a:xfrm flipV="1">
            <a:off x="3384720" y="5121000"/>
            <a:ext cx="539640" cy="144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Line 76"/>
          <p:cNvSpPr/>
          <p:nvPr/>
        </p:nvSpPr>
        <p:spPr>
          <a:xfrm>
            <a:off x="4211640" y="5013360"/>
            <a:ext cx="252360" cy="108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Oval 77"/>
          <p:cNvSpPr/>
          <p:nvPr/>
        </p:nvSpPr>
        <p:spPr>
          <a:xfrm>
            <a:off x="5580000" y="5446800"/>
            <a:ext cx="324000" cy="28728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Rectangle 78"/>
          <p:cNvSpPr/>
          <p:nvPr/>
        </p:nvSpPr>
        <p:spPr>
          <a:xfrm>
            <a:off x="5688000" y="5554800"/>
            <a:ext cx="108000" cy="107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Oval 79"/>
          <p:cNvSpPr/>
          <p:nvPr/>
        </p:nvSpPr>
        <p:spPr>
          <a:xfrm>
            <a:off x="6443640" y="5445000"/>
            <a:ext cx="324000" cy="287640"/>
          </a:xfrm>
          <a:prstGeom prst="ellipse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4" name="Rectangle 80"/>
          <p:cNvSpPr/>
          <p:nvPr/>
        </p:nvSpPr>
        <p:spPr>
          <a:xfrm>
            <a:off x="6551640" y="5553000"/>
            <a:ext cx="108000" cy="1080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Text Box 81"/>
          <p:cNvSpPr/>
          <p:nvPr/>
        </p:nvSpPr>
        <p:spPr>
          <a:xfrm>
            <a:off x="5148360" y="566100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Сервер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Text Box 82"/>
          <p:cNvSpPr/>
          <p:nvPr/>
        </p:nvSpPr>
        <p:spPr>
          <a:xfrm>
            <a:off x="6156360" y="566100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Сервер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Line 83"/>
          <p:cNvSpPr/>
          <p:nvPr/>
        </p:nvSpPr>
        <p:spPr>
          <a:xfrm>
            <a:off x="4751280" y="5192640"/>
            <a:ext cx="82872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Line 84"/>
          <p:cNvSpPr/>
          <p:nvPr/>
        </p:nvSpPr>
        <p:spPr>
          <a:xfrm>
            <a:off x="5904000" y="5589720"/>
            <a:ext cx="53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6080" y="33300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Двухуровневая адресация: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локальные и полные адрес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2241720"/>
            <a:ext cx="854064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дходит в качестве локального адр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локальной адресации создается специальное адресное пространство – пространство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тевых пор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ных средств связи – разные пространства пор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12920" y="162864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Локальные адрес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Text Box 44"/>
          <p:cNvSpPr/>
          <p:nvPr/>
        </p:nvSpPr>
        <p:spPr>
          <a:xfrm>
            <a:off x="395280" y="461628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Полные адрес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3" name="Rectangle 45"/>
          <p:cNvSpPr/>
          <p:nvPr/>
        </p:nvSpPr>
        <p:spPr>
          <a:xfrm>
            <a:off x="301680" y="5229360"/>
            <a:ext cx="85406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ый адрес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овой удаленный адрес, пор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ый адрес получил назва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ket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е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Проблемы маршрутизации в сети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58920" y="1376280"/>
            <a:ext cx="84103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ршрутизация от источника передачи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шаговая маршру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12840" y="2852640"/>
          <a:ext cx="8518320" cy="2592360"/>
        </p:xfrm>
        <a:graphic>
          <a:graphicData uri="http://schemas.openxmlformats.org/drawingml/2006/table">
            <a:tbl>
              <a:tblPr/>
              <a:tblGrid>
                <a:gridCol w="2840040"/>
                <a:gridCol w="2838240"/>
                <a:gridCol w="2840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ресат назначения</a:t>
                      </a:r>
                      <a:endParaRPr b="0" lang="en-US" sz="20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рес очередного компонента сети</a:t>
                      </a:r>
                      <a:endParaRPr b="0" lang="en-US" sz="20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рес исходящей линии связи</a:t>
                      </a:r>
                      <a:endParaRPr b="0" lang="en-US" sz="20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b7e7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 Box 32"/>
          <p:cNvSpPr/>
          <p:nvPr/>
        </p:nvSpPr>
        <p:spPr>
          <a:xfrm>
            <a:off x="1042920" y="371628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3814920" y="371628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6622920" y="371628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Text Box 35"/>
          <p:cNvSpPr/>
          <p:nvPr/>
        </p:nvSpPr>
        <p:spPr>
          <a:xfrm>
            <a:off x="1042920" y="43164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1-4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Text Box 36"/>
          <p:cNvSpPr/>
          <p:nvPr/>
        </p:nvSpPr>
        <p:spPr>
          <a:xfrm>
            <a:off x="3814920" y="43164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6622920" y="43164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1042920" y="492912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default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Text Box 39"/>
          <p:cNvSpPr/>
          <p:nvPr/>
        </p:nvSpPr>
        <p:spPr>
          <a:xfrm>
            <a:off x="3814920" y="492912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Text Box 40"/>
          <p:cNvSpPr/>
          <p:nvPr/>
        </p:nvSpPr>
        <p:spPr>
          <a:xfrm>
            <a:off x="6622920" y="492912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b7e7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Проблемы маршрутизации в сети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8920" y="1376280"/>
            <a:ext cx="84103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ршрутизация от источника передачи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шаговая маршру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ы фиксированной маршру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ы простой маршру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учай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ви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шрутизация по прецеден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ы динамической маршру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танционно-векторные алгорит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горитмы состояния свя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Интерфейсы сетевых средств связи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66840" y="1665360"/>
            <a:ext cx="8410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околы без установления логического соединения или протоколы обмена датаграммами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gramm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ion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околы, требующие установления логического соедин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nnection-ori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6000" y="3357360"/>
            <a:ext cx="8712000" cy="17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ети и сетевые операционн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941c"/>
                </a:solidFill>
                <a:latin typeface="Arial"/>
              </a:rPr>
              <a:t>Для чего компьютеры объединяют в сети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2168640"/>
            <a:ext cx="854064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ое использование ресурсов (как физических, так и информационны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корение вычис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ышение надежности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ние пользов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941c"/>
                </a:solidFill>
                <a:latin typeface="Arial"/>
              </a:rPr>
              <a:t>Сетевые и распределенные ОС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2168640"/>
            <a:ext cx="854064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тевые 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тель должен знать, что компьютер находится в сети, где находятся удаленные ресурсы и как до них добр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автономной операционной системы отличается наличием дополнительной сетевой ча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ределенные 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тель работает как в автономной операционной сис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ерационная система полностью отличается от автономных ОС и функционирует на всех компьютерах се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941c"/>
                </a:solidFill>
                <a:latin typeface="Arial"/>
              </a:rPr>
              <a:t>Отличия взаимодействия удаленных и локальных процессо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73000"/>
            <a:ext cx="8540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снове взаимодействия локальных процессов лежит использование разделяемой памяти, а в основе взаимодействия удаленных процессов – передача сооб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я между удаленными процессами зачастую передается через процессы-посредники, обитающие на компьютерах, отличных от компьютеров получателя и отправ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аленное взаимодействие должно строиться исходя из первоначального предположения о ненадежности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реса взаимодействующих процессов должны быть уникальны в рамках всей се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обеспечить взаимоисключения процессов при обращении к линии связи между компьютер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941c"/>
                </a:solidFill>
                <a:latin typeface="Arial"/>
              </a:rPr>
              <a:t>Основные вопросы логической организации связи между удаленными процесс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2529000"/>
            <a:ext cx="8540640" cy="29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окладывать физические линии связ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сключить возникнове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ce conditio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х использован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виды интерфейсов могут быть предоставлены пользовател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рганизована адресация удаленных процесс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нформация передается от отправителя к получателю через узлы посредн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941c"/>
                </a:solidFill>
                <a:latin typeface="Arial"/>
              </a:rPr>
              <a:t>Понятие протокол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2673000"/>
            <a:ext cx="854064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е почтовых сооб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держании служебной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те представления служебной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63640" y="1341360"/>
            <a:ext cx="7416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обмена почтовыми сообщениями между людьми соответствующие службы связи должны договориться о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63640" y="450864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взаимодействия удаленных процессов сетевые части операционных систем также должны руководствоваться определенными соглашениями (поддерживать определенные протоколы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6080" y="333360"/>
            <a:ext cx="851040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Многоуровневая модель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построения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 сетевых вычислительных систем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2771640" y="3111480"/>
            <a:ext cx="4284720" cy="252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фейс пользователя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2771640" y="4946760"/>
            <a:ext cx="4284720" cy="288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 flipV="1">
            <a:off x="1871640" y="30664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4896000" y="3506760"/>
            <a:ext cx="0" cy="432000"/>
          </a:xfrm>
          <a:prstGeom prst="line">
            <a:avLst/>
          </a:prstGeom>
          <a:ln w="9360">
            <a:solidFill>
              <a:srgbClr val="ee94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4896000" y="4370400"/>
            <a:ext cx="0" cy="431640"/>
          </a:xfrm>
          <a:prstGeom prst="line">
            <a:avLst/>
          </a:prstGeom>
          <a:ln w="9360">
            <a:solidFill>
              <a:srgbClr val="ee94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4859280" y="4083120"/>
            <a:ext cx="108000" cy="108000"/>
          </a:xfrm>
          <a:prstGeom prst="rect">
            <a:avLst/>
          </a:prstGeom>
          <a:solidFill>
            <a:srgbClr val="0099cc"/>
          </a:solidFill>
          <a:ln w="936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5364000" y="4083120"/>
            <a:ext cx="108000" cy="108000"/>
          </a:xfrm>
          <a:prstGeom prst="rect">
            <a:avLst/>
          </a:prstGeom>
          <a:solidFill>
            <a:srgbClr val="0099cc"/>
          </a:solidFill>
          <a:ln w="936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4319640" y="4083120"/>
            <a:ext cx="108000" cy="108000"/>
          </a:xfrm>
          <a:prstGeom prst="rect">
            <a:avLst/>
          </a:prstGeom>
          <a:solidFill>
            <a:srgbClr val="0099cc"/>
          </a:solidFill>
          <a:ln w="936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 flipV="1">
            <a:off x="1835280" y="489672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6080" y="333360"/>
            <a:ext cx="851040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Многоуровневая модель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построения</a:t>
            </a:r>
            <a:br>
              <a:rPr sz="3600"/>
            </a:br>
            <a:r>
              <a:rPr b="0" lang="ru-RU" sz="3600" spc="-1" strike="noStrike">
                <a:solidFill>
                  <a:srgbClr val="ee941c"/>
                </a:solidFill>
                <a:latin typeface="Arial"/>
              </a:rPr>
              <a:t> сетевых вычислительных систем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900000" y="234936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руководитель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900000" y="314172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екретарь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900000" y="393372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канцелярия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900000" y="472428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очта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900000" y="551664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доставка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1835280" y="27813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1835280" y="35733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1835280" y="436392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1835280" y="515628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6300720" y="234936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руководитель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6300720" y="314172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екретарь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6300720" y="393372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канцелярия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Rectangle 24"/>
          <p:cNvSpPr/>
          <p:nvPr/>
        </p:nvSpPr>
        <p:spPr>
          <a:xfrm>
            <a:off x="6300720" y="4724280"/>
            <a:ext cx="1871640" cy="432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очта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Rectangle 25"/>
          <p:cNvSpPr/>
          <p:nvPr/>
        </p:nvSpPr>
        <p:spPr>
          <a:xfrm>
            <a:off x="6300720" y="5516640"/>
            <a:ext cx="1871640" cy="431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доставка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 flipV="1">
            <a:off x="7236000" y="2781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Line 27"/>
          <p:cNvSpPr/>
          <p:nvPr/>
        </p:nvSpPr>
        <p:spPr>
          <a:xfrm flipV="1">
            <a:off x="7236000" y="3573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 flipV="1">
            <a:off x="7236000" y="43635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Line 29"/>
          <p:cNvSpPr/>
          <p:nvPr/>
        </p:nvSpPr>
        <p:spPr>
          <a:xfrm flipV="1">
            <a:off x="7236000" y="515592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2592360" y="2384280"/>
            <a:ext cx="16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Текст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2592360" y="3068640"/>
            <a:ext cx="16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Копия,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адрес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2627280" y="3824280"/>
            <a:ext cx="16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Рег. номер,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упаковка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2627280" y="4653000"/>
            <a:ext cx="16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лужебные пометки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Line 34"/>
          <p:cNvSpPr/>
          <p:nvPr/>
        </p:nvSpPr>
        <p:spPr>
          <a:xfrm>
            <a:off x="2771640" y="573408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Line 36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Line 37"/>
          <p:cNvSpPr/>
          <p:nvPr/>
        </p:nvSpPr>
        <p:spPr>
          <a:xfrm>
            <a:off x="2771640" y="414972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Line 38"/>
          <p:cNvSpPr/>
          <p:nvPr/>
        </p:nvSpPr>
        <p:spPr>
          <a:xfrm>
            <a:off x="2771640" y="335772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Line 39"/>
          <p:cNvSpPr/>
          <p:nvPr/>
        </p:nvSpPr>
        <p:spPr>
          <a:xfrm>
            <a:off x="2771640" y="2565360"/>
            <a:ext cx="3529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2:17:37Z</dcterms:created>
  <dc:creator>Карпов В.Е.</dc:creator>
  <dc:description/>
  <dc:language>en-US</dc:language>
  <cp:lastModifiedBy>gena</cp:lastModifiedBy>
  <dcterms:modified xsi:type="dcterms:W3CDTF">2014-11-10T15:44:08Z</dcterms:modified>
  <cp:revision>196</cp:revision>
  <dc:subject/>
  <dc:title>Введение  в операционные системы</dc:title>
</cp:coreProperties>
</file>