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457-B7B1-4814-8CEA-6720E829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BA4-353A-4EE8-A61B-EA7C026A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6DD-8004-482B-B9A2-C8C5F6E9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728-4830-4A88-949A-F60B41D6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E427-976B-43A3-A7C1-2C37D02E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BED-29B9-4853-906F-EDBA57FE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B077-A076-4DB7-AE5B-A630F61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8183-7C28-4509-8F84-C1C07556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71D7-523C-4B59-AA02-888C85D0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B6A8-204C-4288-AD73-BF1AD712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605E-856D-4ACA-AA8F-40AF7C0B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158-686F-4461-A341-F8B5CA3C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C36F-9C80-4098-B72C-B4DAD28C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4FCC-DABB-495D-9884-F328C8D1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A646-A17A-47D3-A5DB-76EB50C2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2FE-CE6A-4CAC-8ECE-E35B2419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E11C-9C9A-4CA5-B486-494024BF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0BDA-0F37-4656-8E20-A539DBCD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1151-19F1-4244-91CF-137C0F65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36FF-B88D-43EB-89F2-8BBFDF53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9ED0-B870-45B0-AD2E-B1E7B08C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AE08-C6D0-42D9-9C82-F0237C69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374-3619-4813-A95A-02F94893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A8AD-3908-449E-885D-20242A1E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CC33-9120-4912-B8C3-E5A61D4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13DA-43F4-4811-8487-58EAC7D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C179-7103-465A-863C-BDE8D9B8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34898-6E5A-4D55-BFC0-A95C702B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5B22-2AD1-4169-9855-38B0D1C0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075B-D150-423B-B478-B680E7F9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B22C-A1CC-438C-8D85-728233C3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26733-AC2A-4255-B63A-922DF0BD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F86D-5B57-43F9-B9EE-1A974D05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142-EFCD-497D-AF9D-C3781055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F2E2-4619-4582-8F29-032DFD76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6B59-1CFA-4703-B972-0126A67C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9E9FE-2416-41A9-B759-3481ED57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8B17-D349-45FC-9693-4F1522E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C109-E6D0-4232-9F8F-A06D11F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8637A-2A57-48BA-8B97-EACF1773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21A0-7273-407F-9E8E-8F30501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482A-EC94-42AF-A210-9DB33A41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48EC-97EF-4D00-99CA-C6C807CB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6AC-F240-4387-8B49-BC1C8A5B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C6D-B8BF-4A9C-BF24-8976483E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24A-7F32-4F49-A7D4-EF252A6E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F2A-C20F-4F81-8769-AE9157EE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0E0-5147-4A36-9D23-269176F5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1E56-E458-4105-82A1-EC3CD667A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092B-9B93-4D3E-8680-694E75982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CD7E-A15A-486E-AB79-32F52BD2A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DAF7-5966-40E5-BE1A-D8F5606B3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llday.com.ua/50511-demotivatory-85-50-foto.html" TargetMode="External"/><Relationship Id="rId2" Type="http://schemas.openxmlformats.org/officeDocument/2006/relationships/hyperlink" Target="http://intermedik.narod.ru/skelet/" TargetMode="External"/><Relationship Id="rId3" Type="http://schemas.openxmlformats.org/officeDocument/2006/relationships/hyperlink" Target="http://pedsovet.s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:\Users\Пользователь\Desktop\1311281294_8-w600.jpg"/>
          <p:cNvPicPr/>
          <p:nvPr/>
        </p:nvPicPr>
        <p:blipFill>
          <a:blip r:embed="rId1"/>
          <a:srcRect l="4687" t="5429" r="3137" b="14951"/>
          <a:stretch/>
        </p:blipFill>
        <p:spPr>
          <a:xfrm>
            <a:off x="6080040" y="4365720"/>
            <a:ext cx="2406600" cy="1931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по биологи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келет человека. Осевой скел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31640" y="5444640"/>
            <a:ext cx="410364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евой ске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авочный ске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зговой и лицевой отделы чере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нок и межпозвонковый ди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елы позвоночника: шейный, грудной, поясничный, крестцовый, копчико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ночный канал, грудная клетка, рёбра, груд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H:\анимиров картинки\анатомические\walk-skeleton[1].gif"/>
          <p:cNvPicPr/>
          <p:nvPr/>
        </p:nvPicPr>
        <p:blipFill>
          <a:blip r:embed="rId1"/>
          <a:stretch/>
        </p:blipFill>
        <p:spPr>
          <a:xfrm>
            <a:off x="7093080" y="404640"/>
            <a:ext cx="1650960" cy="286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я для закреп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ясните назначени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го изгиба позвоночника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жите о строении и функции грудной кле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ните голову и прощупайте на границе шейного и грудного отделов позвоночника седьмой шейный позво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 11; отвечать на вопросы на стр. 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llday.com.ua/50511-dem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ntermedik.narod.ru/skelet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edsovet.s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шабло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.В. Колесов; Р.Д. Маш, И.Н. Беляев «Биология. Человек» 8 класс; М. «Дрофа» 2011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тическое и поурочное планирование к учебнику Д.В. Колесов; Р.Д. Маш, И.Н. Беляев «Биология. Человек» 8 класс; М. «Дроф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onstantia"/>
                <a:ea typeface="MS Mincho"/>
              </a:rPr>
              <a:t>СКЕЛЕТ (</a:t>
            </a:r>
            <a:r>
              <a:rPr b="1" lang="en-US" sz="3200" spc="-1" strike="noStrike">
                <a:solidFill>
                  <a:srgbClr val="e46c0a"/>
                </a:solidFill>
                <a:latin typeface="Constantia"/>
                <a:ea typeface="MS Mincho"/>
              </a:rPr>
              <a:t>skeletos – </a:t>
            </a:r>
            <a:r>
              <a:rPr b="1" lang="ru-RU" sz="3200" spc="-1" strike="noStrike">
                <a:solidFill>
                  <a:srgbClr val="e46c0a"/>
                </a:solidFill>
                <a:latin typeface="Constantia"/>
                <a:ea typeface="MS Mincho"/>
              </a:rPr>
              <a:t>высохший)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MS Mincho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MS Mincho"/>
              </a:rPr>
              <a:t>совокупность твердых тканей в организме, служащих опорой тела или отдельных его частей и защищающих его от механических повреждений</a:t>
            </a:r>
            <a:r>
              <a:rPr b="0" lang="ru-RU" sz="3200" spc="-1" strike="noStrike">
                <a:solidFill>
                  <a:srgbClr val="e46c0a"/>
                </a:solidFill>
                <a:latin typeface="Constantia"/>
                <a:ea typeface="MS Mincho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H:\анимиров картинки\анатомические\0_2061d_83ec1b29_XL[1].gif"/>
          <p:cNvPicPr/>
          <p:nvPr/>
        </p:nvPicPr>
        <p:blipFill>
          <a:blip r:embed="rId1"/>
          <a:stretch/>
        </p:blipFill>
        <p:spPr>
          <a:xfrm>
            <a:off x="3276720" y="3213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зна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ыть роль скел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ать о типах к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ать о макро- и микростроении трубчатой 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ложить опыты, раскрывающие роль органического и минерального вещества в обеспечении прочности к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ать о росте костей в ширину и дл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3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660960" y="406080"/>
            <a:ext cx="67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onstantia"/>
                <a:ea typeface="MS Mincho"/>
              </a:rPr>
              <a:t>Число костей в теле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55640" y="1052640"/>
          <a:ext cx="7645320" cy="5400720"/>
        </p:xfrm>
        <a:graphic>
          <a:graphicData uri="http://schemas.openxmlformats.org/drawingml/2006/table">
            <a:tbl>
              <a:tblPr/>
              <a:tblGrid>
                <a:gridCol w="5146560"/>
                <a:gridCol w="2498760"/>
              </a:tblGrid>
              <a:tr h="86508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ОТД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КОС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28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дная кле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зовый пояс с крестцом и копчи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зговой отдел чере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евой отдел чере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чевой пояс вместе с верхними конечност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ние конеч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68360" y="733320"/>
            <a:ext cx="2903400" cy="565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5" name="TextBox 3"/>
          <p:cNvSpPr/>
          <p:nvPr/>
        </p:nvSpPr>
        <p:spPr>
          <a:xfrm>
            <a:off x="4067280" y="189000"/>
            <a:ext cx="4498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Самостоятельная работа по учебн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ользуясь рисунком 20 учебника (стр. 51) найди и определи название костей скел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1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2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3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4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5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6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7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8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9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10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11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12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келет головы (чере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3106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зговой отд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цевой отд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07020203 изм"/>
          <p:cNvPicPr/>
          <p:nvPr/>
        </p:nvPicPr>
        <p:blipFill>
          <a:blip r:embed="rId1"/>
          <a:stretch/>
        </p:blipFill>
        <p:spPr>
          <a:xfrm>
            <a:off x="3276720" y="981000"/>
            <a:ext cx="5545080" cy="532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основание черепа"/>
          <p:cNvPicPr/>
          <p:nvPr/>
        </p:nvPicPr>
        <p:blipFill>
          <a:blip r:embed="rId2"/>
          <a:stretch/>
        </p:blipFill>
        <p:spPr>
          <a:xfrm>
            <a:off x="395280" y="3068640"/>
            <a:ext cx="2808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562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келет туловищ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6320" y="990360"/>
            <a:ext cx="8280360" cy="8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позвоночник  </a:t>
            </a: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грудная клетк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9" descr="позвоночник 2"/>
          <p:cNvPicPr/>
          <p:nvPr/>
        </p:nvPicPr>
        <p:blipFill>
          <a:blip r:embed="rId1"/>
          <a:stretch/>
        </p:blipFill>
        <p:spPr>
          <a:xfrm>
            <a:off x="611280" y="1674720"/>
            <a:ext cx="1224000" cy="5183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Пользователь\Desktop\s_oporn_skelet_clip_image010.jpg"/>
          <p:cNvPicPr/>
          <p:nvPr/>
        </p:nvPicPr>
        <p:blipFill>
          <a:blip r:embed="rId2"/>
          <a:stretch/>
        </p:blipFill>
        <p:spPr>
          <a:xfrm>
            <a:off x="5675400" y="2008080"/>
            <a:ext cx="2879640" cy="3706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2363760" y="148428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ейный отдел (7 позвонк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2195640" y="245916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дной отдел (12 позвонк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2003400" y="358308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ясничный отдел (5 позвонк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2100240" y="4676760"/>
            <a:ext cx="355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естец (5 сросшихся позвонк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2384280" y="573876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пчик (4-5 сросшихся позвонк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9" name="Прямая со стрелкой 7"/>
          <p:cNvCxnSpPr/>
          <p:nvPr/>
        </p:nvCxnSpPr>
        <p:spPr>
          <a:xfrm flipH="1">
            <a:off x="1258560" y="1838160"/>
            <a:ext cx="93744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Прямая со стрелкой 9"/>
          <p:cNvCxnSpPr/>
          <p:nvPr/>
        </p:nvCxnSpPr>
        <p:spPr>
          <a:xfrm flipH="1">
            <a:off x="1546920" y="2812680"/>
            <a:ext cx="816840" cy="54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Прямая со стрелкой 11"/>
          <p:cNvCxnSpPr/>
          <p:nvPr/>
        </p:nvCxnSpPr>
        <p:spPr>
          <a:xfrm flipH="1">
            <a:off x="1546920" y="4076640"/>
            <a:ext cx="553320" cy="95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Прямая со стрелкой 13"/>
          <p:cNvCxnSpPr/>
          <p:nvPr/>
        </p:nvCxnSpPr>
        <p:spPr>
          <a:xfrm flipH="1">
            <a:off x="1547640" y="5157720"/>
            <a:ext cx="648360" cy="93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Прямая со стрелкой 15"/>
          <p:cNvCxnSpPr/>
          <p:nvPr/>
        </p:nvCxnSpPr>
        <p:spPr>
          <a:xfrm flipH="1">
            <a:off x="1546920" y="6446520"/>
            <a:ext cx="816840" cy="151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Box 16"/>
          <p:cNvSpPr/>
          <p:nvPr/>
        </p:nvSpPr>
        <p:spPr>
          <a:xfrm>
            <a:off x="5553000" y="5688000"/>
            <a:ext cx="18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дной отдел позвоноч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7667640" y="18381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ёб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4932360" y="203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д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7" name="Прямая со стрелкой 20"/>
          <p:cNvCxnSpPr/>
          <p:nvPr/>
        </p:nvCxnSpPr>
        <p:spPr>
          <a:xfrm>
            <a:off x="5867280" y="2438280"/>
            <a:ext cx="1248480" cy="92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Прямая со стрелкой 22"/>
          <p:cNvCxnSpPr/>
          <p:nvPr/>
        </p:nvCxnSpPr>
        <p:spPr>
          <a:xfrm flipH="1">
            <a:off x="8027280" y="2238120"/>
            <a:ext cx="18180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Прямая со стрелкой 24"/>
          <p:cNvCxnSpPr/>
          <p:nvPr/>
        </p:nvCxnSpPr>
        <p:spPr>
          <a:xfrm flipV="1">
            <a:off x="6875280" y="4676040"/>
            <a:ext cx="240120" cy="94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5041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троение позво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6" descr="позвонок 1"/>
          <p:cNvPicPr/>
          <p:nvPr/>
        </p:nvPicPr>
        <p:blipFill>
          <a:blip r:embed="rId1"/>
          <a:stretch/>
        </p:blipFill>
        <p:spPr>
          <a:xfrm>
            <a:off x="684360" y="1700280"/>
            <a:ext cx="3436920" cy="364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2" name=""/>
          <p:cNvSpPr txBox="1"/>
          <p:nvPr/>
        </p:nvSpPr>
        <p:spPr>
          <a:xfrm>
            <a:off x="4572000" y="141300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п.11 на стр. 5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ать о строении позво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роль выполняют межпозвонковые дис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user</cp:lastModifiedBy>
  <dcterms:modified xsi:type="dcterms:W3CDTF">2014-11-10T12:09:04Z</dcterms:modified>
  <cp:revision>21</cp:revision>
  <dc:subject/>
  <dc:title>Презентация PowerPoint</dc:title>
</cp:coreProperties>
</file>