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55E-8B9B-491F-B446-63721DFB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793-0F9E-4F2E-B527-C77A2834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A67-E12F-4361-8661-C585BAFE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BF6-BA3A-4199-9E66-C5606601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6D2-42F1-4C87-AA4D-1E9DFA0C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976-CEBA-441F-974F-D11A8C93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7B5-894A-4690-8371-1C6A5B47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51D-A005-4C24-BC84-3204966E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178-CF97-4C8B-AEF8-0E52921F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A28-F4FF-4B58-8F06-3679B5A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BE9-923C-4C2E-A7D8-CB35FC9B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D65-25B7-4234-9BD9-B744B62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55A-BE0C-493F-9EF8-31F071AEB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Найди лишнюю фигу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2"/>
          <p:cNvSpPr/>
          <p:nvPr/>
        </p:nvSpPr>
        <p:spPr>
          <a:xfrm>
            <a:off x="755640" y="1197000"/>
            <a:ext cx="3168720" cy="20876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3"/>
          <p:cNvSpPr/>
          <p:nvPr/>
        </p:nvSpPr>
        <p:spPr>
          <a:xfrm rot="18471000">
            <a:off x="4584600" y="890280"/>
            <a:ext cx="1726920" cy="1368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6948360" y="1413000"/>
            <a:ext cx="2016360" cy="208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 rot="2385000">
            <a:off x="826560" y="3860280"/>
            <a:ext cx="2951280" cy="15116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851280" y="3573360"/>
            <a:ext cx="1441440" cy="230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7"/>
          <p:cNvSpPr/>
          <p:nvPr/>
        </p:nvSpPr>
        <p:spPr>
          <a:xfrm rot="2096400">
            <a:off x="6227640" y="4005360"/>
            <a:ext cx="1871640" cy="1728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йди лишнюю фигу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42920" y="1557360"/>
            <a:ext cx="2521080" cy="1224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 rot="18337200">
            <a:off x="4644720" y="1773000"/>
            <a:ext cx="2232000" cy="1368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6516720" y="2852640"/>
            <a:ext cx="1944720" cy="1943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547640" y="3284640"/>
            <a:ext cx="1151280" cy="2663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 rot="1634400">
            <a:off x="4284720" y="4508280"/>
            <a:ext cx="2160360" cy="1224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8:59:28Z</dcterms:created>
  <dc:creator>1</dc:creator>
  <dc:description/>
  <dc:language>en-US</dc:language>
  <cp:lastModifiedBy>Пользователь</cp:lastModifiedBy>
  <dcterms:modified xsi:type="dcterms:W3CDTF">2014-11-10T19:17:42Z</dcterms:modified>
  <cp:revision>33</cp:revision>
  <dc:subject/>
  <dc:title>Слайд 1</dc:title>
</cp:coreProperties>
</file>