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3BE-ECF3-4FAA-BC42-F9112F70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0FB-299E-464A-82A2-9758A26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E8C-6CEB-44AA-848B-BB0DE3DC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EC9-8DCE-48F9-94BE-36A13F40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E4AB-64FB-4207-A0F4-CBBA6ECD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2CE-F8BE-44B5-9B4F-FC58B8F3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A19E-1DDE-4192-8545-B0AF2F07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F4A5-A77D-4885-AD6E-9BB7C6BA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A6C-2EB0-4C9F-9B56-23687295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9F1-34EE-4130-ADA5-13D4389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38E2-781F-4708-9C5C-E0C95E8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0E2-314E-4B23-966C-0266A2C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285B-8368-49D6-B858-B79FA8C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24F-992E-4BC9-9F8D-0EBD8B1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8DD4-F5F6-4448-A813-12BD356A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C752-3E7C-406E-B5B6-72042989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504-863E-43CC-B087-D9D0D0DD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CEF1-3664-44CA-A58F-DE89569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5651-8005-46E0-AFFE-D4E0ADCC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2EAA-1181-4464-8C8F-9F633313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6E90-9F18-4040-8D01-FB1F9732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F7EF-332A-433A-B569-00EC25F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902-B040-4401-A1AB-90C19B0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2161-8937-4C4F-97D8-FC5A4B5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3119-B967-44D9-9A94-DD015FD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5F62-F96F-49E3-9AD2-0C99457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2ED3-BC68-46CC-94C3-B7156CE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28E6-2DB6-43C6-8452-D7A455C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0D96-30F1-4683-BFB9-089CE716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1CDA-BEA3-49B9-873B-E6C4F48E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F658-4286-4D97-9B89-3FB2EC7A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943A-02DC-4B3F-B090-2336C6E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F4BB-67C3-45E7-82F0-C67C7FB8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E4A-F7B2-4F76-B289-1C9A107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80CF-24A2-4452-9402-F780D95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630E-274D-4664-AB85-DFB6C7DF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DE99-559B-4B13-A650-1F9EFE9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F278-A1E6-4F2D-8E33-28BBA58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5998-234E-4C0A-8632-5C2AA98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C00D-2413-4AD4-B8AD-8D64747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D5EB-D52F-48E7-91FA-5EA73AA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8168-C8A7-4C07-82E6-4E68DEB7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AF52-5021-4355-8EAA-7C6889B6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0394-52A7-46F6-955A-A9E00BEB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1EB-A220-4EE2-9979-313B306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4F76-30E2-4058-BF11-FC38478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CD3A-BAD1-4C44-A0CF-4B341802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68B4-BFA6-49BB-814B-8690A7E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8044-6CCD-4D24-837C-DBA04E8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1E3B-0634-4EBE-8B4E-C3A3160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E7D6-F492-4B16-895F-D911DED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C40A-9628-4A30-8331-372FEE3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C60E-BDA0-4752-8CE7-99A3A89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93F3-79B7-4689-841D-B0E445F8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26182-62EB-42C4-A32F-C3470A53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D5B-A94B-4D38-B301-0A18673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3FA9-76FD-4CB4-B2EE-9DC29416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5570-A5A2-4197-AD68-EACF2F1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E2D4-C307-4111-9953-7CF41611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BF54-FFB1-41C0-84EC-BB5B9A6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A1F3-2BE7-44BC-AF8D-746D173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C0BF-CE33-401A-B6AB-614796DB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D6AD-753A-467D-AB5A-B5C35A0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B35E-F2DF-47F5-A3A0-C42BE0B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E706-66AB-4A0F-8026-0D95C6B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38A3-3DE5-43F5-BC12-656F550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DAE-9F62-4683-AD4D-B7EB711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F046-8242-4678-9384-0C90DEA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4BB2-58AC-440F-9C40-24DBE697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4AD4-B5BC-4772-B8A5-E9C03F22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A88-079D-42CD-91F1-3A182BF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360-D92E-4171-A5C1-1CEDFE8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05F4-9F90-4C7A-8827-F473569D2AC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CB8-1E8A-41AD-89F4-ACF2AD90DD8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258-1284-4150-BDA0-7A85A8B55A3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8020-0A0B-4AFF-8793-5D71F45CC3B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B79-DD2B-41D5-860F-61F4102D7C6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F41-3395-4090-9851-C7B820ADC9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26960" y="3200400"/>
            <a:ext cx="695484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907640" y="4508640"/>
            <a:ext cx="5288040" cy="1944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 подготов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9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ршинов Александ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">
            <a:hlinkClick r:id="rId2"/>
          </p:cNvPr>
          <p:cNvSpPr/>
          <p:nvPr/>
        </p:nvSpPr>
        <p:spPr>
          <a:xfrm>
            <a:off x="5143680" y="6477120"/>
            <a:ext cx="75960" cy="355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355320"/>
              <a:gd name="textAreaBottom" fmla="*/ 351720 h 35532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главл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Силы в природ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Закон всемирного тягот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Скорость падающих те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витац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авда ли?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 по теме, но кое что интересное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лы в природ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68360" y="1773360"/>
            <a:ext cx="4680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торому закону Ньютона причиной изменения движения, т. е. причиной ускорения тел, является сила. В механике рассматриваются силы различной физической природы. Многие механические явления и процессы определяются действием сил тягот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ующие годы Ньютон пытался найти физическое объяснение законам движения планет . Таким образом Ньютон открыл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кон всемирного тягот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4762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6374520" y="6491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аак Нью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189080" y="60930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кон всемирного тягот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319480" y="265572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68360" y="1628640"/>
            <a:ext cx="33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 всемирного тяготения был открыт И. Ньютоном в 1682 году. Еще в 1665 году 23-летний Ньютон высказал предположение, что силы, удерживающие Луну на ее орбите, той же природы, что и силы, заставляющие яблоко падать на Землю. По его гипотезе между всеми телами Вселенной действуют силы притяжения (гравитационные силы), направленные по линии, соединяющей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нтры ма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571920" cy="1904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5003640" y="4149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нтр мас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ентр инерции, геометрическая точка, положение которой характеризует распределение масс в теле или механическ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0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84780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1"/>
          <p:cNvSpPr/>
          <p:nvPr/>
        </p:nvSpPr>
        <p:spPr>
          <a:xfrm>
            <a:off x="7021800" y="62373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корость падающих те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95280" y="14842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витация была первым взаимодействием, описанным математической теорией. В античные времена Аристотель считал, что объекты с разной массой падают с разной скоростью. Только много позже Галилео Галилей экспериментально определил, что это не так — если сопротивление воздуха устраняется, все тела ускоряются одинак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Безымянный"/>
          <p:cNvPicPr/>
          <p:nvPr/>
        </p:nvPicPr>
        <p:blipFill>
          <a:blip r:embed="rId1"/>
          <a:stretch/>
        </p:blipFill>
        <p:spPr>
          <a:xfrm>
            <a:off x="250920" y="3573360"/>
            <a:ext cx="3887640" cy="28004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395280" y="63817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противление воздуха устраня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9" descr="1пааааааааа"/>
          <p:cNvPicPr/>
          <p:nvPr/>
        </p:nvPicPr>
        <p:blipFill>
          <a:blip r:embed="rId2"/>
          <a:stretch/>
        </p:blipFill>
        <p:spPr>
          <a:xfrm>
            <a:off x="4788000" y="3500280"/>
            <a:ext cx="4019400" cy="2880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0"/>
          <p:cNvSpPr/>
          <p:nvPr/>
        </p:nvSpPr>
        <p:spPr>
          <a:xfrm>
            <a:off x="4767120" y="6329520"/>
            <a:ext cx="39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а сопротивления воздуха останавливает самолёт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8102880" y="6491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равитац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95280" y="981000"/>
            <a:ext cx="842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ие космические объекты — планеты, звезды и галактики имеют огромную массу и, следовательно, создают значительные гравитационные поля. Гравитация — слабейшее взаимодействие. Однако, поскольку оно действует на любых расстояниях и все массы положительны, это тем не менее очень важная сила во Вселенной. Для сравнения: полный электрический заряд этих тел ноль, так как вещество в целом электрически нейтрально. Также гравитация, в отличие от других взаимодействий, универсальна в действии на всю материю и энергию. Не обнаружены объекты, у которых вообще отсутствовало бы гравитационное взаимодейств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-за глобального характера гравитация ответственна и за такие крупномасштабные эффекты, как структура галактик, черные дыры и расширение Вселенной, и за элементарные астрономические явления — орбиты планет, и за простое притяжение к поверхности Земли и падения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684360" y="4025880"/>
            <a:ext cx="4608360" cy="26924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558000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планеты обращаются вокруг Солнца в одном направлении. Это движение именуется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ям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7886880" y="63086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ьютон вычислил дату конца све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55640" y="981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ий британский ученый Исаак Ньютон, отец современной физики и астрономии, предсказал, что конец света произойдет в 2060 году, в письме 1704 года, которое представлено на выставке Секреты Ньютона в Иерусали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826920" y="2133720"/>
            <a:ext cx="784872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славленный рационалист, боровшийся за отделение власти от церкви, что было традиционным для его современников, в своем предсказании, тем не менее, базировался на библейском текст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ссматривая фрагменты библейской Книги пророка Даниила, ученый, открывший закон всемирного тяготения, пришел к выводу, что человечеству отпущен срок 1260 лет после образования империи франков Карлом Великим в 800 году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укопись, представленная на выставке, открывшейся в Древнееврейском университете Иерусалима, является одной из многочисленных записей Ньютона, предоставленных одним из коллекционеров научных трудо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В университете сообщили, что в последний раз это письм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монстрировалось в 1969 году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я в конце XVII столетия в Кембриджск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ниверситете, Ньютон сделал ряд важнейш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крытий в области физи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нако ученый увлекал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же теологией и алхим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780000" y="6491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672000" cy="20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5"/>
          <p:cNvSpPr txBox="1"/>
          <p:nvPr/>
        </p:nvSpPr>
        <p:spPr>
          <a:xfrm>
            <a:off x="1187280" y="1700280"/>
            <a:ext cx="6696360" cy="32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End 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13:47Z</dcterms:created>
  <dc:creator>а</dc:creator>
  <dc:description/>
  <dc:language>en-US</dc:language>
  <cp:lastModifiedBy>User</cp:lastModifiedBy>
  <dcterms:modified xsi:type="dcterms:W3CDTF">2014-10-20T08:36:50Z</dcterms:modified>
  <cp:revision>11</cp:revision>
  <dc:subject/>
  <dc:title>Закон всемирного тягот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3000000000001024140</vt:lpwstr>
  </property>
</Properties>
</file>