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020A-7ED5-453C-8C78-E5308672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DB4D-E65B-4D5F-80A4-CB142915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39E-936A-4054-AE86-B22C6958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9441-F466-4E4B-BD39-946EB61E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F0D9-470A-447B-8627-A514DB80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B57F-350E-4D1A-AFBC-7487B128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522D-230B-4039-8F28-481B227B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66A2-CB40-4694-9605-532507C6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181E-A47A-4933-812E-95F62047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7BE6-D5AB-4B3A-B906-2D86750F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BF8E-06A3-4C25-8309-19906D52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CEBE-6BA5-4088-B756-73434C51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D6C8-E47A-451E-BED8-DFDAF078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AFC6-FEE2-4F84-97D9-1BB15E64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F6E7-9044-48A0-A12A-F27772C2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4CBD-8EFE-425C-B0FD-16F57556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AE67-74AB-4C98-B232-C73D3778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F195A-F27F-444A-B12B-726ADA4B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2328C-4A86-4E25-BED9-A0BFBE67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145C8-C768-4975-AA71-B8D77AF7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C92AE-2028-4B32-816C-6E5DCC38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E3BB3-78A1-473C-A6D2-0B82FA56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CFAA-398D-4F08-8254-EF8E9477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96B4A-64FA-4B60-A039-CE4713D3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2A87A-B133-4C18-A36C-C4C1351D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3CDEA-87BC-4CB1-9498-450480DB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DC4C3-B22C-46D2-95E6-4570A7C8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3E2A3-A054-40EC-8237-A90E44BA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F9DA4-9A9F-4C09-997F-52FAC1C0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B4ACC-EBE2-419F-97DE-AEC27428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EA548-5100-42D6-B52F-2BDC73D4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46BBE-A6F0-4D6A-A585-81B5191E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B5944-AACA-4603-813F-70B2D48D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4E77-659E-40CB-9BBC-E14249D9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FAF09-420D-46E7-84EB-7F3B2893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BC4D2-06F7-4BF4-8DA1-7932B64F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8A2B3-F2A3-431F-A695-970D89A5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CACA7-5DFA-4064-B434-C46FD54D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BBF61-C2BF-4D3C-B192-6E4C78BF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0DFAE-FBBB-40CE-A020-15B95BF7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61E4D-2E98-4511-8F69-58BBB81D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D042E-C6F7-4A54-811F-0C3DC971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4950A-7FB9-405F-9F96-2EC1F2FE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BE540-90C9-442B-871B-521AC27C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0E2-976A-46FA-BF9D-B692E800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C7FB2-38EA-4C24-85B7-C9664A0B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14FC2-395E-450A-8BDB-C5506E60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A07A2-FA91-433D-9881-1A1F5343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31849-D871-416C-A5A8-AE62D0E5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60B81-B962-4ACC-894D-E8F816DA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7A642-4C35-48DD-8C4D-1A8CB8BD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05B9F-04E0-4517-80C5-D5F9E440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33333-9E95-4431-9869-92543172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EF18C-C180-46B6-AE55-455EFDC0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907C1-07A2-4DCD-BFDE-78C8B38D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B2B-FD06-4E8F-A6E3-4ABB08FC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E1DB9-385A-4168-9B4F-26EF8A29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7BCFC-5787-4493-818A-57210AFD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13BE7-5AB3-48A2-BB2B-4CF45FD2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8F603-7DAD-4A6E-92E5-1D6B414A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30681-644B-44D4-B63C-666413EC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75544-5069-487E-9A3B-EE09A365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E653A-EA26-4DEA-B649-639599F8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EC516-FCCF-4AB8-817E-C4DFF882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A340B-52CE-4356-BFCE-C2A6D3A4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9DCCD-DB7B-4F9C-A478-12E27E28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4B7-5344-42C4-B111-216FE097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E0A8C-430A-499A-8FD8-E8F6C944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14004-D573-4F31-8D96-C1673591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DFF81-70EA-4D17-8384-2EAAACDE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F2996-1F0B-475E-BB4B-1075152F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6CC01-8930-4026-8EF2-9D0E3CC6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5FA33-46C3-4B29-A961-A678BBC0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2A6B1-2C9E-4E65-BA92-FF41D086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222F9-BE7D-4997-A422-0A3B777F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EA1AA-AC47-47A3-B349-C7FE5366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97EC6-A223-4201-9731-0AD76DFE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6BB6-7DA3-4E78-832A-725628E7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9ADC4-5FAF-46B5-A537-56E96B99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AFF1A-AC40-4EDC-8699-E3A1F066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F0F35-0D13-4851-9F94-B97E1767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2B9EE-ACF1-411E-8946-19B8FA6E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8AA5B-ED1D-4579-85BD-62E729A4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40F-D5C0-4749-B895-2C465266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ba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ba8a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ba8a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cba8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cba8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ba8a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ba8a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A99C-FBF3-49DF-B575-191BEF9EE0D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ba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ba8a"/>
                </a:solidFill>
                <a:latin typeface="Times New Roman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ba8a"/>
                </a:solidFill>
                <a:latin typeface="Times New Roman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d99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ba8a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ba8a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cba8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cba8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ba8a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ba8a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FB84-28CF-45C0-8F5A-49C5EE635F0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ba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ba8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ba8a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cba8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cba8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ba8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ba8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C23C-11A3-4A32-81D9-E5CFD65378D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ba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ba8a"/>
                </a:solidFill>
                <a:latin typeface="Times New Roman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ba8a"/>
              </a:solidFill>
              <a:latin typeface="Times New Roman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ba8a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ba8a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cba8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cba8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ba8a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ba8a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AAD8-B73F-4344-A0EF-0B7FCBA58CA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ba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ba8a"/>
                </a:solidFill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ba8a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cba8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cba8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ba8a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ba8a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ECEA-4F2D-4945-B375-2707FC16F6C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ba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ba8a"/>
                </a:solidFill>
                <a:latin typeface="Times New Roman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ba8a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cba8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cba8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ba8a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ba8a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21C8-ADBD-4F88-937F-B94107BDA76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ba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7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ba8a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ba8a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cba8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cba8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ba8a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ba8a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C7F8-F317-424D-9817-99F0F861388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1646280" y="2163600"/>
            <a:ext cx="7070760" cy="46944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C:\Documents and Settings\104\Рабочий стол\форум уроки\презенташка\physical-world-map.jpg"/>
          <p:cNvPicPr/>
          <p:nvPr/>
        </p:nvPicPr>
        <p:blipFill>
          <a:blip r:embed="rId2"/>
          <a:stretch/>
        </p:blipFill>
        <p:spPr>
          <a:xfrm>
            <a:off x="3276720" y="3789360"/>
            <a:ext cx="5306760" cy="26528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57120" y="428400"/>
            <a:ext cx="7786800" cy="60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rebuchet MS"/>
              </a:rPr>
              <a:t>  </a:t>
            </a:r>
            <a:r>
              <a:rPr b="1" lang="en-US" sz="3200" spc="-1" strike="noStrike">
                <a:solidFill>
                  <a:srgbClr val="002060"/>
                </a:solidFill>
                <a:latin typeface="Trebuchet MS"/>
              </a:rPr>
              <a:t>[æ] – Africa ['æfrɪkə]</a:t>
            </a:r>
            <a:endParaRPr b="0" lang="en-US" sz="3200" spc="-1" strike="noStrike">
              <a:solidFill>
                <a:srgbClr val="fcba8a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rebuchet MS"/>
              </a:rPr>
              <a:t>[ə] -  America [ə'merɪkə]</a:t>
            </a:r>
            <a:endParaRPr b="0" lang="en-US" sz="3200" spc="-1" strike="noStrike">
              <a:solidFill>
                <a:srgbClr val="fcba8a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rebuchet MS"/>
              </a:rPr>
              <a:t>[eɪ] - Asia  ['eɪʃə]</a:t>
            </a:r>
            <a:endParaRPr b="0" lang="en-US" sz="3200" spc="-1" strike="noStrike">
              <a:solidFill>
                <a:srgbClr val="fcba8a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rebuchet MS"/>
              </a:rPr>
              <a:t>[ɪə] – Australia [ɔs'treɪlɪə]</a:t>
            </a:r>
            <a:endParaRPr b="0" lang="en-US" sz="3200" spc="-1" strike="noStrike">
              <a:solidFill>
                <a:srgbClr val="fcba8a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rebuchet MS"/>
              </a:rPr>
              <a:t>  </a:t>
            </a:r>
            <a:r>
              <a:rPr b="1" lang="en-US" sz="3200" spc="-1" strike="noStrike">
                <a:solidFill>
                  <a:srgbClr val="002060"/>
                </a:solidFill>
                <a:latin typeface="Trebuchet MS"/>
              </a:rPr>
              <a:t>[ɑː] - Antarctic [ænt'ɑːktɪk] </a:t>
            </a:r>
            <a:endParaRPr b="0" lang="en-US" sz="3200" spc="-1" strike="noStrike">
              <a:solidFill>
                <a:srgbClr val="fcba8a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rebuchet MS"/>
              </a:rPr>
              <a:t>[aɪ] - China ['ʧaɪnə]</a:t>
            </a:r>
            <a:endParaRPr b="0" lang="en-US" sz="2800" spc="-1" strike="noStrike">
              <a:solidFill>
                <a:srgbClr val="fcba8a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rebuchet MS"/>
              </a:rPr>
              <a:t>[iː] - Egypt ['iːʤɪpt]</a:t>
            </a:r>
            <a:endParaRPr b="0" lang="en-US" sz="2800" spc="-1" strike="noStrike">
              <a:solidFill>
                <a:srgbClr val="fcba8a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[ɜ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MS Gothic"/>
              </a:rPr>
              <a:t>ː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]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  <a:ea typeface="Calibri"/>
              </a:rPr>
              <a:t> - </a:t>
            </a:r>
            <a:r>
              <a:rPr b="1" lang="en-US" sz="2800" spc="-1" strike="noStrike">
                <a:solidFill>
                  <a:srgbClr val="002060"/>
                </a:solidFill>
                <a:latin typeface="Trebuchet MS"/>
              </a:rPr>
              <a:t>Germany ['ʤɜːmənɪ]</a:t>
            </a:r>
            <a:endParaRPr b="0" lang="en-US" sz="2800" spc="-1" strike="noStrike">
              <a:solidFill>
                <a:srgbClr val="fcba8a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1" lang="en-US" sz="2800" spc="-1" strike="noStrike">
                <a:solidFill>
                  <a:srgbClr val="002060"/>
                </a:solidFill>
                <a:latin typeface="Trebuchet MS"/>
              </a:rPr>
              <a:t>[ju] - Europe ['juərəp]</a:t>
            </a:r>
            <a:endParaRPr b="0" lang="en-US" sz="2800" spc="-1" strike="noStrike">
              <a:solidFill>
                <a:srgbClr val="fcba8a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1" lang="en-US" sz="2800" spc="-1" strike="noStrike">
                <a:solidFill>
                  <a:srgbClr val="002060"/>
                </a:solidFill>
                <a:latin typeface="Trebuchet MS"/>
              </a:rPr>
              <a:t>[ɪ] - Italy ['ɪt(ə)lɪ]</a:t>
            </a:r>
            <a:endParaRPr b="0" lang="en-US" sz="2800" spc="-1" strike="noStrike">
              <a:solidFill>
                <a:srgbClr val="fcba8a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ba8a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ba8a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ba8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68360" y="189000"/>
            <a:ext cx="72388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What is the name of the planet we live on?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How many continents are there on it? What are they? 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How many oceans are there on our planet?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What separates the continents from each other?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What is the largest country in the world?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Could you name some countries in Europe?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Could you name some countries in Asia?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ba8a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What continent has only one country? 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What English-speaking countries do you know?</a:t>
            </a: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cba8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95280" y="1341000"/>
            <a:ext cx="777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1" i="1" lang="en-US" sz="2400" spc="-1" strike="noStrike">
                <a:solidFill>
                  <a:srgbClr val="002060"/>
                </a:solidFill>
                <a:latin typeface="Trebuchet MS"/>
              </a:rPr>
              <a:t>English        </a:t>
            </a:r>
            <a:endParaRPr b="0" lang="en-US" sz="24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rebuchet MS"/>
              </a:rPr>
              <a:t>French         </a:t>
            </a:r>
            <a:endParaRPr b="0" lang="en-US" sz="24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rebuchet MS"/>
              </a:rPr>
              <a:t>Spanish                  is the national language of …        </a:t>
            </a:r>
            <a:endParaRPr b="0" lang="en-US" sz="24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rebuchet MS"/>
              </a:rPr>
              <a:t>German       </a:t>
            </a:r>
            <a:endParaRPr b="0" lang="en-US" sz="24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rebuchet MS"/>
              </a:rPr>
              <a:t>Italian          </a:t>
            </a:r>
            <a:endParaRPr b="0" lang="en-US" sz="24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rebuchet MS"/>
              </a:rPr>
              <a:t>Russian  </a:t>
            </a:r>
            <a:endParaRPr b="0" lang="en-US" sz="24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rebuchet MS"/>
              </a:rPr>
              <a:t>Arabic     </a:t>
            </a:r>
            <a:endParaRPr b="0" lang="en-US" sz="24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ba8a"/>
              </a:solidFill>
              <a:latin typeface="Trebuchet MS"/>
            </a:endParaRPr>
          </a:p>
        </p:txBody>
      </p:sp>
      <p:sp>
        <p:nvSpPr>
          <p:cNvPr id="319" name="Правая фигурная скобка 3"/>
          <p:cNvSpPr/>
          <p:nvPr/>
        </p:nvSpPr>
        <p:spPr>
          <a:xfrm>
            <a:off x="2050920" y="907920"/>
            <a:ext cx="1297080" cy="3168720"/>
          </a:xfrm>
          <a:custGeom>
            <a:avLst/>
            <a:gdLst>
              <a:gd name="textAreaLeft" fmla="*/ 0 w 1297080"/>
              <a:gd name="textAreaRight" fmla="*/ 468360 w 1297080"/>
              <a:gd name="textAreaTop" fmla="*/ 33840 h 3168720"/>
              <a:gd name="textAreaBottom" fmla="*/ 313488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9"/>
                  <a:pt x="10800" y="737"/>
                </a:cubicBezTo>
                <a:lnTo>
                  <a:pt x="10800" y="10063"/>
                </a:lnTo>
                <a:cubicBezTo>
                  <a:pt x="10800" y="10432"/>
                  <a:pt x="16200" y="10800"/>
                  <a:pt x="21600" y="10800"/>
                </a:cubicBezTo>
                <a:cubicBezTo>
                  <a:pt x="16200" y="10800"/>
                  <a:pt x="10800" y="11169"/>
                  <a:pt x="10800" y="11537"/>
                </a:cubicBezTo>
                <a:lnTo>
                  <a:pt x="10800" y="20863"/>
                </a:lnTo>
                <a:cubicBezTo>
                  <a:pt x="10800" y="21232"/>
                  <a:pt x="5400" y="21600"/>
                  <a:pt x="0" y="21600"/>
                </a:cubicBezTo>
              </a:path>
            </a:pathLst>
          </a:custGeom>
          <a:noFill/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ba8a"/>
              </a:solidFill>
              <a:latin typeface="Times New Roman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2065320" y="261720"/>
            <a:ext cx="47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Finish the following sentences:</a:t>
            </a:r>
            <a:endParaRPr b="0" lang="en-US" sz="2800" spc="-1" strike="noStrike">
              <a:solidFill>
                <a:srgbClr val="fcba8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468360" y="907920"/>
          <a:ext cx="7488360" cy="5340600"/>
        </p:xfrm>
        <a:graphic>
          <a:graphicData uri="http://schemas.openxmlformats.org/drawingml/2006/table">
            <a:tbl>
              <a:tblPr/>
              <a:tblGrid>
                <a:gridCol w="2495520"/>
                <a:gridCol w="2496960"/>
                <a:gridCol w="2495880"/>
              </a:tblGrid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f1e8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18720">
                      <a:solidFill>
                        <a:srgbClr val="de9306"/>
                      </a:solidFill>
                    </a:lnB>
                    <a:solidFill>
                      <a:srgbClr val="ac66b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f1e8"/>
                          </a:solidFill>
                          <a:latin typeface="Times New Roman"/>
                          <a:ea typeface="Times New Roman"/>
                        </a:rPr>
                        <a:t>Capital</a:t>
                      </a: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18720">
                      <a:solidFill>
                        <a:srgbClr val="de9306"/>
                      </a:solidFill>
                    </a:lnB>
                    <a:solidFill>
                      <a:srgbClr val="ac66b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f1e8"/>
                          </a:solidFill>
                          <a:latin typeface="Times New Roman"/>
                          <a:ea typeface="Times New Roman"/>
                        </a:rPr>
                        <a:t>Nationality</a:t>
                      </a: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18720">
                      <a:solidFill>
                        <a:srgbClr val="de9306"/>
                      </a:solidFill>
                    </a:lnB>
                    <a:solidFill>
                      <a:srgbClr val="ac66bb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China </a:t>
                      </a: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1872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1872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1872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9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Washington, DC</a:t>
                      </a: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Italy</a:t>
                      </a: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Russian</a:t>
                      </a: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9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German</a:t>
                      </a: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Canberra</a:t>
                      </a: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84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Spanish (Spaniard)</a:t>
                      </a: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97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Ottawa</a:t>
                      </a: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ba8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e9306"/>
                      </a:solidFill>
                    </a:lnL>
                    <a:lnR w="5760">
                      <a:solidFill>
                        <a:srgbClr val="de9306"/>
                      </a:solidFill>
                    </a:lnR>
                    <a:lnT w="5760">
                      <a:solidFill>
                        <a:srgbClr val="de9306"/>
                      </a:solidFill>
                    </a:lnT>
                    <a:lnB w="5760">
                      <a:solidFill>
                        <a:srgbClr val="de9306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249120" y="237960"/>
            <a:ext cx="7772400" cy="123696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611280" y="1483920"/>
            <a:ext cx="6705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>
                <a:solidFill>
                  <a:srgbClr val="002060"/>
                </a:solidFill>
                <a:latin typeface="Bookman Old Style"/>
              </a:rPr>
              <a:t>Ex.: Hi, my name is Van Lee. I’m from Vietnam. I’m Vietnamese. My language is Vietnamese.</a:t>
            </a:r>
            <a:r>
              <a:rPr b="1" i="1" sz="20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sz="20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sz="20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sz="20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sz="20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sz="20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sz="20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sz="28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i="1" sz="2400" spc="-1" strike="noStrike">
                <a:solidFill>
                  <a:srgbClr val="002060"/>
                </a:solidFill>
                <a:latin typeface="Bookman Old Style"/>
              </a:rPr>
              <a:t>Pierre</a:t>
            </a:r>
            <a:r>
              <a:rPr b="1" lang="en-US" sz="2800" spc="-1" strike="noStrike">
                <a:solidFill>
                  <a:srgbClr val="fcba8a"/>
                </a:solidFill>
                <a:latin typeface="Trebuchet MS"/>
              </a:rPr>
              <a:t> </a:t>
            </a:r>
            <a:r>
              <a:rPr b="1" i="1" sz="2400" spc="-1" strike="noStrike">
                <a:solidFill>
                  <a:srgbClr val="002060"/>
                </a:solidFill>
                <a:latin typeface="Bookman Old Style"/>
              </a:rPr>
              <a:t>/ France</a:t>
            </a:r>
            <a:endParaRPr b="0" lang="en-US" sz="24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sz="2400" spc="-1" strike="noStrike">
                <a:solidFill>
                  <a:srgbClr val="002060"/>
                </a:solidFill>
                <a:latin typeface="Bookman Old Style"/>
              </a:rPr>
              <a:t>Kate/ Great Britain</a:t>
            </a:r>
            <a:endParaRPr b="0" lang="en-US" sz="24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sz="2400" spc="-1" strike="noStrike">
                <a:solidFill>
                  <a:srgbClr val="002060"/>
                </a:solidFill>
                <a:latin typeface="Bookman Old Style"/>
              </a:rPr>
              <a:t>Carmen / Spain</a:t>
            </a:r>
            <a:endParaRPr b="0" lang="en-US" sz="24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sz="2400" spc="-1" strike="noStrike">
                <a:solidFill>
                  <a:srgbClr val="002060"/>
                </a:solidFill>
                <a:latin typeface="Bookman Old Style"/>
              </a:rPr>
              <a:t>Ahmad / Egypt</a:t>
            </a:r>
            <a:endParaRPr b="0" lang="en-US" sz="24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sz="2400" spc="-1" strike="noStrike">
                <a:solidFill>
                  <a:srgbClr val="002060"/>
                </a:solidFill>
                <a:latin typeface="Bookman Old Style"/>
              </a:rPr>
              <a:t>Sara/ Canada</a:t>
            </a:r>
            <a:endParaRPr b="0" lang="en-US" sz="24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sz="2400" spc="-1" strike="noStrike">
                <a:solidFill>
                  <a:srgbClr val="002060"/>
                </a:solidFill>
                <a:latin typeface="Bookman Old Style"/>
              </a:rPr>
              <a:t>Hans / Germany</a:t>
            </a:r>
            <a:endParaRPr b="0" lang="en-US" sz="24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sz="2400" spc="-1" strike="noStrike">
                <a:solidFill>
                  <a:srgbClr val="002060"/>
                </a:solidFill>
                <a:latin typeface="Bookman Old Style"/>
              </a:rPr>
              <a:t>Lisa / Russia</a:t>
            </a:r>
            <a:endParaRPr b="0" lang="en-US" sz="24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2060"/>
                </a:solidFill>
                <a:latin typeface="Bookman Old Style"/>
              </a:rPr>
              <a:t>  </a:t>
            </a:r>
            <a:r>
              <a:rPr b="1" i="1" sz="2400" spc="-1" strike="noStrike">
                <a:solidFill>
                  <a:srgbClr val="002060"/>
                </a:solidFill>
                <a:latin typeface="Bookman Old Style"/>
              </a:rPr>
              <a:t>Monica / Italy</a:t>
            </a:r>
            <a:endParaRPr b="0" lang="en-US" sz="24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2060"/>
                </a:solidFill>
                <a:latin typeface="Bookman Old Style"/>
              </a:rPr>
              <a:t>  </a:t>
            </a:r>
            <a:r>
              <a:rPr b="1" i="1" sz="2400" spc="-1" strike="noStrike">
                <a:solidFill>
                  <a:srgbClr val="002060"/>
                </a:solidFill>
                <a:latin typeface="Bookman Old Style"/>
              </a:rPr>
              <a:t>Harry / the USA</a:t>
            </a:r>
            <a:endParaRPr b="0" lang="en-US" sz="2400" spc="-1" strike="noStrike">
              <a:solidFill>
                <a:srgbClr val="fcba8a"/>
              </a:solidFill>
              <a:latin typeface="Trebuchet MS"/>
            </a:endParaRPr>
          </a:p>
        </p:txBody>
      </p:sp>
    </p:spTree>
  </p:cSld>
  <p:transition>
    <p:cover dir="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6840" y="1599840"/>
            <a:ext cx="3521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002060"/>
                </a:solidFill>
                <a:latin typeface="Bookman Old Style"/>
              </a:rPr>
              <a:t>nadaca</a:t>
            </a:r>
            <a:endParaRPr b="0" lang="en-US" sz="36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002060"/>
                </a:solidFill>
                <a:latin typeface="Bookman Old Style"/>
              </a:rPr>
              <a:t>ncerfa</a:t>
            </a:r>
            <a:endParaRPr b="0" lang="en-US" sz="36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002060"/>
                </a:solidFill>
                <a:latin typeface="Bookman Old Style"/>
              </a:rPr>
              <a:t>ssirua</a:t>
            </a:r>
            <a:endParaRPr b="0" lang="en-US" sz="36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002060"/>
                </a:solidFill>
                <a:latin typeface="Bookman Old Style"/>
              </a:rPr>
              <a:t>yalti</a:t>
            </a:r>
            <a:endParaRPr b="0" lang="en-US" sz="36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002060"/>
                </a:solidFill>
                <a:latin typeface="Bookman Old Style"/>
              </a:rPr>
              <a:t>pyget</a:t>
            </a:r>
            <a:endParaRPr b="0" lang="en-US" sz="36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002060"/>
                </a:solidFill>
                <a:latin typeface="Bookman Old Style"/>
              </a:rPr>
              <a:t>nchai</a:t>
            </a:r>
            <a:endParaRPr b="0" lang="en-US" sz="36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002060"/>
                </a:solidFill>
                <a:latin typeface="Bookman Old Style"/>
              </a:rPr>
              <a:t>snipa</a:t>
            </a:r>
            <a:endParaRPr b="0" lang="en-US" sz="36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002060"/>
                </a:solidFill>
                <a:latin typeface="Bookman Old Style"/>
              </a:rPr>
              <a:t>aidin</a:t>
            </a:r>
            <a:endParaRPr b="0" lang="en-US" sz="36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ba8a"/>
              </a:solidFill>
              <a:latin typeface="Trebuchet MS"/>
            </a:endParaRPr>
          </a:p>
        </p:txBody>
      </p:sp>
    </p:spTree>
  </p:cSld>
  <p:transition>
    <p:cover dir="l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5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3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6480" y="353880"/>
            <a:ext cx="7772400" cy="13417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1785600" y="2000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002060"/>
                </a:solidFill>
                <a:latin typeface="Bookman Old Style"/>
              </a:rPr>
              <a:t>of China</a:t>
            </a:r>
            <a:endParaRPr b="0" lang="en-US" sz="28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002060"/>
                </a:solidFill>
                <a:latin typeface="Bookman Old Style"/>
              </a:rPr>
              <a:t>of Vietnam</a:t>
            </a:r>
            <a:endParaRPr b="0" lang="en-US" sz="28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002060"/>
                </a:solidFill>
                <a:latin typeface="Bookman Old Style"/>
              </a:rPr>
              <a:t>of France</a:t>
            </a:r>
            <a:endParaRPr b="0" lang="en-US" sz="28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002060"/>
                </a:solidFill>
                <a:latin typeface="Bookman Old Style"/>
              </a:rPr>
              <a:t>of Germany</a:t>
            </a:r>
            <a:endParaRPr b="0" lang="en-US" sz="28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002060"/>
                </a:solidFill>
                <a:latin typeface="Bookman Old Style"/>
              </a:rPr>
              <a:t>of India</a:t>
            </a:r>
            <a:endParaRPr b="0" lang="en-US" sz="28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002060"/>
                </a:solidFill>
                <a:latin typeface="Bookman Old Style"/>
              </a:rPr>
              <a:t>of the United States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002060"/>
                </a:solidFill>
                <a:latin typeface="Bookman Old Style"/>
              </a:rPr>
              <a:t>of Russia</a:t>
            </a:r>
            <a:endParaRPr b="0" lang="en-US" sz="2800" spc="-1" strike="noStrike">
              <a:solidFill>
                <a:srgbClr val="fcba8a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ba8a"/>
              </a:solidFill>
              <a:latin typeface="Trebuchet MS"/>
            </a:endParaRPr>
          </a:p>
        </p:txBody>
      </p:sp>
    </p:spTree>
  </p:cSld>
  <p:transition>
    <p:cover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1"/>
          <p:cNvSpPr/>
          <p:nvPr/>
        </p:nvSpPr>
        <p:spPr>
          <a:xfrm>
            <a:off x="1042920" y="162864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13f9a"/>
                </a:solidFill>
                <a:latin typeface="Times New Roman"/>
              </a:rPr>
              <a:t>THANK YOU</a:t>
            </a:r>
            <a:endParaRPr b="0" lang="en-US" sz="7200" spc="-1" strike="noStrike">
              <a:solidFill>
                <a:srgbClr val="fcba8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4-03-25T11:42:49Z</dcterms:modified>
  <cp:revision>187</cp:revision>
  <dc:subject/>
  <dc:title>Заголовок слайда отсутствует</dc:title>
</cp:coreProperties>
</file>