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4.wmf" ContentType="image/x-wmf"/>
  <Override PartName="/ppt/media/image27.png" ContentType="image/png"/>
  <Override PartName="/ppt/media/image12.wmf" ContentType="image/x-wmf"/>
  <Override PartName="/ppt/media/image5.jpeg" ContentType="image/jpeg"/>
  <Override PartName="/ppt/media/image8.jpeg" ContentType="image/jpeg"/>
  <Override PartName="/ppt/media/image29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16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3.png" ContentType="image/png"/>
  <Override PartName="/ppt/media/image10.jpeg" ContentType="image/jpeg"/>
  <Override PartName="/ppt/media/image14.png" ContentType="image/png"/>
  <Override PartName="/ppt/media/image17.png" ContentType="image/png"/>
  <Override PartName="/ppt/media/image19.jpeg" ContentType="image/jpeg"/>
  <Override PartName="/ppt/media/chimes.wav" ContentType="audio/x-wav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B24-6025-4853-832D-68342C13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6B3-5AC1-4D2B-8E01-FC40B7B4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568-0AA1-4520-AFD8-7EFAEBEA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0789-51E7-4EA8-9EDE-137AA4ED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9D8-93D2-455E-ABDC-61952333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CF4-2C53-48D5-8040-664C10EC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810-0B49-47EE-8FDF-7A20F9D2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6A8-6958-454F-A7BE-ACCCA206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D10-E5F8-42A3-9DCD-AA240A4B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B02-88A5-45F1-847F-EEDC8273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0D6-D016-4003-B3FF-25FFBFD4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83E-44EB-483B-BC0A-A264498C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23F3-B718-46F9-B46A-F90555181891}" type="slidenum">
              <a:rPr b="0" lang="en-US" sz="1400" spc="-1" strike="noStrike">
                <a:solidFill>
                  <a:srgbClr val="00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rono.info/img/pisateli/push_kipren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inderlibrary.files.wordpress.com/2011/10/d0bad180d18bd0bbd0bed0b2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12.nnm.ru/4/e/3/f/3/61d2dbd05cb11d0155586282a87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datai/literatura/Romantizm/0002-006-V.A.-ZHukovskij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-fotki.yandex.ru/get/4205/svetikhr.dc/0_35d7d_ccd05434_XL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academic.ru/pictures/enwiki/84/Taleoftsarsaltan2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kaz-pushkina.ru/ill/b_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inderlibrary.files.wordpress.com/2011/10/d0bad180d18bd0bbd0bed0b2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mir.ru/handlers/animg.ashx?id=4117091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www.dmir.ru/handlers/animg.ashx?id=4117091" TargetMode="External"/><Relationship Id="rId5" Type="http://schemas.openxmlformats.org/officeDocument/2006/relationships/image" Target="../media/image24.jpeg"/><Relationship Id="rId6" Type="http://schemas.openxmlformats.org/officeDocument/2006/relationships/hyperlink" Target="http://img0.liveinternet.ru/images/attach/b/3/27/452/27452764_1213814891_Kuindzhi_YEl_brus1908.jpg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hyperlink" Target="http://www.akulizm.ru/akula-v-literature/full/akula-tolstogo.jpg" TargetMode="External"/><Relationship Id="rId5" Type="http://schemas.openxmlformats.org/officeDocument/2006/relationships/image" Target="../media/image28.jpeg"/><Relationship Id="rId6" Type="http://schemas.openxmlformats.org/officeDocument/2006/relationships/hyperlink" Target="http://www.padabum.com/info/&#1061;&#1091;&#1076;&#1086;&#1078;&#1077;&#1089;&#1090;&#1074;&#1077;&#1085;&#1085;&#1072;&#1103;%20&#1083;&#1080;&#1090;&#1077;&#1088;&#1072;&#1090;&#1091;&#1088;&#1072;/&#1056;&#1091;&#1089;&#1089;&#1082;&#1072;&#1103;%20&#1082;&#1083;&#1072;&#1089;&#1089;&#1080;&#1095;&#1077;&#1089;&#1082;&#1072;&#1103;%20&#1087;&#1088;&#1086;&#1079;&#1072;/&#1058;&#1086;&#1083;&#1089;&#1090;&#1086;&#1081;%20&#1053;&#1080;&#1082;&#1086;&#1083;&#1072;&#1077;&#1074;&#1080;&#1095;%20&#1051;&#1077;&#1074;/&#1055;&#1088;&#1099;&#1078;&#1086;&#1082;%20%28&#1058;&#1086;&#1083;&#1089;&#1090;&#1086;&#1081;%20&#1053;&#1080;&#1082;&#1086;&#1083;&#1072;&#1077;&#1074;&#1080;&#1095;%20&#1051;&#1077;&#1074;%29.jpg" TargetMode="External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9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ffinity4you.dreamwidth.org/2010/01/11/" TargetMode="External"/><Relationship Id="rId3" Type="http://schemas.openxmlformats.org/officeDocument/2006/relationships/hyperlink" Target="http://affinity4you.dreamwidth.org/2010/01/11/" TargetMode="External"/><Relationship Id="rId4" Type="http://schemas.openxmlformats.org/officeDocument/2006/relationships/hyperlink" Target="http://biblioteka-g10.ucoz.ru/index/krylov_i_a/0-38" TargetMode="External"/><Relationship Id="rId5" Type="http://schemas.openxmlformats.org/officeDocument/2006/relationships/hyperlink" Target="http://tolstoy.lit-info.ru/review/tolstoy/007/619.htm" TargetMode="External"/><Relationship Id="rId6" Type="http://schemas.openxmlformats.org/officeDocument/2006/relationships/hyperlink" Target="http://900igr.net/fotografii/literatura/Romantizm/006-V.A.-ZHukovskij.html" TargetMode="External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rodigest.ru/?big_pict=1&amp;pict_id=102143" TargetMode="External"/><Relationship Id="rId3" Type="http://schemas.openxmlformats.org/officeDocument/2006/relationships/hyperlink" Target="http://www.prodigest.ru/?big_pict=1&amp;pict_id=102143" TargetMode="External"/><Relationship Id="rId4" Type="http://schemas.openxmlformats.org/officeDocument/2006/relationships/hyperlink" Target="http://www.prodigest.ru/?big_pict=1&amp;pict_id=102143" TargetMode="External"/><Relationship Id="rId5" Type="http://schemas.openxmlformats.org/officeDocument/2006/relationships/hyperlink" Target="http://www.prodigest.ru/?big_pict=1&amp;pict_id=102143" TargetMode="External"/><Relationship Id="rId6" Type="http://schemas.openxmlformats.org/officeDocument/2006/relationships/hyperlink" Target="http://turtleland.livejournal.com/" TargetMode="External"/><Relationship Id="rId7" Type="http://schemas.openxmlformats.org/officeDocument/2006/relationships/hyperlink" Target="http://turtleland.livejournal.com/" TargetMode="External"/><Relationship Id="rId8" Type="http://schemas.openxmlformats.org/officeDocument/2006/relationships/hyperlink" Target="http://turtleland.livejournal.com/" TargetMode="External"/><Relationship Id="rId9" Type="http://schemas.openxmlformats.org/officeDocument/2006/relationships/hyperlink" Target="http://www.teremok.in/" TargetMode="External"/><Relationship Id="rId10" Type="http://schemas.openxmlformats.org/officeDocument/2006/relationships/hyperlink" Target="http://www.teremok.in/Pisateli/Rus_Pisateli/Sbornik_pis/Zerkalo_obezjana.htm" TargetMode="External"/><Relationship Id="rId11" Type="http://schemas.openxmlformats.org/officeDocument/2006/relationships/hyperlink" Target="http://www.teremok.in/Pisateli/Rus_Pisateli/Sbornik_pis/Zerkalo_obezjana.htm" TargetMode="External"/><Relationship Id="rId12" Type="http://schemas.openxmlformats.org/officeDocument/2006/relationships/hyperlink" Target="http://www.teremok.in/Pisateli/Rus_Pisateli/Sbornik_pis/Zerkalo_obezjana.htm" TargetMode="External"/><Relationship Id="rId13" Type="http://schemas.openxmlformats.org/officeDocument/2006/relationships/hyperlink" Target="http://www.teremok.in/Pisateli/Rus_Pisateli/Sbornik_pis/Zerkalo_obezjana.htm" TargetMode="External"/><Relationship Id="rId14" Type="http://schemas.openxmlformats.org/officeDocument/2006/relationships/hyperlink" Target="http://www.teremok.in/Pisateli/Rus_Pisateli/Sbornik_pis/Zerkalo_obezjana.htm" TargetMode="External"/><Relationship Id="rId15" Type="http://schemas.openxmlformats.org/officeDocument/2006/relationships/hyperlink" Target="http://www.teremok.in/Pisateli/Rus_Pisateli/Sbornik_pis/Zerkalo_obezjana.htm" TargetMode="External"/><Relationship Id="rId16" Type="http://schemas.openxmlformats.org/officeDocument/2006/relationships/hyperlink" Target="http://www.teremok.in/Pisateli/Rus_Pisateli/Sbornik_pis/Zerkalo_obezjana.htm" TargetMode="External"/><Relationship Id="rId1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anais.info/art/taxonomy/term/228?page=6" TargetMode="External"/><Relationship Id="rId3" Type="http://schemas.openxmlformats.org/officeDocument/2006/relationships/hyperlink" Target="http://rusklarom.narod.ru/" TargetMode="External"/><Relationship Id="rId4" Type="http://schemas.openxmlformats.org/officeDocument/2006/relationships/hyperlink" Target="http://rusklarom.narod.ru/lermontov.htm" TargetMode="External"/><Relationship Id="rId5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6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7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8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9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0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1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2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3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4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5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6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7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8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9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rono.info/img/pisateli/push_kipren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900igr.net/datai/literatura/Romantizm/0002-006-V.A.-ZHukovskij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kinderlibrary.files.wordpress.com/2011/10/d0bad180d18bd0bbd0bed0b2.jpg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g12.nnm.ru/4/e/3/f/3/61d2dbd05cb11d0155586282a87.jpg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hyperlink" Target="http://kinderlibrary.files.wordpress.com/2011/10/d0bad180d18bd0bbd0bed0b2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hyperlink" Target="http://www.hrono.info/img/pisateli/push_kipren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hyperlink" Target="http://img12.nnm.ru/4/e/3/f/3/61d2dbd05cb11d0155586282a87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hyperlink" Target="http://900igr.net/datai/literatura/Romantizm/0002-006-V.A.-ZHukovskij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7280" y="2420640"/>
            <a:ext cx="4500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92000" y="404280"/>
            <a:ext cx="6335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3" name="" descr="Картинка 7 из 190637"/>
          <p:cNvPicPr/>
          <p:nvPr/>
        </p:nvPicPr>
        <p:blipFill>
          <a:blip r:embed="rId2"/>
          <a:stretch/>
        </p:blipFill>
        <p:spPr>
          <a:xfrm>
            <a:off x="0" y="0"/>
            <a:ext cx="4835520" cy="561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140360" y="2276640"/>
            <a:ext cx="4572000" cy="36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19080">
                  <a:solidFill>
                    <a:srgbClr val="3333cc"/>
                  </a:solidFill>
                  <a:custDash>
                    <a:ds d="100000" sp="1000"/>
                  </a:custDash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ликие </a:t>
            </a:r>
            <a:endParaRPr b="0" lang="en-US" sz="2400" spc="1" strike="noStrike">
              <a:ln cap="rnd" w="19080">
                <a:solidFill>
                  <a:srgbClr val="3333cc"/>
                </a:solidFill>
                <a:custDash>
                  <a:ds d="100000" sp="1000"/>
                </a:custDash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19080">
                  <a:solidFill>
                    <a:srgbClr val="3333cc"/>
                  </a:solidFill>
                  <a:custDash>
                    <a:ds d="100000" sp="1000"/>
                  </a:custDash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ие </a:t>
            </a:r>
            <a:endParaRPr b="0" lang="en-US" sz="2400" spc="1" strike="noStrike">
              <a:ln cap="rnd" w="19080">
                <a:solidFill>
                  <a:srgbClr val="3333cc"/>
                </a:solidFill>
                <a:custDash>
                  <a:ds d="100000" sp="1000"/>
                </a:custDash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19080">
                  <a:solidFill>
                    <a:srgbClr val="3333cc"/>
                  </a:solidFill>
                  <a:custDash>
                    <a:ds d="100000" sp="1000"/>
                  </a:custDash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сатели</a:t>
            </a:r>
            <a:endParaRPr b="0" lang="en-US" sz="2400" spc="1" strike="noStrike">
              <a:ln cap="rnd" w="19080">
                <a:solidFill>
                  <a:srgbClr val="3333cc"/>
                </a:solidFill>
                <a:custDash>
                  <a:ds d="100000" sp="1000"/>
                </a:custDash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Выбери  подходящее</a:t>
            </a:r>
            <a:r>
              <a:rPr b="0" lang="ru-RU" sz="4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Арина  Родионов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Тарханы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Евгений Онегин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Азбука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Ясная  Поля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Лицей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96" name="" descr="Картинка 3 из 843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3068640"/>
            <a:ext cx="236196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Выбери  подходящее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Петербургская  публичная  библиотек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Тарханы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Летний сад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Ясная  Поля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Азбука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Евгений  Онегин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99" name="" descr="Картинка 0 из 4514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500280"/>
            <a:ext cx="218772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0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Выбери  подходящее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Евгений  Онегин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Ясная  Поля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Тарханы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Азбука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Арина Родионов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Война и мир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02" name="" descr="Картинка 9 из 329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500280"/>
            <a:ext cx="201636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4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0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Выбери  подходящее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Ясная  Поля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Горные  вершины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Санкт – Петербургская  офицерская  школ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Арина  Родионов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Тарханы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05" name="" descr="Картинка 7 из 208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4076640"/>
            <a:ext cx="1998720" cy="234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4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Вспомни  подходящие строки  из  сказки  А.С.Пушкина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Три девицы под окном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Пряли поздно вечерком.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Кабы я была цар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Говорит одна дев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То на весь крещёный мир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Приготовила б я пир».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Кабы я была цар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Говорит её сестр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То на весь бы мир одна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аткала я полотна».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Кабы я была цар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Третья молвила сестр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Я б для батюшки-царя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Родила богатыря».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08" name="" descr="Картинка 72 из 75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1916280"/>
            <a:ext cx="5761080" cy="434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2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Вспомни  подходящие строки  из  сказки  А.С.Пушкина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«Ель растёт перед дворцом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А под ней хрустальный дом;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Белка там живёт ручная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Да затейница какая!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Белка песенки поёт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Да орешки всё грызёт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А орешки не простые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Всё скорлупки золотые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Ядра — чистый изумруд;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Слуги белку стерегут».</a:t>
            </a:r>
            <a:r>
              <a:rPr b="0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989000"/>
            <a:ext cx="6048360" cy="4278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0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Вспомни  подходящие строки  из  сказки  А.С.Пушкина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В синем небе звёзды блещут,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В синем море волны хлещут;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Туча по небу идёт,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Бочка по морю плывёт.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Словно горькая вдовица,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Плачет, бьётся в ней царица;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И растёт ребёнок там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Не по дням, а по часам».</a:t>
            </a: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4" name="" descr="Картинка 32 из 755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916280"/>
            <a:ext cx="6048360" cy="425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8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Times New Roman"/>
              </a:rPr>
              <a:t>Великий  баснописец</a:t>
            </a:r>
            <a:endParaRPr b="0" lang="en-US" sz="5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Кто не слыхал его живого слова,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Кто в жизни с ним не встретился своей?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Бессмертные творения Крылова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Мы с каждым годом любим все сильней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7" name="" descr="Картинка 0 из 4514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1989000"/>
            <a:ext cx="33750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Иван  Андреевич  Крылов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1908360" cy="178128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3348000" y="1989000"/>
            <a:ext cx="1557360" cy="16560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826920" y="3716280"/>
            <a:ext cx="1600200" cy="23623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5"/>
          <a:stretch/>
        </p:blipFill>
        <p:spPr>
          <a:xfrm>
            <a:off x="5076720" y="1989000"/>
            <a:ext cx="2881440" cy="187020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6"/>
          <a:stretch/>
        </p:blipFill>
        <p:spPr>
          <a:xfrm>
            <a:off x="3059280" y="4149720"/>
            <a:ext cx="1871640" cy="17589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7"/>
          <a:stretch/>
        </p:blipFill>
        <p:spPr>
          <a:xfrm>
            <a:off x="5364000" y="3860640"/>
            <a:ext cx="1729080" cy="15256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 flipV="1">
            <a:off x="2195640" y="3357720"/>
            <a:ext cx="3600360" cy="129528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43280" y="2492280"/>
            <a:ext cx="574560" cy="21600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4788000" y="4868640"/>
            <a:ext cx="576000" cy="14436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з  какой  басни эта   мораль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835280" y="2708280"/>
            <a:ext cx="61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Уж  сколько  раз  твердили  мир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Что  лесть  гнусна,  вред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о  только  всё  не  впр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И  в  сердце  льстец  всегда  отыщет  уголок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1557000"/>
            <a:ext cx="82818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Кто  хочет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зговаривать,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Тот  должен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ыговаривать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Всё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  и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нятно,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Чтоб  было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сем </a:t>
            </a: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 понятно!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3600360" cy="180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47640" y="69228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99"/>
                </a:solidFill>
                <a:latin typeface="Times New Roman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.А.Крылов 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 «Ворона  и Лисица»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32" name="Содержимое 10" descr="img8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71640" y="1916280"/>
            <a:ext cx="3782880" cy="44640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24" dur="indefinite" restart="never" nodeType="tmRoot">
          <p:childTnLst>
            <p:seq>
              <p:cTn id="725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9" dur="26720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з  какой  басни эта   мораль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7632720" cy="43275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116000" y="306864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«Чем кумушек считать  трудить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Не лучше  ль на себя,  кума,  оборотиться?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.А.Крылов 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 «Зеркало  и Обезьяна»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39" name="" descr="Зеркало и обезьяна. Басни Крылова"/>
          <p:cNvPicPr/>
          <p:nvPr/>
        </p:nvPicPr>
        <p:blipFill>
          <a:blip r:embed="rId2"/>
          <a:stretch/>
        </p:blipFill>
        <p:spPr>
          <a:xfrm>
            <a:off x="3348000" y="3068640"/>
            <a:ext cx="2571840" cy="19526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Зеркало и обезьяна. Басни Крылова"/>
          <p:cNvPicPr/>
          <p:nvPr/>
        </p:nvPicPr>
        <p:blipFill>
          <a:blip r:embed="rId3"/>
          <a:stretch/>
        </p:blipFill>
        <p:spPr>
          <a:xfrm>
            <a:off x="611280" y="1989000"/>
            <a:ext cx="2571480" cy="19526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Зеркало и обезьяна. Басни Крылова"/>
          <p:cNvPicPr/>
          <p:nvPr/>
        </p:nvPicPr>
        <p:blipFill>
          <a:blip r:embed="rId4"/>
          <a:stretch/>
        </p:blipFill>
        <p:spPr>
          <a:xfrm>
            <a:off x="6084720" y="4221000"/>
            <a:ext cx="2571840" cy="1952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з  какой  басни эта   мораль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7772400" cy="453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619280" y="314172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К несчастью, то  ж  бывает у  люде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Как  ни  полезна  вещь, -  цены  не  зная  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евежда  про неё свой  тол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всё  к  худу  клонит;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.А. Крылов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«Мартышка  и  Очки»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Кого  из великих  русских  писателей вы  вспомнили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47" name="" descr="Картинка 8 из 1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1916280"/>
            <a:ext cx="3063960" cy="40320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Картинка 8 из 19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1916280"/>
            <a:ext cx="3017880" cy="3970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Картинка 8 из 273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03640" y="2133720"/>
            <a:ext cx="252108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Лев  Николаевич  Толстой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53964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ОБЕЗЬЯНА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ПУШКА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АКУЛА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ШЛЯПА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АРТИЛЛЕРИСТ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4284720" y="1844640"/>
            <a:ext cx="3527280" cy="21877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1729080" cy="1506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684000" y="11970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4787640" y="112536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Картинка 1 из 9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765000"/>
            <a:ext cx="3305160" cy="42498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Картинка 3 из 12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48360" y="1628640"/>
            <a:ext cx="301788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К  какому  рассказу  относятся  эти  слова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3132000" y="2924280"/>
            <a:ext cx="38102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АКУЛА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ПУШКА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МАЛЬЧИК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КАПИТАН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МАЛЬЧИКИ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РУЖЬЁ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ОБЕЗЬЯНА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ШЛЯПА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Картинка 3 из 123"/>
          <p:cNvPicPr/>
          <p:nvPr/>
        </p:nvPicPr>
        <p:blipFill>
          <a:blip r:embed="rId4"/>
          <a:stretch/>
        </p:blipFill>
        <p:spPr>
          <a:xfrm>
            <a:off x="6588000" y="1268280"/>
            <a:ext cx="1724040" cy="230364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Картинка 1 из 99"/>
          <p:cNvPicPr/>
          <p:nvPr/>
        </p:nvPicPr>
        <p:blipFill>
          <a:blip r:embed="rId5"/>
          <a:stretch/>
        </p:blipFill>
        <p:spPr>
          <a:xfrm>
            <a:off x="179280" y="1197000"/>
            <a:ext cx="158436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65" dur="2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69" dur="2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73" dur="2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77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81" dur="2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85" dur="20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89" dur="20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93" dur="20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цениваем  свою  работу!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116000" y="2349360"/>
            <a:ext cx="4366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908000" y="2492280"/>
            <a:ext cx="640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не  было  интересно, у  меня  всё получилось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042920" y="3645000"/>
            <a:ext cx="57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692360" y="3716280"/>
            <a:ext cx="6624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не понравилось,  у  меня  всё  хорошо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042920" y="4869000"/>
            <a:ext cx="57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692360" y="4797360"/>
            <a:ext cx="6543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я  работа  может  быть  лучше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-171360"/>
            <a:ext cx="63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99"/>
                </a:solidFill>
                <a:latin typeface="Times New Roman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116000" y="692280"/>
            <a:ext cx="6695640" cy="4055400"/>
            <a:chOff x="1116000" y="692280"/>
            <a:chExt cx="6695640" cy="4055400"/>
          </a:xfrm>
        </p:grpSpPr>
        <p:grpSp>
          <p:nvGrpSpPr>
            <p:cNvPr id="51" name=""/>
            <p:cNvGrpSpPr/>
            <p:nvPr/>
          </p:nvGrpSpPr>
          <p:grpSpPr>
            <a:xfrm>
              <a:off x="1125360" y="692280"/>
              <a:ext cx="6676560" cy="4040640"/>
              <a:chOff x="1125360" y="692280"/>
              <a:chExt cx="6676560" cy="4040640"/>
            </a:xfrm>
          </p:grpSpPr>
          <p:sp>
            <p:nvSpPr>
              <p:cNvPr id="52" name=""/>
              <p:cNvSpPr/>
              <p:nvPr/>
            </p:nvSpPr>
            <p:spPr>
              <a:xfrm>
                <a:off x="4597200" y="995760"/>
                <a:ext cx="305280" cy="57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423600" y="1558440"/>
                <a:ext cx="17643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719880" y="1847880"/>
                <a:ext cx="408204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012400" y="2135520"/>
                <a:ext cx="2955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97200" y="2135520"/>
                <a:ext cx="3052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012400" y="2424600"/>
                <a:ext cx="2955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147120" y="2424600"/>
                <a:ext cx="28620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97200" y="2424600"/>
                <a:ext cx="3052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26200" y="2712960"/>
                <a:ext cx="3176280" cy="301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012400" y="3002040"/>
                <a:ext cx="295560" cy="57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147120" y="3002040"/>
                <a:ext cx="286200" cy="57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015440" y="3002040"/>
                <a:ext cx="305280" cy="57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25360" y="3564720"/>
                <a:ext cx="14590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147120" y="3564720"/>
                <a:ext cx="28620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015440" y="3564720"/>
                <a:ext cx="3052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12400" y="3854160"/>
                <a:ext cx="2955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47120" y="3854160"/>
                <a:ext cx="28620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015440" y="3854160"/>
                <a:ext cx="3052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12400" y="4141800"/>
                <a:ext cx="2955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15440" y="4141800"/>
                <a:ext cx="3052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012400" y="4430880"/>
                <a:ext cx="2955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721400" y="733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261960" y="15854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26520" y="18748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47800" y="18748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261960" y="21625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39280" y="24516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54480" y="27399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258560" y="3591720"/>
                <a:ext cx="18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25360" y="706320"/>
                <a:ext cx="8773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25360" y="706320"/>
                <a:ext cx="877320" cy="14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02680" y="70632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21760" y="692280"/>
                <a:ext cx="2862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288880" y="70632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125360" y="995760"/>
                <a:ext cx="34621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25360" y="995760"/>
                <a:ext cx="346212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597200" y="706320"/>
                <a:ext cx="0" cy="27504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97200" y="706320"/>
                <a:ext cx="9360" cy="27504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606560" y="981360"/>
                <a:ext cx="295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92760" y="706320"/>
                <a:ext cx="0" cy="27504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92760" y="706320"/>
                <a:ext cx="9720" cy="27504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125360" y="1269360"/>
                <a:ext cx="34621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25360" y="1269360"/>
                <a:ext cx="3462120" cy="1404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6560" y="1269360"/>
                <a:ext cx="276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06560" y="1269360"/>
                <a:ext cx="2768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25360" y="1558440"/>
                <a:ext cx="228888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25360" y="1558440"/>
                <a:ext cx="2288880" cy="14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23600" y="706320"/>
                <a:ext cx="0" cy="83772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23600" y="706320"/>
                <a:ext cx="9720" cy="83772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19880" y="706320"/>
                <a:ext cx="0" cy="83772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19880" y="706320"/>
                <a:ext cx="9360" cy="83772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015440" y="706320"/>
                <a:ext cx="0" cy="83772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15440" y="706320"/>
                <a:ext cx="9360" cy="83772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11000" y="706320"/>
                <a:ext cx="0" cy="83772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11000" y="706320"/>
                <a:ext cx="9720" cy="83772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87480" y="981360"/>
                <a:ext cx="19080" cy="59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83400" y="1008360"/>
                <a:ext cx="19080" cy="56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433320" y="1544040"/>
                <a:ext cx="17546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178960" y="706320"/>
                <a:ext cx="0" cy="83772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178960" y="706320"/>
                <a:ext cx="9360" cy="83772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125360" y="1847880"/>
                <a:ext cx="228888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25360" y="1847880"/>
                <a:ext cx="228888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414240" y="1544040"/>
                <a:ext cx="19080" cy="31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719880" y="157284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19880" y="157284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015440" y="157284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015440" y="157284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11000" y="157284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311000" y="157284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97200" y="157284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97200" y="157284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92760" y="157284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892760" y="157284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69240" y="1572840"/>
                <a:ext cx="19080" cy="28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6516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6516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6108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6108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7572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7572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6192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36192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4776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47760" y="706320"/>
                <a:ext cx="972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93396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933960" y="706320"/>
                <a:ext cx="972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2016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2016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50636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0636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33320" y="1833480"/>
                <a:ext cx="436860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79220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92200" y="706320"/>
                <a:ext cx="972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25360" y="2135520"/>
                <a:ext cx="8773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25360" y="2135520"/>
                <a:ext cx="877320" cy="14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2400" y="720720"/>
                <a:ext cx="0" cy="140040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012400" y="720720"/>
                <a:ext cx="9360" cy="1400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21760" y="2121120"/>
                <a:ext cx="28620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98240" y="720720"/>
                <a:ext cx="0" cy="140040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98240" y="720720"/>
                <a:ext cx="9720" cy="1400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07960" y="2135520"/>
                <a:ext cx="140184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07960" y="2135520"/>
                <a:ext cx="1401840" cy="14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10160" y="1860480"/>
                <a:ext cx="19080" cy="28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1544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1544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31100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11000" y="186048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9720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9720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927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892760" y="186048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1789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17896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4651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6516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6108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6108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7572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7572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36192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36192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6477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47760" y="186048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339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33960" y="186048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2201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2016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5063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50636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729240" y="2121120"/>
                <a:ext cx="407268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82840" y="1860480"/>
                <a:ext cx="19080" cy="28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25360" y="2424600"/>
                <a:ext cx="8773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25360" y="2424600"/>
                <a:ext cx="877320" cy="129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21760" y="2424600"/>
                <a:ext cx="267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21760" y="2424600"/>
                <a:ext cx="26712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07960" y="2424600"/>
                <a:ext cx="82980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07960" y="2424600"/>
                <a:ext cx="829800" cy="129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47120" y="706320"/>
                <a:ext cx="0" cy="170424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47120" y="706320"/>
                <a:ext cx="9720" cy="170424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56840" y="2410560"/>
                <a:ext cx="27648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23600" y="1860480"/>
                <a:ext cx="0" cy="5500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23600" y="1860480"/>
                <a:ext cx="9720" cy="5500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33320" y="2424600"/>
                <a:ext cx="115380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33320" y="2424600"/>
                <a:ext cx="1153800" cy="129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06560" y="2424600"/>
                <a:ext cx="276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06560" y="2424600"/>
                <a:ext cx="27684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125360" y="2712960"/>
                <a:ext cx="5911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25360" y="2712960"/>
                <a:ext cx="591120" cy="1404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726200" y="706320"/>
                <a:ext cx="0" cy="19918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726200" y="706320"/>
                <a:ext cx="9360" cy="19918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002680" y="2121120"/>
                <a:ext cx="19080" cy="605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8880" y="2149920"/>
                <a:ext cx="19080" cy="57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75080" y="706320"/>
                <a:ext cx="0" cy="19918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75080" y="706320"/>
                <a:ext cx="9360" cy="19918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860920" y="706320"/>
                <a:ext cx="0" cy="19918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60920" y="706320"/>
                <a:ext cx="9720" cy="19918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35560" y="2698200"/>
                <a:ext cx="142128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56840" y="2712960"/>
                <a:ext cx="257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156840" y="2712960"/>
                <a:ext cx="257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19880" y="2149920"/>
                <a:ext cx="0" cy="5482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19880" y="2149920"/>
                <a:ext cx="9360" cy="5482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15440" y="2149920"/>
                <a:ext cx="0" cy="5482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15440" y="2149920"/>
                <a:ext cx="9360" cy="5482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311000" y="2149920"/>
                <a:ext cx="0" cy="5482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311000" y="2149920"/>
                <a:ext cx="9720" cy="5482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87480" y="2149920"/>
                <a:ext cx="19080" cy="57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433320" y="2698200"/>
                <a:ext cx="14688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25360" y="3002040"/>
                <a:ext cx="5911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25360" y="3002040"/>
                <a:ext cx="59112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16480" y="2698200"/>
                <a:ext cx="19080" cy="316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01240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012400" y="272700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9824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98240" y="272700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7508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75080" y="272700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86092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60920" y="272700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735560" y="2987640"/>
                <a:ext cx="142128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156840" y="3002040"/>
                <a:ext cx="257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56840" y="3002040"/>
                <a:ext cx="2574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1988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19880" y="272700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33320" y="2987640"/>
                <a:ext cx="5911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24800" y="3002040"/>
                <a:ext cx="276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24800" y="3002040"/>
                <a:ext cx="27684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9720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97200" y="272700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20720" y="2987640"/>
                <a:ext cx="5817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83400" y="2149920"/>
                <a:ext cx="19080" cy="86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25360" y="3277080"/>
                <a:ext cx="8773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25360" y="3277080"/>
                <a:ext cx="87732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021760" y="3277080"/>
                <a:ext cx="267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021760" y="3277080"/>
                <a:ext cx="2671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307960" y="3277080"/>
                <a:ext cx="82980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07960" y="3277080"/>
                <a:ext cx="82980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56840" y="3277080"/>
                <a:ext cx="257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56840" y="3277080"/>
                <a:ext cx="2574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33320" y="3277080"/>
                <a:ext cx="57204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33320" y="3277080"/>
                <a:ext cx="57204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4024800" y="3277080"/>
              <a:ext cx="276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24800" y="3277080"/>
              <a:ext cx="276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25360" y="706320"/>
              <a:ext cx="0" cy="2844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25360" y="706320"/>
              <a:ext cx="9360" cy="28440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0000" y="706320"/>
              <a:ext cx="0" cy="2844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40000" y="706320"/>
              <a:ext cx="9720" cy="28440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26200" y="3014640"/>
              <a:ext cx="0" cy="53568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26200" y="3014640"/>
              <a:ext cx="9360" cy="5356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02680" y="3014640"/>
              <a:ext cx="19080" cy="56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8880" y="3014640"/>
              <a:ext cx="19080" cy="56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34720" y="3550320"/>
              <a:ext cx="144972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75080" y="3014640"/>
              <a:ext cx="0" cy="53568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75080" y="3014640"/>
              <a:ext cx="9360" cy="5356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84440" y="3565080"/>
              <a:ext cx="55332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84440" y="3565080"/>
              <a:ext cx="55332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57200" y="3565080"/>
              <a:ext cx="257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57200" y="3565080"/>
              <a:ext cx="257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33680" y="3565080"/>
              <a:ext cx="57204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33680" y="3565080"/>
              <a:ext cx="57204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24800" y="3565080"/>
              <a:ext cx="276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24800" y="3565080"/>
              <a:ext cx="276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16000" y="3550320"/>
              <a:ext cx="18720" cy="31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40000" y="3579480"/>
              <a:ext cx="0" cy="26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40000" y="3579480"/>
              <a:ext cx="972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26200" y="3579480"/>
              <a:ext cx="0" cy="26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26200" y="3579480"/>
              <a:ext cx="936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12400" y="3579480"/>
              <a:ext cx="0" cy="26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12400" y="3579480"/>
              <a:ext cx="936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98240" y="3579480"/>
              <a:ext cx="0" cy="26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98240" y="3579480"/>
              <a:ext cx="972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4720" y="3840120"/>
              <a:ext cx="144972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65360" y="3579480"/>
              <a:ext cx="1908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84440" y="3854520"/>
              <a:ext cx="55332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84440" y="3854520"/>
              <a:ext cx="55332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57200" y="3854520"/>
              <a:ext cx="257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57200" y="3854520"/>
              <a:ext cx="2574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33680" y="3854520"/>
              <a:ext cx="57204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33680" y="3854520"/>
              <a:ext cx="57204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24800" y="3854520"/>
              <a:ext cx="276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24800" y="3854520"/>
              <a:ext cx="276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25360" y="4142160"/>
              <a:ext cx="87732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25360" y="4142160"/>
              <a:ext cx="87732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21760" y="4142160"/>
              <a:ext cx="267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21760" y="4142160"/>
              <a:ext cx="26712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07960" y="4142160"/>
              <a:ext cx="82980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07960" y="4142160"/>
              <a:ext cx="82980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38120" y="2410920"/>
              <a:ext cx="19080" cy="17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57200" y="4129560"/>
              <a:ext cx="27648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14600" y="2437920"/>
              <a:ext cx="19080" cy="171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33680" y="4142160"/>
              <a:ext cx="57204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33680" y="4142160"/>
              <a:ext cx="57204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24800" y="4142160"/>
              <a:ext cx="276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24800" y="4142160"/>
              <a:ext cx="276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25360" y="4431240"/>
              <a:ext cx="87732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25360" y="4431240"/>
              <a:ext cx="87732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21760" y="4431240"/>
              <a:ext cx="267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21760" y="4431240"/>
              <a:ext cx="2671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07960" y="4431240"/>
              <a:ext cx="169740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07960" y="4431240"/>
              <a:ext cx="169740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05720" y="2727000"/>
              <a:ext cx="19080" cy="171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24800" y="4417200"/>
              <a:ext cx="29592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01640" y="2727000"/>
              <a:ext cx="19080" cy="171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25360" y="4719240"/>
              <a:ext cx="87732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25360" y="4719240"/>
              <a:ext cx="877320" cy="14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02680" y="3867120"/>
              <a:ext cx="19080" cy="86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21760" y="4706280"/>
              <a:ext cx="2862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8880" y="3867120"/>
              <a:ext cx="19080" cy="86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25360" y="3867120"/>
              <a:ext cx="1440" cy="86616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25360" y="3867120"/>
              <a:ext cx="9360" cy="8805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40000" y="3867120"/>
              <a:ext cx="1800" cy="86616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0000" y="3867120"/>
              <a:ext cx="9720" cy="8805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26200" y="3867120"/>
              <a:ext cx="1440" cy="86616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26200" y="3867120"/>
              <a:ext cx="9360" cy="8805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12400" y="473328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12400" y="4733280"/>
              <a:ext cx="936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98240" y="473328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98240" y="4733280"/>
              <a:ext cx="972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75080" y="3867120"/>
              <a:ext cx="1440" cy="86616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75080" y="3867120"/>
              <a:ext cx="9360" cy="8805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61280" y="3014640"/>
              <a:ext cx="1800" cy="17186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1280" y="3014640"/>
              <a:ext cx="9720" cy="1733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47480" y="4156560"/>
              <a:ext cx="1800" cy="57672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47480" y="4156560"/>
              <a:ext cx="9720" cy="5911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23960" y="4156560"/>
              <a:ext cx="1800" cy="57672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23960" y="4156560"/>
              <a:ext cx="9720" cy="5911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19880" y="3014640"/>
              <a:ext cx="1440" cy="17186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19880" y="3014640"/>
              <a:ext cx="9360" cy="1733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15440" y="4444200"/>
              <a:ext cx="1440" cy="28908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15440" y="4444200"/>
              <a:ext cx="9360" cy="3034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11000" y="4444200"/>
              <a:ext cx="1800" cy="28908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11000" y="4444200"/>
              <a:ext cx="9720" cy="3034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97560" y="3014640"/>
              <a:ext cx="1440" cy="17186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97560" y="3014640"/>
              <a:ext cx="9360" cy="1733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93120" y="3014640"/>
              <a:ext cx="1440" cy="17186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93120" y="3014640"/>
              <a:ext cx="9720" cy="1733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7932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7932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6552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6552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6108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6108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7572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7572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6228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228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48120" y="2150280"/>
              <a:ext cx="180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48120" y="2150280"/>
              <a:ext cx="972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34320" y="2150280"/>
              <a:ext cx="180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34320" y="2150280"/>
              <a:ext cx="972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2052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2052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0672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0672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92560" y="2150280"/>
              <a:ext cx="180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92560" y="2150280"/>
              <a:ext cx="972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07960" y="706320"/>
              <a:ext cx="549432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07960" y="706320"/>
              <a:ext cx="550368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02840" y="995760"/>
              <a:ext cx="2899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02840" y="995760"/>
              <a:ext cx="29088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2840" y="1269360"/>
              <a:ext cx="2899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2840" y="1269360"/>
              <a:ext cx="2908800" cy="14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88680" y="1558440"/>
              <a:ext cx="26136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88680" y="1558440"/>
              <a:ext cx="262296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02280" y="184788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02280" y="1847880"/>
              <a:ext cx="936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02280" y="213588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2280" y="2135880"/>
              <a:ext cx="936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02840" y="2424960"/>
              <a:ext cx="2899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02840" y="2424960"/>
              <a:ext cx="290880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02840" y="2712960"/>
              <a:ext cx="2899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840" y="2712960"/>
              <a:ext cx="2908800" cy="14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02840" y="3002040"/>
              <a:ext cx="2899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02840" y="3002040"/>
              <a:ext cx="29088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20720" y="3277080"/>
              <a:ext cx="348156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20720" y="3277080"/>
              <a:ext cx="349092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20720" y="3565080"/>
              <a:ext cx="348156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20720" y="3565080"/>
              <a:ext cx="349092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20720" y="3854520"/>
              <a:ext cx="348156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20720" y="3854520"/>
              <a:ext cx="349092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20720" y="4142160"/>
              <a:ext cx="348156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20720" y="4142160"/>
              <a:ext cx="349092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20720" y="4431240"/>
              <a:ext cx="348156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20720" y="4431240"/>
              <a:ext cx="349092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07960" y="4719240"/>
              <a:ext cx="549432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07960" y="4719240"/>
              <a:ext cx="5503680" cy="14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900000" y="35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59280" y="2120760"/>
            <a:ext cx="41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По горизонтали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: </a:t>
            </a:r>
            <a:r>
              <a:rPr b="1" lang="ru-RU" sz="1800" spc="-1" strike="noStrike" u="sng">
                <a:solidFill>
                  <a:srgbClr val="222268"/>
                </a:solidFill>
                <a:uFillTx/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222268"/>
                </a:solidFill>
                <a:latin typeface="Times New Roman"/>
              </a:rPr>
              <a:t>Чувство, которое вы испытывали при чтении стихов М.Ю.Лермонто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2.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 баснях рассказывается о недостатках людей не прямо,…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aa168e"/>
                </a:solidFill>
                <a:uFillTx/>
                <a:latin typeface="Times New Roman"/>
              </a:rPr>
              <a:t>3.</a:t>
            </a:r>
            <a:r>
              <a:rPr b="0" lang="ru-RU" sz="1800" spc="-1" strike="noStrike">
                <a:solidFill>
                  <a:srgbClr val="aa168e"/>
                </a:solidFill>
                <a:latin typeface="Times New Roman"/>
              </a:rPr>
              <a:t>Назовите язык, которым первым овладел А.С.Пушкин.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4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Небольшое произведение, написанное стихами или прозой, в котором высмеиваются пороки и недостатки людей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1964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3528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9564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25653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8472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5928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4836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3564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24360" y="17002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0072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17002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7708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16436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5164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9564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0836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1964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32000" y="256536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5600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4328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68360" y="256536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7964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9236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9564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0836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5928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79640" y="198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79640" y="2276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8472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342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03280" y="342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92360" y="342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68360" y="342900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79640" y="28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79640" y="3141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79640" y="342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79640" y="3716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400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79640" y="429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25653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2276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0" y="836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32000" y="37227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32000" y="34290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32000" y="314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59280" y="285264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32000" y="22766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3716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400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342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95640" y="3141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95640" y="28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112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198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8920" y="5118120"/>
            <a:ext cx="87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По вертикали</a:t>
            </a:r>
            <a:r>
              <a:rPr b="1" i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.</a:t>
            </a:r>
            <a:r>
              <a:rPr b="0" i="1" lang="ru-RU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Русский поэт. Учился в Московском университете. Окончил Санкт-Петербургскую школу гвардейских прапорщиков и кавалерийских юнкер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62673"/>
                </a:solidFill>
                <a:uFillTx/>
                <a:latin typeface="Times New Roman"/>
              </a:rPr>
              <a:t>6.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</a:rPr>
              <a:t> У этого поэта была любимая няня, о которой знают вс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7.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Этот писатель переводил стихи и прозу, великолепно знал литературу, интересовался театр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62626"/>
                </a:solidFill>
                <a:uFillTx/>
                <a:latin typeface="Times New Roman"/>
              </a:rPr>
              <a:t>8.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Многие его рассказы и басни вошли в его же книгу «Азбук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Дома: 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написать  письмо  в прошлое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«За  что  я  бы поблагодарил  великих  русских  писателей?»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55640" y="620640"/>
            <a:ext cx="770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агодарю за  сотрудничество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6" name="" descr="Картинка 7 из 190637"/>
          <p:cNvPicPr/>
          <p:nvPr/>
        </p:nvPicPr>
        <p:blipFill>
          <a:blip r:embed="rId3"/>
          <a:stretch/>
        </p:blipFill>
        <p:spPr>
          <a:xfrm>
            <a:off x="826920" y="2060640"/>
            <a:ext cx="3600720" cy="38005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3780000" y="4869000"/>
            <a:ext cx="187308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Список  использованных  источников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://affinity4you.dreamwidth.org/2010/01/11/</a:t>
            </a:r>
            <a:r>
              <a:rPr b="0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755640" y="256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biblioteka-g10.ucoz.ru/index/krylov_i_a/0-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4360" y="292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tolstoy.lit-info.ru/review/tolstoy/007/619.h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335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900igr.net/fotografii/literatura/Romantizm/006-V.A.-ZHukovskij.ht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4360" y="407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shop.armada.ru/genres/2038/?order=price&amp;way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ward&amp;page=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Список  использованных  источников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prodigest.ru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?big_pict=1&amp;pict_id=102143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826920" y="2779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turtleland.livejournal.co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01440" y="3284280"/>
            <a:ext cx="597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teremok.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›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isateli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…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pis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Zerkalo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obezjan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.h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00000" y="3460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huba-opt.ru/mail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huba-opt.ru/mail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16480" y="4076640"/>
            <a:ext cx="6662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99"/>
                </a:solidFill>
                <a:uFillTx/>
                <a:latin typeface="Times New Roman"/>
              </a:rPr>
              <a:t>http://www.baku.ru/frmpst-view.php?frmpst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99"/>
                </a:solidFill>
                <a:uFillTx/>
                <a:latin typeface="Times New Roman"/>
              </a:rPr>
              <a:t>id=15067781&amp;id=838860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4360" y="4941720"/>
            <a:ext cx="7489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akulizm.ru/akula-v-literature/akula-tolstogo.ht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Список  использованных  источников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611280" y="256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tanais.info/art/taxonomy/term/228?page=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17640" y="2060280"/>
            <a:ext cx="442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usklarom.narod.r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›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lermontov.ht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16000" y="256392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9280" y="3139200"/>
            <a:ext cx="75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padabum.com/download.php?url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=data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Художественная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литература/Русская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классическая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проза/ТолстойНиколаевич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Лев/Прыжок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ТолстойНиколаевич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 Лев).fb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Александр Сергеевич  Пушкин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Иван  Андреевич  Крылов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Михаил Юрьевич Лермонтов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Лев Николаевич Толстой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99"/>
                </a:solidFill>
                <a:latin typeface="Times New Roman"/>
              </a:rPr>
              <a:t>Великие русские  писатели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1297080" cy="11304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1297080" cy="11304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1297080" cy="11304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5"/>
          <a:stretch/>
        </p:blipFill>
        <p:spPr>
          <a:xfrm>
            <a:off x="755640" y="5157720"/>
            <a:ext cx="1297080" cy="1130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99"/>
                </a:solidFill>
                <a:latin typeface="Times New Roman"/>
              </a:rPr>
              <a:t>Узнай  портрет!</a:t>
            </a:r>
            <a:endParaRPr b="0" lang="en-US" sz="5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66" name="" descr="Картинка 3 из 843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557360"/>
            <a:ext cx="1917720" cy="234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485800" y="2349360"/>
            <a:ext cx="1935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Картинка 7 из 2081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1557360"/>
            <a:ext cx="1806480" cy="241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6374880" y="227664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Картинка 0 из 4514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3280" y="4221000"/>
            <a:ext cx="1949400" cy="23767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556000" y="4724280"/>
            <a:ext cx="19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И.А.Кры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Картинка 9 из 3290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4292640"/>
            <a:ext cx="1865160" cy="2305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6588720" y="4797360"/>
            <a:ext cx="1969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Л.Н.Толст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3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О ком  говорится?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Переводил стихи  и прозу,  великолепно  знал  литературу, интересовался  театром. Более тридцати  лет проработал  в Петербургской  публичной  библиотеке.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297080" cy="11304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Картинка 0 из 4514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4508640"/>
            <a:ext cx="1625760" cy="19810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359240" y="5465880"/>
            <a:ext cx="21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И.А.Кры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О ком  говорится?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Стихи он  начал  сочинять, когда  был  совсем маленьким. Его  первое  стихотворение  написано  по-французски.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297080" cy="11304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Картинка 3 из 843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4005360"/>
            <a:ext cx="1889280" cy="230508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352320" y="508464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         </a:t>
            </a: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О ком  говорится?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«Мы  даже устроили игру  в  муравейные братья ...  Я,  помню,  испытывал  особенное чувство  любви и умиления  и очень любил  эту  игру».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1439640" cy="12542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Картинка 9 из 329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4365720"/>
            <a:ext cx="1681200" cy="21603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782880" y="530064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Л.Н.Толст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              </a:t>
            </a: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О ком  говорится?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«Что же  мама  не  идёт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Ведь Мишель всё ждёт  и ждёт».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1440000" cy="125424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Картинка 7 из 208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3789360"/>
            <a:ext cx="1941840" cy="23050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487600" y="4890960"/>
            <a:ext cx="29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М.Ю. Лермо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5:57:43Z</dcterms:created>
  <dc:creator>Лариса</dc:creator>
  <dc:description>Use this template to create beautiful presentations using Nature's themes.</dc:description>
  <cp:keywords>exciting online presentation communicate impactful exchange information broadcast collaborate on-screen projector white</cp:keywords>
  <dc:language>en-US</dc:language>
  <cp:lastModifiedBy>рщь</cp:lastModifiedBy>
  <dcterms:modified xsi:type="dcterms:W3CDTF">2012-12-10T12:03:07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3 KMT Software, Inc.</vt:lpwstr>
  </property>
  <property fmtid="{D5CDD505-2E9C-101B-9397-08002B2CF9AE}" pid="3" name="Folder">
    <vt:lpwstr>Nature</vt:lpwstr>
  </property>
  <property fmtid="{D5CDD505-2E9C-101B-9397-08002B2CF9AE}" pid="4" name="Style">
    <vt:lpwstr>P</vt:lpwstr>
  </property>
  <property fmtid="{D5CDD505-2E9C-101B-9397-08002B2CF9AE}" pid="5" name="Template">
    <vt:lpwstr>Natural</vt:lpwstr>
  </property>
</Properties>
</file>