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5F2-2405-4196-92F5-4CCCE5C5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44D-B200-4061-8CC4-AC560EF1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EF9-FAA0-4F4C-A475-D3791AF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070-5C5C-4052-899D-0A2FFE63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D2D8-4B22-427B-AD2E-C82A3649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027-53DE-4F1F-95AB-2DA0CAB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89E-6C2B-409D-8829-07DBC48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6FC1-7609-4AF0-A220-D37DB47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FE9-F955-440B-A0C0-E93D8420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B1B9-4E94-4CBC-889E-B13C209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C96-4C75-4E42-BAC8-CC24D4E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BC5-B82B-48D3-97B1-E7E81681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A35-09B2-4C4C-9F00-DF72D2E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6656-4085-4D58-BBC8-7F2C6D21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A940-5340-429F-B96C-A5FFC9E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4301-B403-4B8A-B33B-818124A6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6E9-4A85-45F0-9A5D-25AB2AA8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555-DAE1-4A00-AF6B-3FA1090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B1C-0A09-4C8F-942D-76EF11B4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852-06F9-4A79-A51D-BF3C3B8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8A5-1A1D-47AB-BC09-6E8E106D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DDC-BAA1-4E80-84CE-58DB282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670-3969-42E2-A20D-BAD8B758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70D-6995-48D1-855B-D9C9ADB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416F-DF1B-4661-847D-76FCD903F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05A0-38C8-4F39-927C-48F6256CA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Викторина :</a:t>
            </a:r>
            <a:br>
              <a:rPr sz="72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«Что за прелесть эти сказки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...царевича в «Сказке о царе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...сватью в «Сказке о царе 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...королевича в «Сказке о мертвой царевне и семи богатырях»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... пса в «Сказке о    мертвой царев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...царя в «Сказке о золотом петушк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.. дядьку в «Сказке о царе Салта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2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Верните в сказку!»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запишите название сказки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br>
              <a:rPr sz="3500"/>
            </a:br>
            <a:r>
              <a:rPr b="0" lang="en-US" sz="55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55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-4391" r="0" b="14065"/>
          <a:stretch/>
        </p:blipFill>
        <p:spPr>
          <a:xfrm>
            <a:off x="1547640" y="0"/>
            <a:ext cx="6912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746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32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№ 3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«Узнай героя сказки!»</a:t>
            </a:r>
            <a:br>
              <a:rPr sz="72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напишите имя героя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1. Ломит он у дуба су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в тугой сгибает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лук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По-русски говорим мы с детств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Но волшебство знакомых с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ы обретаем, как наследств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В сиянье пушкинских стих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149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2. Ест за четверых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Работает з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семерых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3. Вся сияя, как зар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ихо встретил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царя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4. Торговали мы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ула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Чистым серебром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златом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5. Высока, стройна, бела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умом и всем взяла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елолица, черноброва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Нраву кротког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акого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4</a:t>
            </a: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Из одной ли мы сказки ?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( напишите «да» или «нет»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Царь Дадон и шамаханская цариц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Царевна Лебедь и семь богатырей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Королевич Елисей и мертвая царевн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5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Князь Гвидон и злая мачех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Попадья и золотая рыбк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Царь Салтан и тридцать три богатыря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Конкурс № 5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Тест для знатоков сказок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выберите и обведите букву правильного ответ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1. На какой срок нанялся Балда в услужение к поп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на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на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на г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2. Кто вел учет золотым орехам белочки в городе князя Гвидона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Дья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Счетов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Воево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Разминка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Узнай сказку!»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(</a:t>
            </a:r>
            <a:r>
              <a:rPr b="1" lang="en-US" sz="4400" spc="-1" strike="noStrike">
                <a:solidFill>
                  <a:srgbClr val="feec94"/>
                </a:solidFill>
                <a:latin typeface="바탕"/>
              </a:rPr>
              <a:t>напиши полное название сказки</a:t>
            </a: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)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022800"/>
            <a:ext cx="822960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3. Сколько дней царь Дадон пировал в шатре шамаханской царицы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д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4. На кого любили охотиться семь богатырей из «Сказки о мертвой царевне…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на серых волк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на серых уто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а диких кабан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5. Сколько раз старуха посылала старика к рыбке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четыр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я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шес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6. Чем Балда грозил чертям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веревко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кулак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тол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7. Как иначе назван мудрец в «Сказке о золотом петушке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астроном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учены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звездоч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8. От чего умерла злая царица в «Сказке о мертвой царевне..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т зло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от тос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от зави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9. Что посылал князь Гвидон с корабельщиками царю Салтан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покло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риве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ьм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Спасибо за участие в литературной викторине:</a:t>
            </a:r>
            <a:br>
              <a:rPr sz="6600"/>
            </a:b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«О, сколько нам открытий чудных…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2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3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3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9360" y="333360"/>
            <a:ext cx="6578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4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343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5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1160" y="765000"/>
            <a:ext cx="7278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1.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«Как звали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  героя  сказки 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바탕"/>
              </a:rPr>
              <a:t>( напиши имя героя сказки)</a:t>
            </a: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1:46:12Z</dcterms:created>
  <dc:creator>User</dc:creator>
  <dc:description/>
  <dc:language>en-US</dc:language>
  <cp:lastModifiedBy>User</cp:lastModifiedBy>
  <dcterms:modified xsi:type="dcterms:W3CDTF">2012-08-16T09:06:38Z</dcterms:modified>
  <cp:revision>10</cp:revision>
  <dc:subject/>
  <dc:title>Викторина : «Что за прелесть  эти сказки?»</dc:title>
</cp:coreProperties>
</file>