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F56-CB8D-4357-90E1-72E59093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42B-7802-4D99-A07B-3278126E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9CF-1FC8-4E7D-AEC8-64C2B738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98B-4E2A-4228-991D-A20AF5CD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9F1-11BE-428C-9261-27499A7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11-176A-4BA5-AD07-3980E552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F7D-86B3-4227-B097-4744CFA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E80-DB3B-4C25-826B-1D2477D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937-AC06-4851-A22E-FB70C67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A61-3EF0-4A47-908E-B3FD65E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471-0B61-4828-81DA-9C43F37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8AD-34B9-4C06-B5EB-D785E6B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FAF-7E96-4F30-A76D-7D474E62C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ungsuh"/>
                <a:ea typeface="Gungsuh"/>
              </a:rPr>
              <a:t>МБДОУ «Детский сад № 11» г. Канаш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8000" spc="-1" strike="noStrike">
                <a:solidFill>
                  <a:srgbClr val="ff0000"/>
                </a:solidFill>
                <a:latin typeface="Arial"/>
                <a:ea typeface="FrankRuehl"/>
              </a:rPr>
              <a:t>Зайчишка-зайка</a:t>
            </a:r>
            <a:br>
              <a:rPr sz="8000"/>
            </a:b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Автор: воспитатель Лебедева Светлана Николаевна</a:t>
            </a:r>
            <a:br>
              <a:rPr sz="24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 приложению 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«Лесной красавец  длинноухий заяц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тому, что лиса и волк охотятся на него, чтобы съ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megalife.com.ua/uploads/posts/2008-04/1207590010_h13f8fiu7t0p209cg58m40lwzimrb5ur_6.jpg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522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fs107.taba.ru/dev73/0/014/551/0014551757.fid.jpg"/>
          <p:cNvPicPr/>
          <p:nvPr/>
        </p:nvPicPr>
        <p:blipFill>
          <a:blip r:embed="rId3"/>
          <a:stretch/>
        </p:blipFill>
        <p:spPr>
          <a:xfrm>
            <a:off x="4284720" y="1628640"/>
            <a:ext cx="4645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46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быть незаметным заяц осенью и весной линяет – меняет цвет своей шку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www.kto-takoy.ru/wp-content/uploads/2010/03/00zayats2.jpg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он серенький и его трудно увидеть в л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www.sunhome.ru/UsersGallery/wallpapers/41/28102750.jpg"/>
          <p:cNvPicPr/>
          <p:nvPr/>
        </p:nvPicPr>
        <p:blipFill>
          <a:blip r:embed="rId2"/>
          <a:stretch/>
        </p:blipFill>
        <p:spPr>
          <a:xfrm>
            <a:off x="61128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он белый и его совсем не видно на сн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hq-oboi.ru/photo/belyy_zayac_1600x1200.jpg"/>
          <p:cNvPicPr/>
          <p:nvPr/>
        </p:nvPicPr>
        <p:blipFill>
          <a:blip r:embed="rId2"/>
          <a:stretch/>
        </p:blipFill>
        <p:spPr>
          <a:xfrm>
            <a:off x="468360" y="1484280"/>
            <a:ext cx="8172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йцы очень любят иг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coollady.ru/pic/0001/krolik/13.jpg"/>
          <p:cNvPicPr/>
          <p:nvPr/>
        </p:nvPicPr>
        <p:blipFill>
          <a:blip r:embed="rId2"/>
          <a:stretch/>
        </p:blipFill>
        <p:spPr>
          <a:xfrm>
            <a:off x="611280" y="1557360"/>
            <a:ext cx="78850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енький зайчонок рад встреч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 ма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wpapers.ru/wallpapers/animals/rabbits/1827/1280x960_%D0%97%D0%B0%D0%B9%D1%87%D0%B8%D1%85%D0%B0-%D1%81-%D0%B7%D0%B0%D0%B9%D1%87%D0%B5%D0%BD%D0%BA%D0%BE%D0%BC.jpg"/>
          <p:cNvPicPr/>
          <p:nvPr/>
        </p:nvPicPr>
        <p:blipFill>
          <a:blip r:embed="rId2"/>
          <a:stretch/>
        </p:blipFill>
        <p:spPr>
          <a:xfrm>
            <a:off x="46836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J0346439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енькие зайчата сидят тихо и ждут когда придет м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ttp://club.foto.ru/gallery/images/photo/2007/08/12/914338.jpg"/>
          <p:cNvPicPr/>
          <p:nvPr/>
        </p:nvPicPr>
        <p:blipFill>
          <a:blip r:embed="rId2"/>
          <a:stretch/>
        </p:blipFill>
        <p:spPr>
          <a:xfrm>
            <a:off x="611280" y="1484280"/>
            <a:ext cx="77914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инное ухо, комочек пуха, прыгает ловко, любит морко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img114.imageshack.us/img114/6353/rabbit012di.jpg"/>
          <p:cNvPicPr/>
          <p:nvPr/>
        </p:nvPicPr>
        <p:blipFill>
          <a:blip r:embed="rId2"/>
          <a:stretch/>
        </p:blipFill>
        <p:spPr>
          <a:xfrm>
            <a:off x="684360" y="1484280"/>
            <a:ext cx="7858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полю скачет – ушки пряч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нет столбом – ушки торч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zastavok.ru/wallpapers/783-1600x1200.jpg"/>
          <p:cNvPicPr/>
          <p:nvPr/>
        </p:nvPicPr>
        <p:blipFill>
          <a:blip r:embed="rId2"/>
          <a:stretch/>
        </p:blipFill>
        <p:spPr>
          <a:xfrm>
            <a:off x="46836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имой – белый, а летом - се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5552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5552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http://img1.liveinternet.ru/images/foto/b/3/606/2927606/f_18229904.jpg"/>
          <p:cNvPicPr/>
          <p:nvPr/>
        </p:nvPicPr>
        <p:blipFill>
          <a:blip r:embed="rId2"/>
          <a:stretch/>
        </p:blipFill>
        <p:spPr>
          <a:xfrm>
            <a:off x="179280" y="1773360"/>
            <a:ext cx="4464000" cy="508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o6oi.ru/main.php/171255-2/215.jpg"/>
          <p:cNvPicPr/>
          <p:nvPr/>
        </p:nvPicPr>
        <p:blipFill>
          <a:blip r:embed="rId3"/>
          <a:stretch/>
        </p:blipFill>
        <p:spPr>
          <a:xfrm>
            <a:off x="4427640" y="1773360"/>
            <a:ext cx="471636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070"/>
          <p:cNvPicPr/>
          <p:nvPr/>
        </p:nvPicPr>
        <p:blipFill>
          <a:blip r:embed="rId2"/>
          <a:stretch/>
        </p:blipFill>
        <p:spPr>
          <a:xfrm>
            <a:off x="1042920" y="1628640"/>
            <a:ext cx="6962760" cy="501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http://www.proxvost.info/animals/europe/images/european_hare/european_hare_800.jpg"/>
          <p:cNvPicPr/>
          <p:nvPr/>
        </p:nvPicPr>
        <p:blipFill>
          <a:blip r:embed="rId3"/>
          <a:stretch/>
        </p:blipFill>
        <p:spPr>
          <a:xfrm>
            <a:off x="1042920" y="1484280"/>
            <a:ext cx="71154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йчик живёт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gorinov.spb.ru/14zayac04.jpg"/>
          <p:cNvPicPr/>
          <p:nvPr/>
        </p:nvPicPr>
        <p:blipFill>
          <a:blip r:embed="rId2"/>
          <a:stretch/>
        </p:blipFill>
        <p:spPr>
          <a:xfrm>
            <a:off x="2340000" y="1504800"/>
            <a:ext cx="392436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ц живёт в норке, которую он роет сам. Так он прячется от врагов: лисы и в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&amp;Zcy;&amp;acy;&amp;yacy;&amp;tscy; &amp;rcy;&amp;ycy;&amp;zhcy;&amp;icy;&amp;jcy;"/>
          <p:cNvPicPr/>
          <p:nvPr/>
        </p:nvPicPr>
        <p:blipFill>
          <a:blip r:embed="rId1"/>
          <a:stretch/>
        </p:blipFill>
        <p:spPr>
          <a:xfrm>
            <a:off x="755640" y="1916280"/>
            <a:ext cx="7655040" cy="47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том заяц ест разную травку, яблоки, семена, ягоды, очень любит морковку и капус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onua.com.ua/uploads/posts/2009-02/1234472645_1-20.jpg"/>
          <p:cNvPicPr/>
          <p:nvPr/>
        </p:nvPicPr>
        <p:blipFill>
          <a:blip r:embed="rId2"/>
          <a:stretch/>
        </p:blipFill>
        <p:spPr>
          <a:xfrm>
            <a:off x="395280" y="1847880"/>
            <a:ext cx="820908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0346439"/>
          <p:cNvPicPr/>
          <p:nvPr/>
        </p:nvPicPr>
        <p:blipFill>
          <a:blip r:embed="rId1"/>
          <a:stretch/>
        </p:blipFill>
        <p:spPr>
          <a:xfrm>
            <a:off x="97164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имой заяц грызет кору дерев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vitusltd.ru/V-images/zajac_zima.jpg"/>
          <p:cNvPicPr/>
          <p:nvPr/>
        </p:nvPicPr>
        <p:blipFill>
          <a:blip r:embed="rId2"/>
          <a:stretch/>
        </p:blipFill>
        <p:spPr>
          <a:xfrm>
            <a:off x="1908000" y="1484280"/>
            <a:ext cx="57596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J0346439"/>
          <p:cNvPicPr/>
          <p:nvPr/>
        </p:nvPicPr>
        <p:blipFill>
          <a:blip r:embed="rId1"/>
          <a:stretch/>
        </p:blipFill>
        <p:spPr>
          <a:xfrm>
            <a:off x="-39672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йчика называют «трусишкой», он очень быстро бе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animalbox.ru/wp-content/uploads/2011/08/rusak_beg.jpg"/>
          <p:cNvPicPr/>
          <p:nvPr/>
        </p:nvPicPr>
        <p:blipFill>
          <a:blip r:embed="rId2"/>
          <a:stretch/>
        </p:blipFill>
        <p:spPr>
          <a:xfrm>
            <a:off x="395280" y="1557360"/>
            <a:ext cx="83120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лед зайца на снег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img-fotki.yandex.ru/get/3907/verasambros.55/0_38b33_df4c0164_XL"/>
          <p:cNvPicPr/>
          <p:nvPr/>
        </p:nvPicPr>
        <p:blipFill>
          <a:blip r:embed="rId2"/>
          <a:stretch/>
        </p:blipFill>
        <p:spPr>
          <a:xfrm>
            <a:off x="755640" y="1484280"/>
            <a:ext cx="76201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0346439"/>
          <p:cNvPicPr/>
          <p:nvPr/>
        </p:nvPicPr>
        <p:blipFill>
          <a:blip r:embed="rId1"/>
          <a:stretch/>
        </p:blipFill>
        <p:spPr>
          <a:xfrm>
            <a:off x="-39672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может быстро запутать свои сл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1.badfon.ru/image/22810-1920x1200.jpg"/>
          <p:cNvPicPr/>
          <p:nvPr/>
        </p:nvPicPr>
        <p:blipFill>
          <a:blip r:embed="rId2"/>
          <a:stretch/>
        </p:blipFill>
        <p:spPr>
          <a:xfrm>
            <a:off x="0" y="1484280"/>
            <a:ext cx="9072720" cy="519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2:33:36Z</dcterms:created>
  <dc:creator>Шаховская</dc:creator>
  <dc:description/>
  <dc:language>en-US</dc:language>
  <cp:lastModifiedBy>Владелец</cp:lastModifiedBy>
  <dcterms:modified xsi:type="dcterms:W3CDTF">2014-11-10T09:12:12Z</dcterms:modified>
  <cp:revision>45</cp:revision>
  <dc:subject/>
  <dc:title>Слайд 1</dc:title>
</cp:coreProperties>
</file>