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FF03-4645-48D9-81F0-50061B03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BE66-6E61-4C1D-82A2-237723B1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D5CC-1D98-405B-B2AF-5FF51DF6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8904-029C-432B-B1BA-934879C2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E30B-195F-4CD4-8494-793CF385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A048-58F5-498F-8F7C-FBEE5100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4E8E-7FF8-4A58-BA95-05134609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F8B0-0327-4B0A-B993-DF3788B1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0BA7-9436-4800-875D-262BE98F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2D04-8779-474E-9AF3-499966D0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9509-A21F-4CFD-997C-685C2136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57F4-A020-42AB-A42D-93E47B5C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10A5-9FC1-428C-83B6-0F3F9828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3310-FA7D-4FC4-B871-05DE3712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54D1-14AE-44FB-B3D2-43FC4F41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060C-FB1A-4862-AEEB-F440F1453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D545-1EBA-4C15-BDB7-088B1256A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ED9C4-3FC1-4673-868D-90A5A820F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F51BB-50EC-4B1E-BD28-8325FFFD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4984C-D79C-4D6D-9085-448F18D9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38EF3-6276-47F4-9196-18E6216D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4A57E-0511-4D0D-8784-CE9CD6EB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4FDC-8287-4DFE-B6AC-6DF4B7F6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4C06E-EB41-43AD-BC36-2E2C3E9D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58BAB-958D-4B7E-9627-692B7C77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9D9E4-9782-49F8-BB45-776E9D2F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CFE4F-3B15-467F-9B25-57B5B49D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09FCD-B342-4351-8BD0-0CC588C6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5A976-8E57-4BBE-BEF9-0AF69474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A1C1A-2AD9-4FF6-9E86-58C7C7DF5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095F-FAAB-4119-918C-D26E0870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4E11-05B6-4288-91B9-97547107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C217-22AB-43CA-9145-D7A641F5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696F-97F8-42BC-8262-C28DF966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481E-E567-4ADC-AD3E-7AFCECDE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57AA-3BD5-430C-85BC-05B1F72C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8DA3-1879-4535-860E-7579DEB54D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C8EE-5382-4763-910A-2F2136C7B6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пр42.png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B3BE-7537-4EDB-B6D4-74F627F65A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2268360" y="5157360"/>
            <a:ext cx="60487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тавитель воспитатель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арчукова О. А.</a:t>
            </a: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БДОУ детский сад КВ № 2 «Солнышк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116000" y="1361520"/>
            <a:ext cx="669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  <a:ea typeface="Times New Roman"/>
              </a:rPr>
              <a:t>Конспект родительского собрания по ПДД в старшем дошкольном возраст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99640" y="836640"/>
            <a:ext cx="7272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спитатель переключает канал. Выходят дети  и поют песню с призывом быть осторожными на дорогах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1258920" y="1341360"/>
            <a:ext cx="67690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2800" spc="-1" strike="noStrike">
                <a:solidFill>
                  <a:srgbClr val="984807"/>
                </a:solidFill>
                <a:latin typeface="Arial"/>
              </a:rPr>
              <a:t>Исполняется на мотив  "Пластилиновая ворона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C:\Documents and Settings\User\Рабочий стол\detskiy-hor_.jpg"/>
          <p:cNvPicPr/>
          <p:nvPr/>
        </p:nvPicPr>
        <p:blipFill>
          <a:blip r:embed="rId1"/>
          <a:stretch/>
        </p:blipFill>
        <p:spPr>
          <a:xfrm>
            <a:off x="1258920" y="2565360"/>
            <a:ext cx="6408720" cy="3672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ной известной сказкой, а может и не сказкой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правилах движения хотим мы рассказать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дь если их нарушишь – и в этом нет сомнения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ыть может очень плохо, что можно доказать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нажды чей-то мальчик, а может и не мальчик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может это девочка решила погулять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грала она в мячик, а может и не в мячик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может за котенком хотела побежат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 вот котенок глупый, а может и не глупый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может не котенок к дороге побежал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под машину девочка, а может быть и мальчик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ужасу прохожих немедленно … попал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дальше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листнём страницу, а может не страницу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может быть мы в окна все дружно прокричим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том, что у дороги нельзя играть и бегать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аче мы навеки быть может замолчим…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раль у этой сказки, а может и не сказки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ймет, конечно, каждый, кто хочет долго жить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дь правила движенья достойны уваженья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х помнить очень важно, их надо всем учить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новь переключают канал (домашнее задание родители и их дети обыгрывают проблемные ситуации на дорогах по очереди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2484360" y="1268280"/>
            <a:ext cx="451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Arial"/>
              </a:rPr>
              <a:t>Примерные ситуаци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1042920" y="2205000"/>
            <a:ext cx="7129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будет, если пешеходы начнут    переходить улицу, где им вздумае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будет, если на дороге убрать все дорожные зна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будет, если водитель не знает сигналы светофор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и другие ситуации на усмотрения родителей и воспитател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95640" y="1773000"/>
            <a:ext cx="493056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ДЕТИ ЧИТАЮТ СТИХ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99640" y="692280"/>
            <a:ext cx="72010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В.: Вот видите, насколько актуальна в наше время данная проблема, буквально на каждом канале транслируют моменты, касающиеся дорожно-транспортных происшеств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C:\Documents and Settings\User\Рабочий стол\974393809.jpg"/>
          <p:cNvPicPr/>
          <p:nvPr/>
        </p:nvPicPr>
        <p:blipFill>
          <a:blip r:embed="rId1"/>
          <a:stretch/>
        </p:blipFill>
        <p:spPr>
          <a:xfrm>
            <a:off x="1547640" y="2349360"/>
            <a:ext cx="5440680" cy="36036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900000" y="721800"/>
            <a:ext cx="720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езде и всюду правил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х надо знать всегд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ез них не выйдут в плаван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з гавани суд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ыходят в рейс по правила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ярник и пилот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вои имеют правил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Шофер и пешех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городу, по ули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ходят просто так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не знаешь правил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егко попасть впросак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время будь вниматель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помни наперед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вои имеют правил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Шофер и пешех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99640" y="620280"/>
            <a:ext cx="7272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В.: Давайте, будем внимательны на дорогах  и все будет у нас хорошо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На этом наше собрание подошло к концу. 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Спасибо за помощь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C:\Documents and Settings\User\Рабочий стол\521559eb376cd87d1b2ca51403f9bf9566fbd4.jpg"/>
          <p:cNvPicPr/>
          <p:nvPr/>
        </p:nvPicPr>
        <p:blipFill>
          <a:blip r:embed="rId1"/>
          <a:stretch/>
        </p:blipFill>
        <p:spPr>
          <a:xfrm>
            <a:off x="4859280" y="2781360"/>
            <a:ext cx="3392640" cy="3390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C:\Documents and Settings\User\Рабочий стол\p38_69.jpg"/>
          <p:cNvPicPr/>
          <p:nvPr/>
        </p:nvPicPr>
        <p:blipFill>
          <a:blip r:embed="rId2"/>
          <a:stretch/>
        </p:blipFill>
        <p:spPr>
          <a:xfrm>
            <a:off x="900000" y="2060640"/>
            <a:ext cx="3959280" cy="4176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 rot="21433200">
            <a:off x="1549080" y="1551960"/>
            <a:ext cx="6130800" cy="26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e46c0a"/>
                </a:solidFill>
                <a:latin typeface="Calibri"/>
              </a:rPr>
              <a:t>Спасибо</a:t>
            </a:r>
            <a:br>
              <a:rPr sz="6600"/>
            </a:br>
            <a:r>
              <a:rPr b="1" i="1" lang="ru-RU" sz="6600" spc="-1" strike="noStrike">
                <a:solidFill>
                  <a:srgbClr val="e46c0a"/>
                </a:solidFill>
                <a:latin typeface="Calibri"/>
              </a:rPr>
              <a:t>за внимание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699920"/>
            <a:ext cx="6913800" cy="28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Тема:</a:t>
            </a: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«Профилактика ДТП в дошкольном возрасте»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604836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Актуальность 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07640" y="1341000"/>
            <a:ext cx="62643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блема безопасности дорожного движения в современном мире является одной из достаточно важных проблем.  Скорость движения и количество машин на улицах и дорогах нашего города и страны быстро возрастают. Поэтому обеспечение безопасности движения становиться всё более важной  задачей. Особое значение в решении этой проблемы имеет заблаговременная и правильная подготовка самых маленьких наших пешеходов – дет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раннего детства необходимо прививать основы знаний ПДД. Правильное понимание и соблюдение дорожных знаков, разметки и основных положений Правил дорожного движения позволяют не только быть уверенным в себе пешеходом и водителем, это позволяет принять правильное решение в критической  ситуации на дорог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8000" y="1413000"/>
            <a:ext cx="871200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Цель: </a:t>
            </a:r>
            <a:br>
              <a:rPr sz="2800"/>
            </a:b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- 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заинтересовать родителей данной проблемой, учить анализировать свою воспитательную деятельность;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- сотрудничество, сотворчество и совместная деятельность сотрудников ДПС, воспитателей, родителей и  детей;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- привить детям устойчивые навыки безопасного поведения в любой дорожной ситу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560" y="1628640"/>
            <a:ext cx="7451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ИЗГОТОВЛЕНИЕ ПРИГЛАШЕНИЙ ДЛЯ РОДИТЕЛЕЙ С ДЕТЬМИ (ДЕТСКИЕ РИСУНКИ ПО ТЕМЕ «ПРАВИЛА ПОВЕДЕНИЯ НА ДОРОГАХ»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ДОМАШНЕЕ ЗАДАНИЕ ДЛЯ РОДИТЕЛЕЙ И ИХ ДЕТЕЙ: ПОДГОТОВИТЬ ПРОБЛЕМНУЮ СИТУАЦИЮ И ПОКАЗАТЬ ЕЕ НА СОБРАНИИ В ВИДЕ СЦЕНКИ (СЕМЬЕЙ)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ОФОРМЛЕНИЕ ЗАЛА ДЛЯ ПРОВЕДЕНИЯ РОДИТЕЛЬСКОГО СОБРАНИЯ ПО ДАННОЙ ТЕМЕ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ОФОРМЛЕНИЕ ВЫСТАВКИ ДЛЯ РОДИТЕЛЕЙ (РАЗЛИЧНАЯ ДЕТСКАЯ ХУДОЖЕСТВЕННАЯ ЛИТЕРАТУРА ПО ТЕМЕ, КОНСУЛЬТАЦИИ, ПАМЯТКИ, БУКЛЕТЫ, ДИДАКТИЧЕСКИЕ И ПОДВИЖНЫЕ ИГРЫ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71280" y="691920"/>
            <a:ext cx="719604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одготовка к родительскому собранию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91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Ход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дители и дети  усаживаются в зал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Calibri"/>
              </a:rPr>
              <a:t>Воспитатель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Здравствуйте, уважаемые родители! Сегодня на нашем собрании мы хотим затронуть очень актуальную для всех нас тему и надеемся, что ни один из вас не останется равнодуш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5" descr="C:\Documents and Settings\User\Рабочий стол\1356598565_1315409433_zimavprostokvashino.jpg"/>
          <p:cNvPicPr/>
          <p:nvPr/>
        </p:nvPicPr>
        <p:blipFill>
          <a:blip r:embed="rId1"/>
          <a:stretch/>
        </p:blipFill>
        <p:spPr>
          <a:xfrm>
            <a:off x="5076720" y="3716280"/>
            <a:ext cx="3672000" cy="3005280"/>
          </a:xfrm>
          <a:prstGeom prst="rect">
            <a:avLst/>
          </a:prstGeom>
          <a:ln w="0">
            <a:noFill/>
          </a:ln>
        </p:spPr>
      </p:pic>
      <p:sp>
        <p:nvSpPr>
          <p:cNvPr id="134" name="TextBox 9"/>
          <p:cNvSpPr/>
          <p:nvPr/>
        </p:nvSpPr>
        <p:spPr>
          <a:xfrm>
            <a:off x="250920" y="4653000"/>
            <a:ext cx="4465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редлагает посмотреть новости по телевизору (большая коробка или занавес в виде кинотеатра). Воспитатель усаживается в заранее приготовленное кресло, в руках у него огромный пульт (из коробки)). Включает местное телеви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2205000"/>
            <a:ext cx="50403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 экраном выдуманного телевизора появляется телеведущий с микрофоном (корреспондент) на заднем плане видны прохожие (дети).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3429000"/>
            <a:ext cx="8569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Корреспонден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- Статистика ДТП свидетельствует, что дети нередко оказываются в аварийных ситуациях на улицах и дорога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Одной из важных проблем в обеспечении безопасного дорожного движения является профилактика ДТП в дошкольных и школьных учреждени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Сейчас мы с вами находимся на улицах нашего города, а давайте узнаем у прохожих на сколько они владеют знаниями правил дорожного движ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5" descr="C:\Documents and Settings\User\Рабочий стол\89981442_0025025ZHurnalist.jpg"/>
          <p:cNvPicPr/>
          <p:nvPr/>
        </p:nvPicPr>
        <p:blipFill>
          <a:blip r:embed="rId1"/>
          <a:stretch/>
        </p:blipFill>
        <p:spPr>
          <a:xfrm>
            <a:off x="5508720" y="2276640"/>
            <a:ext cx="2139840" cy="1606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skazki-0036"/>
          <p:cNvPicPr/>
          <p:nvPr/>
        </p:nvPicPr>
        <p:blipFill>
          <a:blip r:embed="rId2"/>
          <a:stretch/>
        </p:blipFill>
        <p:spPr>
          <a:xfrm>
            <a:off x="6156360" y="836640"/>
            <a:ext cx="2566800" cy="187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8856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римерные вопросы и ответ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рреспондент обращается к детя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К.: Здравствуйте!</a:t>
            </a: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  Почему при переходе проезжей части взрослые должны крепко держать маленьких детей за руку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9900"/>
                </a:solidFill>
                <a:latin typeface="Calibri"/>
              </a:rPr>
              <a:t>Дети: Маленькие дети не умеют ориентироваться на дороге и в любой момент могут вырваться и побежа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К.: </a:t>
            </a: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Почему надо переходить дорогу по пешеходным переходам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Calibri"/>
              </a:rPr>
              <a:t>Д.: Водитель знает, что в этих местах разрешается движение пешеходов, он снижает скорость, более внимателен. Пешеход, который переходит дорогу не там, где положено, сам может пострадать, и мешает движению транспор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К.: </a:t>
            </a: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Почему нельзя переходить дорогу на красный или желтый сигнал светофор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Calibri"/>
              </a:rPr>
              <a:t>Д.: Когда для пешеходов включен красный, для водителей горит зеленый. Видя зеленый сигнал, водитель едет быстро, не ожидая появления пешеход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К.: Почему опасно играть рядом с дорогой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Calibri"/>
              </a:rPr>
              <a:t>Д.: Во время игры можно забыть об опасности, выбежать на дорогу и попасть под колеса автомобил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620280"/>
            <a:ext cx="6985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спитатель предлагает переключить канал, появляется сотрудник ДПС. </a:t>
            </a: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2286000" y="2708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512360" y="1484280"/>
            <a:ext cx="60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Arial"/>
              </a:rPr>
              <a:t>Выступление сотруд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Arial"/>
              </a:rPr>
              <a:t>ДПС по данной тем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C:\Documents and Settings\User\Рабочий стол\eBuwFQ7s5Nu6e57nzAywnv3l61Z4g1KY-e1368605803182.jpg"/>
          <p:cNvPicPr/>
          <p:nvPr/>
        </p:nvPicPr>
        <p:blipFill>
          <a:blip r:embed="rId1"/>
          <a:stretch/>
        </p:blipFill>
        <p:spPr>
          <a:xfrm>
            <a:off x="1692360" y="2708280"/>
            <a:ext cx="5688000" cy="3292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Admin</cp:lastModifiedBy>
  <dcterms:modified xsi:type="dcterms:W3CDTF">2014-11-11T12:49:50Z</dcterms:modified>
  <cp:revision>63</cp:revision>
  <dc:subject/>
  <dc:title>Слайд 1</dc:title>
</cp:coreProperties>
</file>