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9C1-4D2A-4D39-8E2E-2801279063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912-0D43-464D-804A-9145552C38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9E1-83ED-45ED-B8EF-20A8750A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9DF-39C7-46F7-A286-8C7067A5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092-C185-4535-B9D1-1034B6F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072-FD90-480B-9F1A-CC9DA47C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4608-BA66-4E1F-9B12-6707C8B9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7C82-3A23-484B-B4A4-3AFECEF6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02C-673C-402A-A178-C61B8CE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B13-066D-449E-8352-303389E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2A1-92F9-4C6D-9FB7-75C6DDA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1FE7-1997-4530-A5D3-FD5F3118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F0A8-3B35-471C-8400-DF71556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379-6B75-4297-BDDA-0D0B6DB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EE8-1558-46F3-BAAB-DB7AE994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E250-13CB-47F2-B076-CE9DF81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A4D8-9FEF-49A7-A4FB-EC8EB2D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D21-024D-40F7-A173-521E2F9C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9D4-A01F-40E5-8FFA-BBB3AF7B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1D96-C2E0-4CA3-9A14-8D9F7339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176C-DE02-4B9F-8F11-C205C1E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B108-8668-4600-A2D6-4E4BB04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8C75-F3C9-4040-AF4C-6FF3E5A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645E-58A0-4532-ACD9-ACD56C7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04D-F71F-44EC-A373-BF61E25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A739-AF02-4ED4-8097-A7EFEB8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529A-80AC-4D3F-A6B2-E9EEABA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B266-F06E-4171-B611-F2E7A45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A5DB-4B27-4CD2-BB4B-BA8BB39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DF26-A9C6-4D55-889C-58A917A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029E-7CFE-4AFD-AFAE-DE96FBF7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122C-F209-4529-9072-EA0D361C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C451-3702-4631-830B-48713240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C175-F754-4600-A59D-E0E5964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8F8F-F2D6-497B-AE70-BFDAF47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755-228B-4774-9994-6FAB66C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E858-4D89-4732-9148-0BD20F3E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8E68-8D8C-4ECC-A4EC-67EF831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CFC4-CD07-437A-AD17-CACFAEF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0B1D-F6B7-4D24-8D7C-DE5BD50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621C-BB84-476A-A11C-68E86EC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DB49-0FF8-46CB-BA00-86813CF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873E-6FC7-40A5-A765-1057EE58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2F73-1EB6-488B-A455-7C3DD9FA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9C8B-873A-4D6C-9714-D389386D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CD0-7A5A-4A30-99C8-D77EA1D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307-EC03-46C5-A2E8-054378D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22E-DE2C-4F94-B6D9-7B6824D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19B-AD2B-4BC8-A449-11FF881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923-BB03-4FCD-BC8F-841C122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43F5-DAB8-4FD2-9497-F5E91E1AA5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8AFB-5B33-4E97-B21A-AB7CC86347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9BE3-D96B-4F11-A88B-C423B778BC1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538-C231-435A-AFF1-9709A3E7883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source=psearch&amp;fp=1&amp;uinfo=ww-1076-wh-499-fw-851-fh-448-pd-1.25&amp;p=1&amp;text=&#1082;&#1086;&#1085;&#1089;&#1090;&#1080;&#1090;&#1091;&#1094;&#1080;&#1103;&amp;pos=32&amp;lr=213&amp;rpt=simage&amp;img_url=http%3A%2F%2F900igr.net%2Fdatas%2Fprazdniki%2FKonstitutsija%2F0003-003-Konstitutsija-Rossijskoj-Federatsii-eto-osnovnoj-zakon-nashego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source=psearch&amp;text=&#1082;&#1086;&#1085;&#1089;&#1090;&#1080;&#1090;&#1091;&#1094;&#1080;&#1103;&amp;fp=0&amp;pos=23&amp;rpt=simage&amp;lr=213&amp;uinfo=ww-1076-wh-499-fw-851-fh-448-pd-1.25&amp;img_url=http%3A%2F%2Fstatic.newsland.com%2Fnews_images%2F840%2F840456.jpe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13480" cy="2444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рав и обязанносте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3851280" y="407664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 ученица МОУ Гимназии №1, 9»В» класса Шпакова Алиса Александр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3851280" y="5373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Старкова Ирина Алексеевна, учитель истории и обществ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6107040"/>
            <a:ext cx="82468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00040" y="620640"/>
            <a:ext cx="8215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язанности человека и гражда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TextBox 8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8607600" cy="2524320"/>
          </a:xfrm>
          <a:prstGeom prst="rect">
            <a:avLst/>
          </a:prstGeom>
          <a:ln w="0">
            <a:noFill/>
          </a:ln>
        </p:spPr>
      </p:pic>
      <p:pic>
        <p:nvPicPr>
          <p:cNvPr id="225" name="Схема 61" descr=""/>
          <p:cNvPicPr/>
          <p:nvPr/>
        </p:nvPicPr>
        <p:blipFill>
          <a:blip r:embed="rId2"/>
          <a:stretch/>
        </p:blipFill>
        <p:spPr>
          <a:xfrm>
            <a:off x="633240" y="3913200"/>
            <a:ext cx="4170600" cy="1609560"/>
          </a:xfrm>
          <a:prstGeom prst="rect">
            <a:avLst/>
          </a:prstGeom>
          <a:ln w="0">
            <a:noFill/>
          </a:ln>
        </p:spPr>
      </p:pic>
      <p:pic>
        <p:nvPicPr>
          <p:cNvPr id="226" name="Схема 62" descr=""/>
          <p:cNvPicPr/>
          <p:nvPr/>
        </p:nvPicPr>
        <p:blipFill>
          <a:blip r:embed="rId3"/>
          <a:stretch/>
        </p:blipFill>
        <p:spPr>
          <a:xfrm>
            <a:off x="5029200" y="3565440"/>
            <a:ext cx="3565440" cy="2689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3"/>
          <p:cNvSpPr/>
          <p:nvPr/>
        </p:nvSpPr>
        <p:spPr>
          <a:xfrm>
            <a:off x="611280" y="3357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язанност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64"/>
          <p:cNvSpPr/>
          <p:nvPr/>
        </p:nvSpPr>
        <p:spPr>
          <a:xfrm>
            <a:off x="5003640" y="299736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яза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ражда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395280" y="10526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ализации принципа единства прав и обязанностей необходима система гарантий прав и свобод человека, нужен механизм их реализ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м условием реализации прав и свобод человека является  исполнением им обяза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язанностях обобщены требования, в исполнении которых проявляется ответственность личности перед обществом, гражданина перед государством, надлежащее отношение его к государственным и общественным интере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ИССИЯ   ИССЛЕД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международных документов и  Конституции РФ 1993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епление своих знаний о правах и обязанност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http://education.simcat.ru/school74/img/1369379710_stand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611280" y="40464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и гарантами соблюдения прав и свобод человека в соответствии с Конституцией РФ являются Президент России и Конституционный Суд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м элементом механизма защиты прав человека является институт Уполномоченного по правам человека Р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более беззащитны и беспомощны, чем взрослые, а потому  очень часто становятся жертвами несправедливости и насилия. Чтобы защитить маленьких членов общества в России существует институт Уполномоченного по правам реб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й задачей которого является улучшение положения детей в РФ, обеспечение соблюдения прав и свобод ребенка и восстановление нарушенных прав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2\Desktop\Раб стол\Школа\Общие материалы Обществознание\правребенка\002.jpg"/>
          <p:cNvPicPr/>
          <p:nvPr/>
        </p:nvPicPr>
        <p:blipFill>
          <a:blip r:embed="rId1"/>
          <a:stretch/>
        </p:blipFill>
        <p:spPr>
          <a:xfrm>
            <a:off x="1692360" y="765000"/>
            <a:ext cx="5040360" cy="583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6366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была предложена анонимная  добровольная анкета из 3-х вопрос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овольном анонимном  анкетировании участвова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 учащихся 6-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учащихся 7-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 учащихся  8-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 учащихся 9-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P1100932"/>
          <p:cNvPicPr/>
          <p:nvPr/>
        </p:nvPicPr>
        <p:blipFill>
          <a:blip r:embed="rId1"/>
          <a:stretch/>
        </p:blipFill>
        <p:spPr>
          <a:xfrm>
            <a:off x="468360" y="3716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P1110055"/>
          <p:cNvPicPr/>
          <p:nvPr/>
        </p:nvPicPr>
        <p:blipFill>
          <a:blip r:embed="rId2"/>
          <a:stretch/>
        </p:blipFill>
        <p:spPr>
          <a:xfrm>
            <a:off x="3348000" y="4292640"/>
            <a:ext cx="2484360" cy="1861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P3100008"/>
          <p:cNvPicPr/>
          <p:nvPr/>
        </p:nvPicPr>
        <p:blipFill>
          <a:blip r:embed="rId3"/>
          <a:stretch/>
        </p:blipFill>
        <p:spPr>
          <a:xfrm>
            <a:off x="6300720" y="1197000"/>
            <a:ext cx="2519280" cy="188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PICT0893"/>
          <p:cNvPicPr/>
          <p:nvPr/>
        </p:nvPicPr>
        <p:blipFill>
          <a:blip r:embed="rId4"/>
          <a:stretch/>
        </p:blipFill>
        <p:spPr>
          <a:xfrm>
            <a:off x="3203640" y="1700280"/>
            <a:ext cx="2663640" cy="1838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PICT1140"/>
          <p:cNvPicPr/>
          <p:nvPr/>
        </p:nvPicPr>
        <p:blipFill>
          <a:blip r:embed="rId5"/>
          <a:stretch/>
        </p:blipFill>
        <p:spPr>
          <a:xfrm>
            <a:off x="611280" y="126828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PICT1202"/>
          <p:cNvPicPr/>
          <p:nvPr/>
        </p:nvPicPr>
        <p:blipFill>
          <a:blip r:embed="rId6"/>
          <a:stretch/>
        </p:blipFill>
        <p:spPr>
          <a:xfrm>
            <a:off x="6300720" y="38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765000"/>
            <a:ext cx="784872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Какие права человека и гражданина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ы знаешь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21337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6-го класса ответили: право на жизнь, право на свободу, право на  образ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7-го класса добавили:  право на охрану здоровья, право собственности, право на защиту и 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8-го класса указали еще политические права, право на свободу слова, совести, творчество,  право на труд, право на личную неприкосновенность, выражение собственного мнения, и 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9-го класса перечислили практически все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 и граждан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yasnaya-dom.ru/_mod_files/ce_images/Shapka/risunok2_364x480.jpg"/>
          <p:cNvPicPr/>
          <p:nvPr/>
        </p:nvPicPr>
        <p:blipFill>
          <a:blip r:embed="rId1"/>
          <a:stretch/>
        </p:blipFill>
        <p:spPr>
          <a:xfrm>
            <a:off x="2484360" y="981000"/>
            <a:ext cx="475164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Какие обязанности человека и гражданина ты знаешь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6-го класса ответили: учиться, хорошо себя ве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7-го класса добавили: соблюдать зак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8-го класса внесли: уплата налог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9-го класса, перечисляя  обязанности, не указали обязанности  по защите Отечества и сохранению прир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«Быть человеком — это чувствовать свою ответственность»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472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0" y="-142920"/>
          <a:ext cx="9144000" cy="1013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4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Всеобщая декларация прав человека"/>
          <p:cNvPicPr/>
          <p:nvPr/>
        </p:nvPicPr>
        <p:blipFill>
          <a:blip r:embed="rId1"/>
          <a:stretch/>
        </p:blipFill>
        <p:spPr>
          <a:xfrm>
            <a:off x="611280" y="1268280"/>
            <a:ext cx="1998720" cy="360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Об основных гарантиях прав ребенка в Российской Федерации"/>
          <p:cNvPicPr/>
          <p:nvPr/>
        </p:nvPicPr>
        <p:blipFill>
          <a:blip r:embed="rId2"/>
          <a:stretch/>
        </p:blipFill>
        <p:spPr>
          <a:xfrm>
            <a:off x="3429000" y="1413000"/>
            <a:ext cx="2357280" cy="3913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Конвенция о правах ребенка и законодательство Российской Федерации в вопросах, ответах и комментариях"/>
          <p:cNvPicPr/>
          <p:nvPr/>
        </p:nvPicPr>
        <p:blipFill>
          <a:blip r:embed="rId3"/>
          <a:stretch/>
        </p:blipFill>
        <p:spPr>
          <a:xfrm>
            <a:off x="3429000" y="2924280"/>
            <a:ext cx="2357280" cy="3655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Защита прав ребёнка. Вопросы и ответы"/>
          <p:cNvPicPr/>
          <p:nvPr/>
        </p:nvPicPr>
        <p:blipFill>
          <a:blip r:embed="rId4"/>
          <a:stretch/>
        </p:blipFill>
        <p:spPr>
          <a:xfrm>
            <a:off x="6643800" y="1484280"/>
            <a:ext cx="2173320" cy="3778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Права вашего ребёнка"/>
          <p:cNvPicPr/>
          <p:nvPr/>
        </p:nvPicPr>
        <p:blipFill>
          <a:blip r:embed="rId5"/>
          <a:stretch/>
        </p:blipFill>
        <p:spPr>
          <a:xfrm>
            <a:off x="6072120" y="3160800"/>
            <a:ext cx="2500560" cy="3435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Федеральные законы об образовании и правах ребенка с комментариями"/>
          <p:cNvPicPr/>
          <p:nvPr/>
        </p:nvPicPr>
        <p:blipFill>
          <a:blip r:embed="rId6"/>
          <a:stretch/>
        </p:blipFill>
        <p:spPr>
          <a:xfrm>
            <a:off x="1214280" y="3068640"/>
            <a:ext cx="2286000" cy="338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15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155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15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15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15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155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115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15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155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15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15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155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115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15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155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15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Куда следует обращаться, когда нарушены твои права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6-го класса ответили:  не знаю, к родител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 7-го класса указали: не знаю, к родителям, к директор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8-го и 9-го классов ответили:  в суд, к адвокату, в прокуратуру, к защитникам прав человека и гражданина, но точное название институтов по защите прав человека и ребенка  не указ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2\Desktop\Раб стол\Школа\Общие материалы Обществознание\правребенка\1268482346_tochno.jpg"/>
          <p:cNvPicPr/>
          <p:nvPr/>
        </p:nvPicPr>
        <p:blipFill>
          <a:blip r:embed="rId1"/>
          <a:stretch/>
        </p:blipFill>
        <p:spPr>
          <a:xfrm>
            <a:off x="2484360" y="765000"/>
            <a:ext cx="4103640" cy="5688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общ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6-х и 7-х классов  в целом осведомлены  о круге своих правах и обязанностей, более осведомлены  о своих правах ученики 8-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9-х классов владеют информацией о всех своих правах, но не о всех обязанност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зволяют  говорить, что  учащиеся  знают о правах значительно больше, чем об обязанност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http://cl.rushkolnik.ru/tw_files2/urls_81/1552/d-1551131/img39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общ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затруднение у обучающихся вызвал вопрос об органах, защищающих права человека и ребен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отдельные ученики  знают об институтах Уполномоченных по правам человека и Уполномоченных по правам ребен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активизировать работу по правовому просвещению, повышению уровня правовой грамотности подростков и их родител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E:\права и обязанности\0008-008-Prava-i-objazannosti-roditelej-i-det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755640" y="476280"/>
            <a:ext cx="7777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редставить себе человека, несущего только обязанности, как невозможны и права человека без обязанностей, потому что тогда не будет порядка в обществ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только тогда становится реальной, когда она обретает черты порядка, основанного на праве. Право защищает свободу, а свобода основанная на праве, позволяет развиваться человеку и обще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это и есть единство прав и обязанностей. Когда человек соблюдает все это, устанавливается порядок, создающий условия для развития граждан и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«Живи по закону, поступай по совести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и 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- изучение Конституции Российской Федерации 1993 года - основного закона нашего государства, который обладает высшей юридической силой и регулирует основы организации государства и общ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 защищает наши права и свободы и регламентирует наши обязанности, устанавливает единство прав и обязанностей гражда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900igr.net/datas/prazdniki/Konstitutsija/0003-003-Konstitutsija-Rossijskoj-Federatsii-eto-osnovnoj-zakon-nashe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ЛЕМАТИ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844640"/>
            <a:ext cx="8134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ющи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чное сочетание личных и общественных интересов, взаимную ответственность и взаимные социальные требования, притязания гражданина и правового государства является принци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А ПРАВ И ОБЯЗАННОСТЕЙ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 о том, что «нет прав без обязанностей, нет обязанностей без прав», получает реальное воплощение в правовом и демократическом государств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rpp.nashaucheba.ru/pars_docs/refs/39/38675/img1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нституция Российской Федерации закрепляет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признаются и гарантируются права и свободы человека и гражданина согласно общепризнанным принципам и нормам международного права и в соответствии с настоящей Конституци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а и свободы человека неотчуждаемы и принадлежат каждому от ро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img1.liveinternet.ru/images/attach/c/7/97/263/97263693_large_0_52ed6_7dc1a97d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250920" y="90792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ституции Российской Федерации конституционному статусу целиком посвящена вторая глава, которая состоит из 48 статей.  Расположены они в определенной системе, отражающей специфику характера прав и свобод, тех сфер жизнедеятельности человека и гражданина, которых они касаютс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ами конституционного статуса личности являются: человек, его права и свободы – высшая ценность; все граждане имеют права и свободы от рождения; граждане имеют равные права; основные права и свобо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 не отчуждаемы; осуществление прав и свобод человека и гражданина не должно нарушать права и свободы других лиц; основные права и свободы гарантированы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5:51:57Z</dcterms:created>
  <dc:creator>1</dc:creator>
  <dc:description/>
  <dc:language>en-US</dc:language>
  <cp:lastModifiedBy>I</cp:lastModifiedBy>
  <dcterms:modified xsi:type="dcterms:W3CDTF">2014-02-18T07:35:35Z</dcterms:modified>
  <cp:revision>291</cp:revision>
  <dc:subject/>
  <dc:title>Анкетирование на тему “причины противоправного поведения среди подростков.” Среди 7и 6 классов.</dc:title>
</cp:coreProperties>
</file>