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9959-B340-4BD7-A900-8AAA335B8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E769-0E79-4369-B7B3-25F0BA69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0813-C71B-43E2-8CBA-5C3C9F56C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FD1F-EFD7-4310-9A81-178C596A4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66FB-CA41-4C46-B4A1-7E496CD3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ACCC-0FFD-4985-9441-39B773FA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3C79-080E-4601-9826-ECF63221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4BC7-C3AD-4139-8369-B36056D0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1147-9ADA-4431-9685-73BD12E7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6A89-3EB9-4C9B-94B1-DF63AA7F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0FEB-CE46-47AB-9D3E-6372454F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6156-9384-40C9-B9A6-F31293BA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841F-4EC0-44B6-A539-A8C56D25CC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fd293"/>
                </a:solidFill>
                <a:latin typeface="Arial"/>
              </a:rPr>
              <a:t>Великая Отечественная война</a:t>
            </a: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34000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41-1945 г.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87640" y="2249640"/>
            <a:ext cx="3255840" cy="4608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4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Огненная дуга </a:t>
            </a:r>
            <a:br>
              <a:rPr sz="4000"/>
            </a:b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5 июля 1943 г.- 5 августа 1943 г.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468360" y="1425600"/>
            <a:ext cx="828036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79930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Планы сторон летом 1943 г.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826920" y="1268280"/>
          <a:ext cx="7786800" cy="4932360"/>
        </p:xfrm>
        <a:graphic>
          <a:graphicData uri="http://schemas.openxmlformats.org/drawingml/2006/table">
            <a:tbl>
              <a:tblPr/>
              <a:tblGrid>
                <a:gridCol w="3959280"/>
                <a:gridCol w="38275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ЕРМА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ВЕТСКИ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Ю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ан «Цитадель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ктивная оборона ( изматывание сил противника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ссовая мобилизация ( 20 млн. чел.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ход в наступл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 дивиз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ктивность партизан в тылу враг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вые виды техни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293"/>
                </a:solidFill>
                <a:latin typeface="Arial"/>
              </a:rPr>
              <a:t>Соотношение сил на Орловско- Курском направлении в начале июля 1943 года.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57200" y="1413000"/>
          <a:ext cx="8229600" cy="5422320"/>
        </p:xfrm>
        <a:graphic>
          <a:graphicData uri="http://schemas.openxmlformats.org/drawingml/2006/table">
            <a:tbl>
              <a:tblPr/>
              <a:tblGrid>
                <a:gridCol w="2743200"/>
                <a:gridCol w="2666880"/>
                <a:gridCol w="2819520"/>
              </a:tblGrid>
              <a:tr h="97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лы и средст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СС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ЕРМА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чный соста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 чел.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танков и СА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орудий и мином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 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самол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7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Тегеранская конференция </a:t>
            </a:r>
            <a:br>
              <a:rPr sz="4000"/>
            </a:b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ноябрь-декабрь 1943 года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763640" y="1844640"/>
            <a:ext cx="568800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5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29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915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Arial"/>
              </a:rPr>
              <a:t>Коренной перелом в ходе войны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0" y="2924280"/>
            <a:ext cx="417672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оябрь 1942 – декабрь 1943г.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68360" y="1916280"/>
            <a:ext cx="3138480" cy="46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75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Сталинградская битва</a:t>
            </a:r>
            <a:br>
              <a:rPr sz="4400"/>
            </a:b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19 ноября 1942 г.-2 февраля 1943 г.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68000" y="2420640"/>
            <a:ext cx="440244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>
            <a:lum contrast="12000"/>
          </a:blip>
          <a:srcRect l="151" t="-218" r="70775" b="85361"/>
          <a:stretch/>
        </p:blipFill>
        <p:spPr>
          <a:xfrm>
            <a:off x="1332000" y="1989000"/>
            <a:ext cx="6408720" cy="4511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Соотношение сил на Сталинградском направлении в ноябре 1942 года.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600200"/>
          <a:ext cx="8229600" cy="51498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нии сравн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ветские войс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мецкие войс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чный состав(тыс. ч.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34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1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танк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орудий и мином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93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2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самол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32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Юго-Западный фронт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мандующий Н.Ф.Ватут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771640" y="2421000"/>
            <a:ext cx="3529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Донецкий фронт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мандующ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.К.Рокоссов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8013" t="-131" r="66177" b="75365"/>
          <a:stretch/>
        </p:blipFill>
        <p:spPr>
          <a:xfrm>
            <a:off x="4716360" y="1341360"/>
            <a:ext cx="39211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Сталинградский фронт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мандующ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.И. Еременк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4140360" y="1413000"/>
            <a:ext cx="42480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1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500"/>
                            </p:stCondLst>
                            <p:childTnLst>
                              <p:par>
                                <p:cTn id="120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9500"/>
                            </p:stCondLst>
                            <p:childTnLst>
                              <p:par>
                                <p:cTn id="126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20728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ленный генерал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ельдмаршал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.Паулю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68360" y="476280"/>
            <a:ext cx="45417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000"/>
                            </p:stCondLst>
                            <p:childTnLst>
                              <p:par>
                                <p:cTn id="149" nodeType="afterEffect" fill="hold" presetClass="entr" presetID="3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6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6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6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6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3T05:52:55Z</dcterms:created>
  <dc:creator>1</dc:creator>
  <dc:description/>
  <dc:language>en-US</dc:language>
  <cp:lastModifiedBy>Мамочка</cp:lastModifiedBy>
  <dcterms:modified xsi:type="dcterms:W3CDTF">2014-11-04T20:32:35Z</dcterms:modified>
  <cp:revision>31</cp:revision>
  <dc:subject/>
  <dc:title>Великая Отечественная война</dc:title>
</cp:coreProperties>
</file>