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BC8-DC00-488D-AFD4-6728CE5C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59E-C1C4-4F8C-B8A9-530D1CDC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140-8414-432B-AF08-5D63E9A7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D2F-7C7B-4D93-B69E-21C8D607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9FBD-F0E3-4119-B81C-EE7E0362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8EDC-0008-44B2-B98A-9610573B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9068-02E3-404C-A5B7-955D3665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9C39-10D1-4B42-91D9-EF63D3D9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D04E-7BAE-488A-838F-1AA36ECC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AE6B-CDEE-420B-B0AC-EE28340F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DA19-C495-48B1-B4D4-90F7C8FC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A82-DEE4-4EC1-B616-80281AE5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BE75-442E-4702-A5A2-29094FF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CC26-61B3-4A6E-9533-02A24553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43FB-279C-4C91-8431-A5D195D0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71D-3C55-4730-9D91-28428B49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E2C3-C1B1-495E-946B-3704E369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3C3-98AE-4514-BA76-8E8131CD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4B2-77C1-42C5-9CE9-7618C20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EC2-AE62-4791-A99B-414EF694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119-2499-4488-86DD-BC71E6C0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BF4-B0BF-42EC-9B69-01DD858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FAB-F05B-4B45-9F21-516B1A69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7A6-18ED-4B89-B558-116DC3F9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FEF2-CF8C-4E93-9A62-06863EC435A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491E-6CCE-48CE-B898-A87F43C8A7E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841320"/>
            <a:ext cx="8229600" cy="2554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 : ученица 4 класса Васенкова Елизавет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&amp;Fcy;&amp;ocy;&amp;tcy;&amp;ocy; &amp;lcy;&amp;iecy;&amp;mcy;&amp;mcy;&amp;icy;&amp;ncy;&amp;gcy;&amp;acy;"/>
          <p:cNvPicPr/>
          <p:nvPr/>
        </p:nvPicPr>
        <p:blipFill>
          <a:blip r:embed="rId1"/>
          <a:stretch/>
        </p:blipFill>
        <p:spPr>
          <a:xfrm>
            <a:off x="533520" y="474840"/>
            <a:ext cx="815328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66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5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6" descr=""/>
          <p:cNvPicPr/>
          <p:nvPr/>
        </p:nvPicPr>
        <p:blipFill>
          <a:blip r:embed="rId1"/>
          <a:stretch/>
        </p:blipFill>
        <p:spPr>
          <a:xfrm>
            <a:off x="3571920" y="274680"/>
            <a:ext cx="5286240" cy="1249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0230876"/>
          <p:cNvPicPr/>
          <p:nvPr/>
        </p:nvPicPr>
        <p:blipFill>
          <a:blip r:embed="rId2"/>
          <a:stretch/>
        </p:blipFill>
        <p:spPr>
          <a:xfrm>
            <a:off x="0" y="0"/>
            <a:ext cx="3419640" cy="3443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621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такой Леммин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Лемминга кто охотитс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зови кого тебе  напоминает этот зверё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&amp;vcy;&amp;iecy;&amp;chcy;&amp;iecy;&amp;rcy;&amp;icy;&amp;ncy;&amp;kcy;&amp;acy;!"/>
          <p:cNvPicPr/>
          <p:nvPr/>
        </p:nvPicPr>
        <p:blipFill>
          <a:blip r:embed="rId2"/>
          <a:stretch/>
        </p:blipFill>
        <p:spPr>
          <a:xfrm>
            <a:off x="2438280" y="1447920"/>
            <a:ext cx="4286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&amp;Ncy;&amp;Acy;&amp;SHcy;&amp;IEcy;&amp;Scy;&amp;Tcy;&amp;Vcy;&amp;Icy;&amp;YAcy; &amp;Lcy;&amp;IEcy;&amp;Mcy;&amp;Mcy;&amp;Icy;&amp;Ncy;&amp;Gcy;&amp;Ocy;&amp;Vcy; - &amp;Mcy;&amp;Icy;&amp;Gcy;&amp;Rcy;&amp;Acy;&amp;TScy;&amp;Icy;&amp;YAcy; &amp;ZHcy;&amp;Icy;&amp;Vcy;&amp;Ocy;&amp;Tcy;&amp;Ncy;&amp;Ycy;&amp;KHcy; - &amp;Ocy; &amp;ZHcy;&amp;Icy;&amp;Vcy;&amp;Ocy;&amp;Tcy;&amp;Ncy;&amp;Ycy;&amp;KHcy; - &amp;Kcy;&amp;acy;&amp;tcy;&amp;acy;&amp;lcy;…"/>
          <p:cNvPicPr/>
          <p:nvPr/>
        </p:nvPicPr>
        <p:blipFill>
          <a:blip r:embed="rId2"/>
          <a:stretch/>
        </p:blipFill>
        <p:spPr>
          <a:xfrm>
            <a:off x="380880" y="1447920"/>
            <a:ext cx="8534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0" y="1523880"/>
            <a:ext cx="495288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мминги -  это  маленькие зверьки, по наружному виду и образу жизни они одновременно напоминают и хомяков и полёв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мминг, или по-другому, полярная петрушка, в длину не  превышает 15 см, из которых 2 приходится на хвост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ятся они среди болот на севере СКАНДИНАВ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есь они выкапывают себе небольшие норы под камнями или мх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5" descr="ie_img_fix"/>
          <p:cNvPicPr/>
          <p:nvPr/>
        </p:nvPicPr>
        <p:blipFill>
          <a:blip r:embed="rId2"/>
          <a:stretch/>
        </p:blipFill>
        <p:spPr>
          <a:xfrm>
            <a:off x="155520" y="460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e_img_fix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Jak ucz&amp;lstrok;owieczy&amp;cacute; leminga - leming prosty"/>
          <p:cNvPicPr/>
          <p:nvPr/>
        </p:nvPicPr>
        <p:blipFill>
          <a:blip r:embed="rId4"/>
          <a:stretch/>
        </p:blipFill>
        <p:spPr>
          <a:xfrm>
            <a:off x="4876920" y="14479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1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0880" y="1599840"/>
            <a:ext cx="3276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него охот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лый писец, совы, горностай, рыси и белые вол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7" descr="&amp;Lcy;&amp;iecy;&amp;mcy;&amp;mcy;&amp;icy;&amp;ncy;&amp;gcy; - &amp;pcy;&amp;ocy;&amp;lcy;&amp;yacy;&amp;rcy;&amp;ncy;&amp;acy;&amp;yacy; &amp;pcy;&amp;ocy;&amp;lcy;&amp;iecy;&amp;vcy;&amp;kcy;&amp;acy; &amp;scy; &amp;kcy;&amp;ocy;&amp;rcy;&amp;ocy;&amp;tcy;&amp;kcy;&amp;icy;&amp;mcy; &amp;khcy;&amp;vcy;&amp;ocy;&amp;scy;&amp;tcy;&amp;ocy;&amp;mcy; - &amp;Kcy;&amp;acy;&amp;rcy;&amp;tcy;&amp;icy;&amp;ncy;&amp;kcy;&amp;acy; 4641/24"/>
          <p:cNvPicPr/>
          <p:nvPr/>
        </p:nvPicPr>
        <p:blipFill>
          <a:blip r:embed="rId2"/>
          <a:stretch/>
        </p:blipFill>
        <p:spPr>
          <a:xfrm>
            <a:off x="3581280" y="152388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&amp;Ocy;&amp;khcy;&amp;ocy;&amp;tcy;&amp;acy; &amp;ncy;&amp;acy; &amp;lcy;&amp;iecy;&amp;mcy;&amp;mcy;&amp;icy;&amp;ncy;&amp;gcy;&amp;acy;"/>
          <p:cNvPicPr/>
          <p:nvPr/>
        </p:nvPicPr>
        <p:blipFill>
          <a:blip r:embed="rId3"/>
          <a:stretch/>
        </p:blipFill>
        <p:spPr>
          <a:xfrm>
            <a:off x="6324480" y="167652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&amp;Kcy;&amp;ocy;&amp;rcy;&amp;ocy;&amp;lcy;&amp;iecy;&amp;vcy;&amp;scy;&amp;kcy;&amp;icy;&amp;jcy; &amp;zcy;&amp;vcy;&amp;iecy;&amp;rcy;&amp;softcy; - &amp;gcy;&amp;ocy;&amp;rcy;&amp;ncy;&amp;ocy;&amp;scy;&amp;tcy;&amp;acy;&amp;jcy;"/>
          <p:cNvPicPr/>
          <p:nvPr/>
        </p:nvPicPr>
        <p:blipFill>
          <a:blip r:embed="rId4"/>
          <a:stretch/>
        </p:blipFill>
        <p:spPr>
          <a:xfrm>
            <a:off x="5562720" y="3809880"/>
            <a:ext cx="3314520" cy="221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&amp;Tcy;&amp;ucy;&amp;rcy;&amp;icy;&amp;scy;&amp;tcy;&amp;icy;&amp;chcy;&amp;iecy;&amp;scy;&amp;kcy;&amp;acy;&amp;yacy; &amp;kcy;&amp;ocy;&amp;mcy;&amp;pcy;&amp;acy;&amp;ncy;&amp;icy;&amp;yacy; &quot; &amp;Zcy;&amp;vcy;&amp;iecy;&amp;zcy;&amp;dcy;&amp;ncy;&amp;ycy;&amp;iecy; &amp;Vcy;&amp;rcy;&amp;acy;&amp;tcy;&amp;acy;&quot; &amp;Icy;&amp;zhcy;&amp;iecy;&amp;vcy;&amp;scy;&amp;kcy; &amp;Vcy;&amp;Kcy;&amp;ocy;&amp;ncy;&amp;tcy;&amp;acy;&amp;kcy;&amp;tcy;&amp;iecy;"/>
          <p:cNvPicPr/>
          <p:nvPr/>
        </p:nvPicPr>
        <p:blipFill>
          <a:blip r:embed="rId5"/>
          <a:stretch/>
        </p:blipFill>
        <p:spPr>
          <a:xfrm>
            <a:off x="0" y="4572000"/>
            <a:ext cx="2362320" cy="149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&amp;Ocy;&amp;khcy;&amp;ocy;&amp;tcy;&amp;acy; &amp;pcy;&amp;iecy;&amp;scy;&amp;tscy;&amp;acy; &amp;zcy;&amp;acy; &amp;lcy;&amp;iecy;&amp;mcy;&amp;mcy;&amp;icy;&amp;ncy;&amp;gcy;&amp;ocy;&amp;mcy;"/>
          <p:cNvPicPr/>
          <p:nvPr/>
        </p:nvPicPr>
        <p:blipFill>
          <a:blip r:embed="rId6"/>
          <a:stretch/>
        </p:blipFill>
        <p:spPr>
          <a:xfrm>
            <a:off x="2514600" y="4495680"/>
            <a:ext cx="2610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&amp;Pcy;&amp;iecy;&amp;rcy;&amp;ncy;&amp;acy;&amp;tcy;&amp;ycy;&amp;iecy; &amp;ocy;&amp;khcy;&amp;ocy;&amp;tcy;&amp;ncy;&amp;icy;&amp;kcy;&amp;icy; 1979 &amp;Scy;&amp;acy;&amp;ncy;&amp;dcy;&amp;iecy;&amp;rcy;&amp;scy;&amp;ocy;&amp;ncy; &amp;Icy;. - &amp;Scy;&amp;iecy;&amp;vcy;&amp;iecy;&amp;rcy;&amp;ncy;&amp;acy;&amp;yacy; &amp;Acy;&amp;mcy;&amp;iecy;&amp;rcy;&amp;icy;&amp;kcy;&amp;acy;"/>
          <p:cNvPicPr/>
          <p:nvPr/>
        </p:nvPicPr>
        <p:blipFill>
          <a:blip r:embed="rId1"/>
          <a:stretch/>
        </p:blipFill>
        <p:spPr>
          <a:xfrm>
            <a:off x="-190440" y="-28440"/>
            <a:ext cx="9524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11 &amp;YAcy;&amp;ncy;&amp;vcy;&amp;acy;&amp;rcy;&amp;yacy; 2012 - &amp;Ncy;&amp;Acy;&amp;SHcy;&amp;Acy; &amp;Pcy;&amp;Lcy;&amp;Acy;&amp;Ncy;&amp;IEcy;&amp;Tcy;&amp;Acy;. - &amp;Ncy;&amp;acy;&amp;shcy;&amp;acy; &amp;pcy;&amp;lcy;&amp;acy;&amp;ncy;&amp;iecy;&amp;tcy;&amp;acy;.&amp;Ncy;&amp;ocy;&amp;vcy;&amp;ocy;&amp;scy;&amp;tcy;&amp;icy; &amp;ecy;&amp;kcy;&amp;ocy;&amp;lcy;&amp;ocy;&amp;gcy;&amp;icy;&amp;icy;"/>
          <p:cNvPicPr/>
          <p:nvPr/>
        </p:nvPicPr>
        <p:blipFill>
          <a:blip r:embed="rId1"/>
          <a:stretch/>
        </p:blipFill>
        <p:spPr>
          <a:xfrm>
            <a:off x="380880" y="407880"/>
            <a:ext cx="86108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RussianPro100Fishing &amp;acy;&amp;rcy;&amp;tcy;&amp;iecy;&amp;lcy;&amp;softcy; - &amp;Scy;&amp;tcy;&amp;rcy;&amp;acy;&amp;ncy;&amp;icy;&amp;tscy;&amp;acy; 10 - &amp;Fcy;&amp;ocy;&amp;rcy;&amp;ucy;&amp;mcy; &amp;icy;&amp;gcy;&amp;rcy;&amp;ycy; AtomFishing"/>
          <p:cNvPicPr/>
          <p:nvPr/>
        </p:nvPicPr>
        <p:blipFill>
          <a:blip r:embed="rId1"/>
          <a:stretch/>
        </p:blipFill>
        <p:spPr>
          <a:xfrm>
            <a:off x="1243080" y="1204920"/>
            <a:ext cx="66578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&amp;zhcy;&amp;icy;&amp;vcy;&amp;ocy;&amp;tcy;&amp;ncy;&amp;ycy;&amp;iecy;, &amp;rcy;&amp;ycy;&amp;scy;&amp;softcy;, &amp;kcy;&amp;ocy;&amp;shcy;&amp;acy;&amp;chcy;&amp;icy;&amp;iecy;, &amp;fcy;&amp;ocy;&amp;tcy;&amp;ocy;, &amp;ocy;&amp;bcy;&amp;ocy;&amp;icy;, &amp;kcy;&amp;acy;&amp;rcy;&amp;tcy;&amp;icy;&amp;ncy;&amp;kcy;&amp;acy; #406680 - www.nawserial.ru"/>
          <p:cNvPicPr/>
          <p:nvPr/>
        </p:nvPicPr>
        <p:blipFill>
          <a:blip r:embed="rId1"/>
          <a:stretch/>
        </p:blipFill>
        <p:spPr>
          <a:xfrm>
            <a:off x="1476360" y="1109520"/>
            <a:ext cx="61912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&amp;Fcy;&amp;Ocy;&amp;Rcy;&amp;Ucy;&amp;Mcy; &amp;TScy;&amp;IEcy;&amp;Ncy;&amp;Tcy;&amp;Rcy;&amp;Acy; &amp;Mcy;&amp;IEcy;&amp;ZHcy;&amp;Dcy;&amp;Ucy;&amp;Ncy;&amp;Acy;&amp;Rcy;&amp;Ocy;&amp;Dcy;&amp;Ncy;&amp;Ocy;&amp;Gcy;&amp;Ocy; &amp;Ocy;&amp;Bcy;&amp;Mcy;&amp;IEcy;&amp;Ncy;&amp;Acy; * &amp;Pcy;&amp;rcy;&amp;ocy;&amp;scy;&amp;mcy;&amp;ocy;&amp;tcy;&amp;rcy; &amp;tcy;&amp;iecy;&amp;mcy;&amp;ycy; - AirFrance (AF, &amp;Ecy;&amp;rcy;&amp;Fcy;&amp;rcy;&amp;acy;&amp;ncy;&amp;scy;)"/>
          <p:cNvPicPr/>
          <p:nvPr/>
        </p:nvPicPr>
        <p:blipFill>
          <a:blip r:embed="rId1"/>
          <a:stretch/>
        </p:blipFill>
        <p:spPr>
          <a:xfrm>
            <a:off x="781200" y="571680"/>
            <a:ext cx="7581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4:20:44Z</dcterms:created>
  <dc:creator>Azik</dc:creator>
  <dc:description/>
  <dc:language>en-US</dc:language>
  <cp:lastModifiedBy>админ</cp:lastModifiedBy>
  <dcterms:modified xsi:type="dcterms:W3CDTF">2014-11-11T08:49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