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CEB-3347-4CE6-BB41-0058288D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142-7F73-4AFD-B60B-BDE629FD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113-4282-468E-AB1C-85142517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FD7-FF62-47BC-AA6F-1E90689E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182C-01B2-4C78-9CF2-A60D4B3D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7B69-CC87-485D-B086-BACC3B3F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44C8-0955-41F0-AC4E-86050908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2F46-E4B1-4786-93CA-C3511391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D2CE-EB64-4C18-886B-0A1D6AE7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E0A3-FFCA-449C-BB7B-F9D71647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5BA7-77EB-488D-A1F9-BF2E3A1E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4DB-A001-4C40-AD09-89EB221B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8B1F-442C-4225-8CEB-0F84C812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6E4C-B6F5-4E0C-9335-4EFC5786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2484-5AC1-40C8-BFD5-AECD7EEE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0638-6F1D-498B-AEEE-CAB7AE4F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F846-8040-49FA-86AA-8AF23496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DC0-9C79-4F09-8D11-B77658A6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90F-C9AE-475D-9BD8-E2C1A39B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40A-73F7-4ADB-AB8B-7F5C7AE1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AD5-E69C-430D-AD16-79D16D79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C63-81C6-4339-88C0-555165BB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222-CF7C-4BA1-BA54-D5E19918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D13-73B0-4616-A3CB-EF52BDAB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2459"/>
            </a:gs>
            <a:gs pos="100000">
              <a:srgbClr val="b13f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6c265e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91347e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b13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b13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802e70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b13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100000">
                  <a:srgbClr val="b345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b13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02254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7c2c6b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100000">
                  <a:srgbClr val="b64a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b13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21d47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5b204f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100000">
                  <a:srgbClr val="b850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702862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6c265e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963582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561f4b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963582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662459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802e70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8c3279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802e70"/>
                  </a:gs>
                  <a:gs pos="100000">
                    <a:srgbClr val="b13f9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b13f9a"/>
                  </a:gs>
                  <a:gs pos="100000">
                    <a:srgbClr val="b850a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9018-8745-40AA-88AB-6A0655A26D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2459"/>
            </a:gs>
            <a:gs pos="100000">
              <a:srgbClr val="b13f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6c265e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91347e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b13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b13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802e70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b13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100000">
                  <a:srgbClr val="b345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b13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02254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7c2c6b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100000">
                  <a:srgbClr val="b64a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b13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21d47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5b204f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100000">
                  <a:srgbClr val="b850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702862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6c265e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963582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561f4b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963582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662459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802e70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8c3279"/>
                </a:gs>
                <a:gs pos="100000">
                  <a:srgbClr val="b13f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802e70"/>
                  </a:gs>
                  <a:gs pos="100000">
                    <a:srgbClr val="b13f9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b13f9a"/>
                  </a:gs>
                  <a:gs pos="100000">
                    <a:srgbClr val="b850a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D1D5-8BB8-41C8-BB14-1AC43BDCF1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шурова Дарь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4e7ed"/>
                </a:solidFill>
                <a:latin typeface="Times New Roman"/>
              </a:rPr>
              <a:t>Ребусы и головоломки.</a:t>
            </a:r>
            <a:endParaRPr b="0" lang="en-US" sz="4800" spc="-1" strike="noStrike">
              <a:solidFill>
                <a:srgbClr val="f4e7e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2627f7b5f1"/>
          <p:cNvPicPr/>
          <p:nvPr/>
        </p:nvPicPr>
        <p:blipFill>
          <a:blip r:embed="rId1"/>
          <a:stretch/>
        </p:blipFill>
        <p:spPr>
          <a:xfrm>
            <a:off x="457200" y="900000"/>
            <a:ext cx="8304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da23697edf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7e017d916c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8966d6f34e"/>
          <p:cNvPicPr/>
          <p:nvPr/>
        </p:nvPicPr>
        <p:blipFill>
          <a:blip r:embed="rId1"/>
          <a:stretch/>
        </p:blipFill>
        <p:spPr>
          <a:xfrm>
            <a:off x="457200" y="1116000"/>
            <a:ext cx="82296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ab9f6c3685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01eb5b7252"/>
          <p:cNvPicPr/>
          <p:nvPr/>
        </p:nvPicPr>
        <p:blipFill>
          <a:blip r:embed="rId1"/>
          <a:stretch/>
        </p:blipFill>
        <p:spPr>
          <a:xfrm>
            <a:off x="457200" y="876240"/>
            <a:ext cx="8229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9db5a2f383"/>
          <p:cNvPicPr/>
          <p:nvPr/>
        </p:nvPicPr>
        <p:blipFill>
          <a:blip r:embed="rId1"/>
          <a:stretch/>
        </p:blipFill>
        <p:spPr>
          <a:xfrm>
            <a:off x="457200" y="963720"/>
            <a:ext cx="82296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Переворачивание «вверх ногами» рисунка, символа, фигуры указывает на то, что загаданное с помощью картинки слово должно читаться задом наперёд. </a:t>
            </a:r>
            <a:endParaRPr b="0" lang="en-US" sz="1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f3fe2ba8ec"/>
          <p:cNvPicPr/>
          <p:nvPr/>
        </p:nvPicPr>
        <p:blipFill>
          <a:blip r:embed="rId1"/>
          <a:stretch/>
        </p:blipFill>
        <p:spPr>
          <a:xfrm>
            <a:off x="457200" y="1449360"/>
            <a:ext cx="82296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77c2e9a4f3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2622dc04ba"/>
          <p:cNvPicPr/>
          <p:nvPr/>
        </p:nvPicPr>
        <p:blipFill>
          <a:blip r:embed="rId1"/>
          <a:stretch/>
        </p:blipFill>
        <p:spPr>
          <a:xfrm>
            <a:off x="457200" y="1138320"/>
            <a:ext cx="82296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5" name="Picture 6" descr="РЕБУСЫ"/>
          <p:cNvPicPr/>
          <p:nvPr/>
        </p:nvPicPr>
        <p:blipFill>
          <a:blip r:embed="rId1"/>
          <a:stretch/>
        </p:blipFill>
        <p:spPr>
          <a:xfrm>
            <a:off x="0" y="1963800"/>
            <a:ext cx="806760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пасибо за внимание!!!</a:t>
            </a:r>
            <a:endParaRPr b="0" lang="en-US" sz="6000" spc="-1" strike="noStrike">
              <a:solidFill>
                <a:srgbClr val="f4e7e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ус - это головоломка с использованием букв и цифр, а также определенных предметов или фигур. Благодаря им можно научиться нестандартно видеть и решать нарисованные зад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усы - одна из самых популярных и интересных головоломок. Особенно такой вид головоломок полезен детям. Занимаясь ребусами малыши не только повышают словарный запас, но и развивают свой интеллект. Они учатся правильно писать, запоминают новые слова и даже подбирают синонимы, тренируют память и внимание. Ребусами можно заниматься даже трехлетним детям. В этом случае важно правильно подобрать тип и сложность головоломки, исходя из возраста малыш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ют определенные правила для разгадывания ребусов. Например, запятая в самом начале слова говорит о том, что нужно убрать одну букву сначала, а запятая в конце - убрать в конце слова. Две запятых - убираем две буквы. Знак «равно» требует замены одной буквы на другую, а зачеркнутая буква - необходимость ее удаления из сло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равило, задания с ребусами интересно иллюстрированы и оформлены яркими картинками, которые увлекают собой ребя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ребусы для детей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ребусы с ответами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Легкие ребусы для детей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893317728f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Легкий ребус"/>
          <p:cNvPicPr/>
          <p:nvPr/>
        </p:nvPicPr>
        <p:blipFill>
          <a:blip r:embed="rId1"/>
          <a:stretch/>
        </p:blipFill>
        <p:spPr>
          <a:xfrm>
            <a:off x="457200" y="1162080"/>
            <a:ext cx="83059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5316a66612"/>
          <p:cNvPicPr/>
          <p:nvPr/>
        </p:nvPicPr>
        <p:blipFill>
          <a:blip r:embed="rId1"/>
          <a:stretch/>
        </p:blipFill>
        <p:spPr>
          <a:xfrm>
            <a:off x="457200" y="1085760"/>
            <a:ext cx="8229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4-01-21T15:28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