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F98-BFD1-442F-A4FE-9D91C166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89B-9925-4A62-B36C-39996CFC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DD9-2E0A-4666-8CC5-0AA8F57D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E0C-B593-488F-86C8-C1574AFD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489-7B7C-4B91-821A-9E395C1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536-E798-44B8-90CB-2DCF2CD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825-6611-4D52-B21E-A018182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A16-944D-461A-BFD2-95F9624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A56-7629-4E94-87AB-9526B31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F00-2D04-41ED-9FBC-1EC5060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2A6-2207-4783-99CA-D704B74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EF2-FC10-418B-9459-D4DD967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6117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D67-57C7-4C11-8498-EA44C76B6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выпуклые многогран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7800" y="5643720"/>
            <a:ext cx="42861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дготовила: Винокурова  Софья учениц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кла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БОУ СОШ №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. Николаевска-на-Амуре, 2013г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итель математики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Ширинкина Галина Сергеев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Documents and Settings\Софья\Desktop\КАЧАЮ СЕЙЧАС\геометр\index3.JPG"/>
          <p:cNvPicPr/>
          <p:nvPr/>
        </p:nvPicPr>
        <p:blipFill>
          <a:blip r:embed="rId1"/>
          <a:stretch/>
        </p:blipFill>
        <p:spPr>
          <a:xfrm>
            <a:off x="1500120" y="1500120"/>
            <a:ext cx="6232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642600"/>
            <a:ext cx="56865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вёздчатый многогранник — это невыпуклый многогранник, грани которого пересекаются между собой. Как и у не звёздчатых многогранников, грани попарно соединяются в ребрах, при этом внутренние линии пересечения не считаются рёб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ые звёздчатые многогранники — это звёздчатые многогранники, гранями которых являются одинаковые правильные или звёздчатые многоугольники. Коши установил, что существует всего 4 правильных звёздчатых тела, не являющиеся соединениями платоновых и звёздчатых тел, называемые телами Кепплера — Пуансо: все 3 звёздчатых формы додекаэдра и одна из звёздчатых форм икосаэдра. Остальные правильные звёздчатые многогранники являются или соединениями платоновых тел, или соединениями тел Кепплера — Пуанс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Documents and Settings\Софья\Desktop\КАЧАЮ СЕЙЧАС\геометр\Sixteenth_stellation_of_icosahedron.png"/>
          <p:cNvPicPr/>
          <p:nvPr/>
        </p:nvPicPr>
        <p:blipFill>
          <a:blip r:embed="rId1"/>
          <a:stretch/>
        </p:blipFill>
        <p:spPr>
          <a:xfrm>
            <a:off x="6143760" y="2071800"/>
            <a:ext cx="2685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здчатый окт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только одна звёздчатая форма октаэдра. Звёздчатый октаэдр был открыт Леонардо да Винчи, затем спустя почти 100 лет переоткрыт Иоганном Кеплером, и назван им Stella octangula — звезда восьмиугольная. Отсюда эта форма имеет и второе название «stella octangula Кеплера». По сути она является соединением двух тетраэд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Documents and Settings\Софья\Desktop\КАЧАЮ СЕЙЧАС\геометр\First_stellation_of_octahedron.png"/>
          <p:cNvPicPr/>
          <p:nvPr/>
        </p:nvPicPr>
        <p:blipFill>
          <a:blip r:embed="rId1"/>
          <a:stretch/>
        </p:blipFill>
        <p:spPr>
          <a:xfrm>
            <a:off x="6215040" y="16430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Documents and Settings\Софья\Desktop\КАЧАЮ СЕЙЧАС\геометр\зв тетраэдр.png"/>
          <p:cNvPicPr/>
          <p:nvPr/>
        </p:nvPicPr>
        <p:blipFill>
          <a:blip r:embed="rId2"/>
          <a:stretch/>
        </p:blipFill>
        <p:spPr>
          <a:xfrm>
            <a:off x="6286680" y="4286160"/>
            <a:ext cx="2304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здчатые формы додекаэ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4757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одекаэдр имеет 3 звёздчатые формы: малый звёздчатый додекаэдр, большой додекаэдр, большой звёздчатый додекаэдр (звёздчатый большой додекаэдр, завершающая форма). Первые две из них были открыты Кеплером (1619), третья — Пуансо (1809). В отличие от октаэдра любая из звёздчатых форм додекаэдра не является соединением платоновых тел, а образует Все 3 звёздчатые формы додекаэдра, вместе с большим икосаэдром образуют семейство тел Кеплера-Пуансо, то есть правильных невыпуклых (звёздчатых) многогранник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 большого додекаэдра гранями являются пятиугольники, которые, сходятся по пять в каждой из вершин. У малого звёздчатого и большого звёздчатого додекаэдров грани - пятиконечные звёзды (пентаграммы), которые в первом случае сходятся по 5, а во втором по 3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ершины большого звёздчатого додекаэдра совпадают с вершинами описанного додекаэдра. У каждой вершины соединяются три грани. новый многогранни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Documents and Settings\Софья\Desktop\КАЧАЮ СЕЙЧАС\геометр\144px-Second_stellation_of_dodecahedron.png"/>
          <p:cNvPicPr/>
          <p:nvPr/>
        </p:nvPicPr>
        <p:blipFill>
          <a:blip r:embed="rId1"/>
          <a:stretch/>
        </p:blipFill>
        <p:spPr>
          <a:xfrm>
            <a:off x="5214960" y="292896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Documents and Settings\Софья\Desktop\КАЧАЮ СЕЙЧАС\геометр\144px-Third_stellation_of_dodecahedron.png"/>
          <p:cNvPicPr/>
          <p:nvPr/>
        </p:nvPicPr>
        <p:blipFill>
          <a:blip r:embed="rId2"/>
          <a:stretch/>
        </p:blipFill>
        <p:spPr>
          <a:xfrm>
            <a:off x="6786720" y="4643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Documents and Settings\Софья\Desktop\КАЧАЮ СЕЙЧАС\геометр\144px-First_stellation_of_dodecahedron.png"/>
          <p:cNvPicPr/>
          <p:nvPr/>
        </p:nvPicPr>
        <p:blipFill>
          <a:blip r:embed="rId3"/>
          <a:stretch/>
        </p:blipFill>
        <p:spPr>
          <a:xfrm>
            <a:off x="7000920" y="128592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здчатые формы икосаэ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4471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косаэдр имеет 59 звёздчатых форм, из которых 32 обладают полной, а 27 неполной икосаэдральной симметрией, что было доказано Кокстером совместно с Дювалем, Флэзером и Петри c применением правил ограничения, установленных Дж. Миллером. Одна из этих звёздчатых форм (20-я, мод. 41 по Веннинджеру), называемая большим икосаэдром (см. рис), является одним из четырёх правильных звёздчатых многогранников Кеплера—Пуансо. Его гранями являются правильные треугольники, которые сходятся в каждой вершине по пять; это свойство является у большого икосаэдра общим с икосаэдром. Среди звёздчатых форм также имеются: соединение пяти октаэдров, соединение пяти тетраэдров, соединение десяти тетраэдров. Если каждую из них продолжить неограниченно, то тело будет окружено большим многообразием отсеков — частей пространства, ограниченных плоскостями граней. Все звёздчатые формы икосаэдра можно получить добавлением к исходному телу таких отсеков. Не считая самого икосаэдра, продолжения его граней отделяют от пространства 20+30+60+20+60+120+ 12+30+60+60 отсеков десяти различных форм и размеров. Большой икосаэдр состоит из всех этих кусков, за исключением последних шестидесяти. Следующая звёздчатая форма - завершающа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Documents and Settings\Софья\Desktop\КАЧАЮ СЕЙЧАС\геометр\144px-Third_compound_stellation_of_icosahedron.png"/>
          <p:cNvPicPr/>
          <p:nvPr/>
        </p:nvPicPr>
        <p:blipFill>
          <a:blip r:embed="rId1"/>
          <a:stretch/>
        </p:blipFill>
        <p:spPr>
          <a:xfrm>
            <a:off x="5286240" y="2928960"/>
            <a:ext cx="1521000" cy="152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Documents and Settings\Софья\Desktop\КАЧАЮ СЕЙЧАС\геометр\144px-First_compound_stellation_of_icosahedron.png"/>
          <p:cNvPicPr/>
          <p:nvPr/>
        </p:nvPicPr>
        <p:blipFill>
          <a:blip r:embed="rId2"/>
          <a:stretch/>
        </p:blipFill>
        <p:spPr>
          <a:xfrm>
            <a:off x="5072040" y="4929120"/>
            <a:ext cx="1652760" cy="16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:\Documents and Settings\Софья\Desktop\КАЧАЮ СЕЙЧАС\геометр\144px-Second_compound_stellation_of_icosahedron.png"/>
          <p:cNvPicPr/>
          <p:nvPr/>
        </p:nvPicPr>
        <p:blipFill>
          <a:blip r:embed="rId3"/>
          <a:stretch/>
        </p:blipFill>
        <p:spPr>
          <a:xfrm>
            <a:off x="7215120" y="3786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Documents and Settings\Софья\Desktop\КАЧАЮ СЕЙЧАС\геометр\144px-Seventeenth_stellation_of_icosahedron.png"/>
          <p:cNvPicPr/>
          <p:nvPr/>
        </p:nvPicPr>
        <p:blipFill>
          <a:blip r:embed="rId4"/>
          <a:stretch/>
        </p:blipFill>
        <p:spPr>
          <a:xfrm>
            <a:off x="7072200" y="1214280"/>
            <a:ext cx="16527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здчатые формы кубооктаэ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бооктаэдр имеет 4 звёздчатые формы, удовлетворяющие ограничениям, введённым Миллером. Первая из них является соединением куба и октаэд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Documents and Settings\Софья\Desktop\КАЧАЮ СЕЙЧАС\геометр\144px-Second_stellation_of_cuboctahedron.png"/>
          <p:cNvPicPr/>
          <p:nvPr/>
        </p:nvPicPr>
        <p:blipFill>
          <a:blip r:embed="rId1"/>
          <a:stretch/>
        </p:blipFill>
        <p:spPr>
          <a:xfrm>
            <a:off x="5143680" y="2643120"/>
            <a:ext cx="1500120" cy="155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Documents and Settings\Софья\Desktop\КАЧАЮ СЕЙЧАС\геометр\144px-First_stellation_of_cuboctahedron.png"/>
          <p:cNvPicPr/>
          <p:nvPr/>
        </p:nvPicPr>
        <p:blipFill>
          <a:blip r:embed="rId2"/>
          <a:stretch/>
        </p:blipFill>
        <p:spPr>
          <a:xfrm>
            <a:off x="7286760" y="16430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Documents and Settings\Софья\Desktop\КАЧАЮ СЕЙЧАС\геометр\фкепфу.png"/>
          <p:cNvPicPr/>
          <p:nvPr/>
        </p:nvPicPr>
        <p:blipFill>
          <a:blip r:embed="rId3"/>
          <a:stretch/>
        </p:blipFill>
        <p:spPr>
          <a:xfrm>
            <a:off x="7483320" y="4000680"/>
            <a:ext cx="1446480" cy="157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Documents and Settings\Софья\Desktop\КАЧАЮ СЕЙЧАС\геометр\НАДО.png"/>
          <p:cNvPicPr/>
          <p:nvPr/>
        </p:nvPicPr>
        <p:blipFill>
          <a:blip r:embed="rId4"/>
          <a:stretch/>
        </p:blipFill>
        <p:spPr>
          <a:xfrm>
            <a:off x="5072040" y="4711680"/>
            <a:ext cx="1571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ёздчатые формы икосододекаэд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4686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косододекаэдр имеет множество звёздчатых форм, первая из которых есть соединение икосаэдра и додекаэдра. Икосододекаэдр имеет 32 грани, из которых 12 являются правильными пятиугольными гранями, а остальные 20 — правильные треугольники. Что касается вопроса о том, могут ли получившиеся многогранники оказаться правильными, то на него давно получен ответ. Великий математик Коши ещё в 1811 году доказал, что список правильных многогранников исчерпывается пятью платоновыми телами вкупе с четырьмя многогранниками Кеплера — Пуанс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Documents and Settings\Софья\Desktop\КАЧАЮ СЕЙЧАС\геометр\144px-First_stellation_of_icosidodecahedron.png"/>
          <p:cNvPicPr/>
          <p:nvPr/>
        </p:nvPicPr>
        <p:blipFill>
          <a:blip r:embed="rId1"/>
          <a:stretch/>
        </p:blipFill>
        <p:spPr>
          <a:xfrm>
            <a:off x="7000920" y="4786200"/>
            <a:ext cx="1773360" cy="177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Documents and Settings\Софья\Desktop\КАЧАЮ СЕЙЧАС\геометр\144px-Eighteenth_stellation_of_icosidodecahedron.png"/>
          <p:cNvPicPr/>
          <p:nvPr/>
        </p:nvPicPr>
        <p:blipFill>
          <a:blip r:embed="rId2"/>
          <a:stretch/>
        </p:blipFill>
        <p:spPr>
          <a:xfrm>
            <a:off x="4929120" y="30002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Documents and Settings\Софья\Desktop\КАЧАЮ СЕЙЧАС\геометр\144px-Eleventh_stellation_of_icosidodecahedron.png"/>
          <p:cNvPicPr/>
          <p:nvPr/>
        </p:nvPicPr>
        <p:blipFill>
          <a:blip r:embed="rId3"/>
          <a:stretch/>
        </p:blipFill>
        <p:spPr>
          <a:xfrm>
            <a:off x="7072200" y="1428840"/>
            <a:ext cx="16527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Documents and Settings\Софья\Desktop\КАЧАЮ СЕЙЧАС\геометр\Almaz-Gornjak.jpg"/>
          <p:cNvPicPr/>
          <p:nvPr/>
        </p:nvPicPr>
        <p:blipFill>
          <a:blip r:embed="rId1"/>
          <a:stretch/>
        </p:blipFill>
        <p:spPr>
          <a:xfrm>
            <a:off x="2214720" y="1428840"/>
            <a:ext cx="4500360" cy="4500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1071720" y="7142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Многогранность — ключ к безграничности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0:42:42Z</dcterms:created>
  <dc:creator>Софья</dc:creator>
  <dc:description/>
  <dc:language>en-US</dc:language>
  <cp:lastModifiedBy>Admin</cp:lastModifiedBy>
  <dcterms:modified xsi:type="dcterms:W3CDTF">2014-11-01T09:12:16Z</dcterms:modified>
  <cp:revision>14</cp:revision>
  <dc:subject/>
  <dc:title>Многогранники</dc:title>
</cp:coreProperties>
</file>