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5B1-888C-46A9-BB09-E7E90CBF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E15-1EDA-446A-A964-C537E548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2FC-CCB7-49D6-A017-EBBF8FA8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168-6018-4830-9090-EC6235E2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ACE-1196-4493-8BDA-E39A7297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F5C-FD0A-4732-953B-1B4B1C59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17A-F9BC-4A06-9E37-B6E93A27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DFC-EB2F-47CF-B5E3-7ED404D8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31F-DE31-4548-A157-A82D2F76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70B-7DAC-4FA3-B7C9-34BC5C3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846-8542-4E99-9FE4-B927C35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E12-933A-4E1C-A33E-637C1139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62D-6237-4691-8726-246A8023A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LVI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жрегиональная научно-практическая конференц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кольников и учащейся молодежи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ма: «Чудесный лекарь»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чное направление: начальное обу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ченица 3 клас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У «Харламовская СОШ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Желябовская Кристина  Никола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У «Харламовская СОШ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ркер Татьяна Александро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839880"/>
            <a:ext cx="8534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выполнении работы я научила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ланировать свою деятельность, принимать реш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работать с различными источниками информац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доводить начатое дело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авильно вести опрос участников исследо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олучила опыт публичных высту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08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и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рать данные о лечебных свойствах шиповника и об его использовании жителями нашего села в народной медиц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Познакомить с историческими материалами о шиповн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Собрать данные о лечебных свойствах шипов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Расширить знания о лекарственных травах, растущих в нашей м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исследован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 думаю, что тема работы важна, потому что лекарственные травы, собранные в природе, укрепляют и сохраняют здоровь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жет ли шиповник  укрепить и сохранить здоровь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брать данные об  использовании шиповника в лечебных целях у жителей нашего с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растение шип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мет исследования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бные свойства шипо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дни роскошного расцве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приходит жар и зн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повник, милый вестник ле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еняет нас своей красой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. А. Холод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6000" y="2349360"/>
            <a:ext cx="30542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8820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167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560520"/>
            <a:ext cx="842472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426960"/>
            <a:ext cx="82087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7T03:18:42Z</dcterms:created>
  <dc:creator>BoyNG</dc:creator>
  <dc:description/>
  <dc:language>en-US</dc:language>
  <cp:lastModifiedBy>BoyNG</cp:lastModifiedBy>
  <dcterms:modified xsi:type="dcterms:W3CDTF">2014-02-24T03:07:08Z</dcterms:modified>
  <cp:revision>6</cp:revision>
  <dc:subject/>
  <dc:title>XLVI Межрегиональная научно-практическая конференция школьников и учащейся молодежи    Тема: «Чудесный лекарь» Научное направление: начальное обучение </dc:title>
</cp:coreProperties>
</file>