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9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674-1260-469B-B14A-199518B6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0DE-916C-40DD-8744-0823F6E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4F1-0557-4465-9EDD-23AF4A56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C46-2E1D-4F41-A08D-1622EA8D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EBC7-B036-4A97-A097-7D100157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C911-7640-43A4-8B1A-CD9EB9A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D60A-4776-4886-9137-E70D4D0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BE3-7CE7-4E44-85EE-9FDEA6CA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34E-9E5D-42D8-A836-BFC6974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8B3D-2DFA-4DDA-A9D3-EBD595B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6BA-8762-41E7-B834-05E7FBA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BF8-4C8A-423B-9995-E1A88A1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B01F-B223-4CFE-A7D0-76E347B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AEA8-8212-4030-8818-A067E6AB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468-B086-4CA6-9674-018BADB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AED6-F980-441F-9545-F89EE5C0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B6F6-DE3A-4FB6-8BEB-4A3E71C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085-7F11-4799-9F47-E900744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FDE-5380-4107-9D61-2B96370A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173-7427-4FD3-AB96-0BC36A0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5F4-0D23-4B24-93C5-CE5F8899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015-F233-403D-86E7-BBBE209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F0F-AE74-45AF-A81A-B29FEBB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C96-1031-406A-A00F-628E1D7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42E-EE5A-4275-80BF-08D153D3C5E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B30A-ED1B-4648-A291-AEE87D7A012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146240"/>
            <a:ext cx="8229600" cy="2755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0002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молкина Елена Алексеевна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ОУ Козловская СО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турлиновского муниципального района Воронежско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F:\Пожар\Artem-Kashkanov_ru1249630384.jpg"/>
          <p:cNvPicPr/>
          <p:nvPr/>
        </p:nvPicPr>
        <p:blipFill>
          <a:blip r:embed="rId1"/>
          <a:stretch/>
        </p:blipFill>
        <p:spPr>
          <a:xfrm>
            <a:off x="500040" y="709560"/>
            <a:ext cx="813744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F:\Пожар\greece.jpg"/>
          <p:cNvPicPr/>
          <p:nvPr/>
        </p:nvPicPr>
        <p:blipFill>
          <a:blip r:embed="rId1"/>
          <a:stretch/>
        </p:blipFill>
        <p:spPr>
          <a:xfrm>
            <a:off x="2143080" y="258840"/>
            <a:ext cx="47833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F:\Пожар\greece_fire_1.jpg"/>
          <p:cNvPicPr/>
          <p:nvPr/>
        </p:nvPicPr>
        <p:blipFill>
          <a:blip r:embed="rId1"/>
          <a:stretch/>
        </p:blipFill>
        <p:spPr>
          <a:xfrm>
            <a:off x="531720" y="714240"/>
            <a:ext cx="8080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:\Пожар\fire002.jpg"/>
          <p:cNvPicPr/>
          <p:nvPr/>
        </p:nvPicPr>
        <p:blipFill>
          <a:blip r:embed="rId2"/>
          <a:stretch/>
        </p:blipFill>
        <p:spPr>
          <a:xfrm>
            <a:off x="1112760" y="1357200"/>
            <a:ext cx="6816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F:\Пожар\fire003s.jpg"/>
          <p:cNvPicPr/>
          <p:nvPr/>
        </p:nvPicPr>
        <p:blipFill>
          <a:blip r:embed="rId1"/>
          <a:stretch/>
        </p:blipFill>
        <p:spPr>
          <a:xfrm>
            <a:off x="2357280" y="484200"/>
            <a:ext cx="4572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F:\Пожар\fire009s.jpg"/>
          <p:cNvPicPr/>
          <p:nvPr/>
        </p:nvPicPr>
        <p:blipFill>
          <a:blip r:embed="rId1"/>
          <a:stretch/>
        </p:blipFill>
        <p:spPr>
          <a:xfrm>
            <a:off x="684360" y="500040"/>
            <a:ext cx="76024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F:\Пожар\fire001.jpg"/>
          <p:cNvPicPr/>
          <p:nvPr/>
        </p:nvPicPr>
        <p:blipFill>
          <a:blip r:embed="rId1"/>
          <a:stretch/>
        </p:blipFill>
        <p:spPr>
          <a:xfrm>
            <a:off x="714240" y="533520"/>
            <a:ext cx="76647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F:\Пожар\fire06gs.jpg"/>
          <p:cNvPicPr/>
          <p:nvPr/>
        </p:nvPicPr>
        <p:blipFill>
          <a:blip r:embed="rId1"/>
          <a:stretch/>
        </p:blipFill>
        <p:spPr>
          <a:xfrm>
            <a:off x="2143080" y="142920"/>
            <a:ext cx="4929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:\Пожар\mokhovoe_pozhar.jpg"/>
          <p:cNvPicPr/>
          <p:nvPr/>
        </p:nvPicPr>
        <p:blipFill>
          <a:blip r:embed="rId2"/>
          <a:stretch/>
        </p:blipFill>
        <p:spPr>
          <a:xfrm>
            <a:off x="627120" y="1428840"/>
            <a:ext cx="7921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F:\Пожар\russia_fire_2.jpg"/>
          <p:cNvPicPr/>
          <p:nvPr/>
        </p:nvPicPr>
        <p:blipFill>
          <a:blip r:embed="rId1"/>
          <a:stretch/>
        </p:blipFill>
        <p:spPr>
          <a:xfrm>
            <a:off x="466560" y="642960"/>
            <a:ext cx="82108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F:\Пожар\artem-kashkanov_ru1249630478.jpg"/>
          <p:cNvPicPr/>
          <p:nvPr/>
        </p:nvPicPr>
        <p:blipFill>
          <a:blip r:embed="rId1"/>
          <a:stretch/>
        </p:blipFill>
        <p:spPr>
          <a:xfrm>
            <a:off x="1643040" y="500040"/>
            <a:ext cx="6000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326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500040" y="274680"/>
            <a:ext cx="81867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F:\Пожар\artem-kashkanov_ru1249630501.jpg"/>
          <p:cNvPicPr/>
          <p:nvPr/>
        </p:nvPicPr>
        <p:blipFill>
          <a:blip r:embed="rId2"/>
          <a:stretch/>
        </p:blipFill>
        <p:spPr>
          <a:xfrm>
            <a:off x="1857240" y="1357200"/>
            <a:ext cx="5261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F:\Пожар\mokhovoe_digg.jpg"/>
          <p:cNvPicPr/>
          <p:nvPr/>
        </p:nvPicPr>
        <p:blipFill>
          <a:blip r:embed="rId1"/>
          <a:stretch/>
        </p:blipFill>
        <p:spPr>
          <a:xfrm>
            <a:off x="485640" y="642960"/>
            <a:ext cx="8137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F:\Пожар\Artem-Kashkanov_ru1249630465.jpg"/>
          <p:cNvPicPr/>
          <p:nvPr/>
        </p:nvPicPr>
        <p:blipFill>
          <a:blip r:embed="rId1"/>
          <a:stretch/>
        </p:blipFill>
        <p:spPr>
          <a:xfrm>
            <a:off x="571680" y="714240"/>
            <a:ext cx="8026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F:\Пожар\s44792700.jpg"/>
          <p:cNvPicPr/>
          <p:nvPr/>
        </p:nvPicPr>
        <p:blipFill>
          <a:blip r:embed="rId1"/>
          <a:stretch/>
        </p:blipFill>
        <p:spPr>
          <a:xfrm>
            <a:off x="744480" y="571680"/>
            <a:ext cx="7756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F:\Пожар\russia_fire_3.jpg"/>
          <p:cNvPicPr/>
          <p:nvPr/>
        </p:nvPicPr>
        <p:blipFill>
          <a:blip r:embed="rId1"/>
          <a:stretch/>
        </p:blipFill>
        <p:spPr>
          <a:xfrm>
            <a:off x="730080" y="714240"/>
            <a:ext cx="781056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F:\Пожар\0002-001-Eti-vrednye-sestrichki-Ukhvatili-utrom-spichki.jpg"/>
          <p:cNvPicPr/>
          <p:nvPr/>
        </p:nvPicPr>
        <p:blipFill>
          <a:blip r:embed="rId1"/>
          <a:stretch/>
        </p:blipFill>
        <p:spPr>
          <a:xfrm>
            <a:off x="357120" y="500040"/>
            <a:ext cx="82868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F:\Пожар\russia_fire.jpg"/>
          <p:cNvPicPr/>
          <p:nvPr/>
        </p:nvPicPr>
        <p:blipFill>
          <a:blip r:embed="rId2"/>
          <a:stretch/>
        </p:blipFill>
        <p:spPr>
          <a:xfrm>
            <a:off x="1251000" y="1571760"/>
            <a:ext cx="6570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8:41:48Z</dcterms:created>
  <dc:creator>Admin</dc:creator>
  <dc:description/>
  <dc:language>en-US</dc:language>
  <cp:lastModifiedBy>Admin</cp:lastModifiedBy>
  <dcterms:modified xsi:type="dcterms:W3CDTF">2014-11-11T17:39:19Z</dcterms:modified>
  <cp:revision>7</cp:revision>
  <dc:subject/>
  <dc:title>Осторожно, огонь!</dc:title>
</cp:coreProperties>
</file>