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E08F-E63D-4D30-9661-59C1A2B6A8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DC39-BE5C-4831-8DD4-3BAF7D4951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77E-49A3-4892-B85F-D237C280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112-0E7B-47D0-8B8B-81A292FF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665-F962-47BC-999E-6C2AFEA4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4CB-D422-45A8-99E3-571D97AA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3C26-B12D-4239-87A8-15578018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6DB8-1061-46AE-A50A-2734EEC3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8C01-9895-421B-B683-C077A5B4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D490-0E5B-41EB-B574-1EFFE60B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551C-8B04-41D9-A8B5-E86A51FF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EC17-94B0-4C53-8DB2-B8F73537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92AA-7C7B-466E-B66B-C810BE8F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63B-36BC-488E-AD0A-6ABA9AF8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0CAF-1880-4AB7-919B-B03116A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564C-99C5-4380-8F53-B1370545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536C-19AF-432C-B965-E03B90C9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EA16-4E19-42FB-9AE6-42FD7465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F16F-BCFF-4E72-A2FE-4AA75D17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52031-6B59-4F9D-93F9-55E2DF60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5CEBC-EF6F-4C09-ABCD-F2A96FF5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298A4-9133-4C55-80AF-13BF735A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8E215-261A-4D1B-86E7-F9CDAA34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2EFEA-EED7-4F98-9203-C92487DB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D2C-3684-4379-A102-F12D5C1B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4FC4E-F4C2-42AB-871D-B13C56F3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798DA-25FB-4E8B-ACC6-B12655DD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3DC33-4C6D-4373-861F-6AB685AF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8BCED-84C0-432A-B2C2-011C1302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3148B-5979-4E97-B5F9-975133C6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3FE69-9C2E-4F11-B638-0B110C33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91DC3-F963-4C29-BA98-14E8AF2D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08EC6-B02B-457A-96BB-F3757031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D7CD0-8F83-460C-B5E4-5F04DF10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C01F5-B64C-43E4-B8D3-CBE64F73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5FF-E746-4F28-80D4-1A91AE71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A03C7-EA22-485F-86FE-5DAA8387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A7CD-0E81-4FEB-A167-BF7FE0DE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91FC1-D5DA-4ACF-A1A2-32CA39F3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260AA-D6D5-4546-AF0C-7F4E7A39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B7401-398C-40D1-84FF-96A6C08E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6308A-4F5D-4B0D-AA13-D3446845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D9CE4-9A7F-42EA-8B11-8334C6A2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EE9A6-D45B-4A4D-BE34-11A562E2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6240F-6F02-4E8F-A973-BB151E7A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66113-7382-44DD-ABAA-9EA0A218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278-14C2-4AE4-AF1A-75178855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43CA4-DF4D-4297-96A5-A8C02D04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D4E0B-73BE-417F-91F5-81CC63A9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1E3C5A-7D35-4ECD-873F-ABB6AB9A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07ACD-467B-449C-BD92-E3529A80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4D03F-E5E7-40FC-B78C-028995BE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CA5C0-0AB4-40B5-8A6B-A806761A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B7C3C0-4EBA-42DE-8121-0F24AB4C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B91F3-1A3C-42F0-8097-5364A184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DBD26-C295-49B7-A58A-CEB42DE5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05186-9124-4AD3-8485-CA2B9979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0CA-4864-401A-BCB2-1CB42DBD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067A8-A047-4926-9999-2A8FD68A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268A5-3679-4BC7-938B-69FC0FC4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F1FD0-7A24-4535-9AA7-65D8ECAB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D6BB0-8FEF-42D1-AF9B-9CC4E03C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8F4E2-3EE3-48BE-89B2-D0D161AE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B04D7-C515-4FC0-A7CD-49AF00EF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BC2198-D8F1-4DBA-B7FB-0CE2651F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8C70DD-8F6B-4445-9285-5635F2AF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DF348-BF5A-4BAE-AF01-2E9E379A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A53B7-71A6-45BA-886B-E75A4426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713-FCBC-41CC-974A-4671B754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16FB7-99CC-44C2-9EC9-90AED563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C8043C-FE9F-4199-B0AE-B08DFE49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E049C-549F-4D2D-A5ED-F3A826E3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6F769-D80D-46D8-BCA8-57E0E66E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F9B0E-E015-4C28-8F2F-B3D98716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0C20AE-52FA-49B3-9805-B141D487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52B7B0-EEBB-4A83-91D3-55013B46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432E8-BEC7-46F2-B43B-BB4752B1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AB120-EBE9-49B6-8B22-5B163BF6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7E10DB-25C9-45D9-908D-727135B5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4EA-D687-43DB-A91C-C80A396E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CCA679-3C69-4F8D-B636-0B33BD4E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DFC1F9-0F64-48C7-A33C-182F8C3A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C42A3-941C-4CB1-9780-5E428EBB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350F6-F440-4396-9FAF-C6E3BEE7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72CF7-7253-4507-925A-59DAC9B6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315-D789-4FBC-8A9F-409290B9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E9C7-DE5C-4302-A34D-C406373D492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2C18-84C8-4D75-A8C1-21ED5D76D68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9B22-9818-4360-83EA-7AE03664A3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65F9-0C7E-4AB1-B7CE-F1DA88C48BF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A315-B308-48E6-8B89-2301AED294A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5C50-94AD-49E8-B8EA-48817F2FB70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2B80-1514-4F51-A8DC-58D1D259764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7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652400" y="5084640"/>
            <a:ext cx="74898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ржаникова Инна Владимировна, 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БОУ ДО «ДДТ» п. Ханым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014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Прямоугольник 1" descr=""/>
          <p:cNvPicPr/>
          <p:nvPr/>
        </p:nvPicPr>
        <p:blipFill>
          <a:blip r:embed="rId2"/>
          <a:stretch/>
        </p:blipFill>
        <p:spPr>
          <a:xfrm>
            <a:off x="658800" y="907920"/>
            <a:ext cx="8058240" cy="30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D:\1_1.jpg"/>
          <p:cNvPicPr/>
          <p:nvPr/>
        </p:nvPicPr>
        <p:blipFill>
          <a:blip r:embed="rId1"/>
          <a:srcRect l="36347" t="0" r="52304" b="80656"/>
          <a:stretch/>
        </p:blipFill>
        <p:spPr>
          <a:xfrm>
            <a:off x="628560" y="2576520"/>
            <a:ext cx="1262160" cy="13111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D:\1_1.jpg"/>
          <p:cNvPicPr/>
          <p:nvPr/>
        </p:nvPicPr>
        <p:blipFill>
          <a:blip r:embed="rId2"/>
          <a:srcRect l="2617" t="58239" r="86197" b="25021"/>
          <a:stretch/>
        </p:blipFill>
        <p:spPr>
          <a:xfrm>
            <a:off x="2176560" y="2519280"/>
            <a:ext cx="1243080" cy="11336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1"/>
          <p:cNvSpPr/>
          <p:nvPr/>
        </p:nvSpPr>
        <p:spPr>
          <a:xfrm>
            <a:off x="2157480" y="56595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УБЧАТОЕ  КОЛЕС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6" descr="D:\6_1.jpg"/>
          <p:cNvPicPr/>
          <p:nvPr/>
        </p:nvPicPr>
        <p:blipFill>
          <a:blip r:embed="rId3"/>
          <a:srcRect l="28315" t="55241" r="0" b="34504"/>
          <a:stretch/>
        </p:blipFill>
        <p:spPr>
          <a:xfrm>
            <a:off x="3452760" y="2360520"/>
            <a:ext cx="5143680" cy="1741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rcRect l="47533" t="8110" r="32128" b="0"/>
          <a:stretch/>
        </p:blipFill>
        <p:spPr>
          <a:xfrm>
            <a:off x="2916360" y="1125360"/>
            <a:ext cx="2906640" cy="331164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2340000" y="558972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АТЧИК КАС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D:\2_1.jpg"/>
          <p:cNvPicPr/>
          <p:nvPr/>
        </p:nvPicPr>
        <p:blipFill>
          <a:blip r:embed="rId1"/>
          <a:srcRect l="44524" t="2118" r="47411" b="90514"/>
          <a:stretch/>
        </p:blipFill>
        <p:spPr>
          <a:xfrm>
            <a:off x="7915320" y="1871640"/>
            <a:ext cx="795240" cy="14000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1"/>
          <p:cNvSpPr/>
          <p:nvPr/>
        </p:nvSpPr>
        <p:spPr>
          <a:xfrm>
            <a:off x="1185840" y="5797440"/>
            <a:ext cx="72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ЕДИНИТЕЛЬНЫЙ ШТИФ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8" descr="D:\5_1.jpg"/>
          <p:cNvPicPr/>
          <p:nvPr/>
        </p:nvPicPr>
        <p:blipFill>
          <a:blip r:embed="rId2"/>
          <a:srcRect l="19356" t="68367" r="46796" b="23496"/>
          <a:stretch/>
        </p:blipFill>
        <p:spPr>
          <a:xfrm>
            <a:off x="3890880" y="1855800"/>
            <a:ext cx="4024440" cy="1646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D:\5_1.jpg"/>
          <p:cNvPicPr/>
          <p:nvPr/>
        </p:nvPicPr>
        <p:blipFill>
          <a:blip r:embed="rId3"/>
          <a:srcRect l="0" t="54843" r="58951" b="31134"/>
          <a:stretch/>
        </p:blipFill>
        <p:spPr>
          <a:xfrm>
            <a:off x="130320" y="1855800"/>
            <a:ext cx="3760560" cy="2185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2673360" y="1413000"/>
            <a:ext cx="4124160" cy="29048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3"/>
          <p:cNvSpPr/>
          <p:nvPr/>
        </p:nvSpPr>
        <p:spPr>
          <a:xfrm>
            <a:off x="2179800" y="5877000"/>
            <a:ext cx="51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ЛОК УПРАВ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3990960" cy="4824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3"/>
          <p:cNvSpPr/>
          <p:nvPr/>
        </p:nvSpPr>
        <p:spPr>
          <a:xfrm>
            <a:off x="4002120" y="5656320"/>
            <a:ext cx="159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2"/>
          <a:srcRect l="0" t="0" r="0" b="32595"/>
          <a:stretch/>
        </p:blipFill>
        <p:spPr>
          <a:xfrm>
            <a:off x="1125360" y="476280"/>
            <a:ext cx="2808360" cy="5014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388360" cy="29052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3510000" y="55832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БЕ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522360" y="1125360"/>
            <a:ext cx="7615080" cy="30243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1"/>
          <p:cNvSpPr/>
          <p:nvPr/>
        </p:nvSpPr>
        <p:spPr>
          <a:xfrm>
            <a:off x="2484360" y="587844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ОГНУТАЯ БАЛ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152880" cy="2652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1330200" y="1844640"/>
            <a:ext cx="2676600" cy="2652840"/>
          </a:xfrm>
          <a:prstGeom prst="rect">
            <a:avLst/>
          </a:prstGeom>
          <a:ln w="0">
            <a:noFill/>
          </a:ln>
        </p:spPr>
      </p:pic>
      <p:sp>
        <p:nvSpPr>
          <p:cNvPr id="423" name="TextBox 3"/>
          <p:cNvSpPr/>
          <p:nvPr/>
        </p:nvSpPr>
        <p:spPr>
          <a:xfrm>
            <a:off x="3635280" y="5526000"/>
            <a:ext cx="323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УПИ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303120" y="809640"/>
            <a:ext cx="8372520" cy="5960880"/>
          </a:xfrm>
          <a:prstGeom prst="rect">
            <a:avLst/>
          </a:prstGeom>
          <a:ln w="0">
            <a:noFill/>
          </a:ln>
        </p:spPr>
      </p:pic>
      <p:grpSp>
        <p:nvGrpSpPr>
          <p:cNvPr id="425" name="Овал 1"/>
          <p:cNvGrpSpPr/>
          <p:nvPr/>
        </p:nvGrpSpPr>
        <p:grpSpPr>
          <a:xfrm>
            <a:off x="3560760" y="974880"/>
            <a:ext cx="517680" cy="598320"/>
            <a:chOff x="3560760" y="974880"/>
            <a:chExt cx="517680" cy="598320"/>
          </a:xfrm>
        </p:grpSpPr>
        <p:pic>
          <p:nvPicPr>
            <p:cNvPr id="426" name="Овал 1" descr=""/>
            <p:cNvPicPr/>
            <p:nvPr/>
          </p:nvPicPr>
          <p:blipFill>
            <a:blip r:embed="rId2"/>
            <a:stretch/>
          </p:blipFill>
          <p:spPr>
            <a:xfrm>
              <a:off x="3560760" y="974880"/>
              <a:ext cx="51768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3691080" y="1089000"/>
              <a:ext cx="253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Овал 4"/>
          <p:cNvGrpSpPr/>
          <p:nvPr/>
        </p:nvGrpSpPr>
        <p:grpSpPr>
          <a:xfrm>
            <a:off x="633240" y="3870360"/>
            <a:ext cx="519120" cy="598320"/>
            <a:chOff x="633240" y="3870360"/>
            <a:chExt cx="519120" cy="598320"/>
          </a:xfrm>
        </p:grpSpPr>
        <p:pic>
          <p:nvPicPr>
            <p:cNvPr id="429" name="Овал 4" descr=""/>
            <p:cNvPicPr/>
            <p:nvPr/>
          </p:nvPicPr>
          <p:blipFill>
            <a:blip r:embed="rId3"/>
            <a:stretch/>
          </p:blipFill>
          <p:spPr>
            <a:xfrm>
              <a:off x="633240" y="3870360"/>
              <a:ext cx="5191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65000" y="3981600"/>
              <a:ext cx="255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Овал 5"/>
          <p:cNvGrpSpPr/>
          <p:nvPr/>
        </p:nvGrpSpPr>
        <p:grpSpPr>
          <a:xfrm>
            <a:off x="6778800" y="6095880"/>
            <a:ext cx="517320" cy="596880"/>
            <a:chOff x="6778800" y="6095880"/>
            <a:chExt cx="517320" cy="596880"/>
          </a:xfrm>
        </p:grpSpPr>
        <p:pic>
          <p:nvPicPr>
            <p:cNvPr id="432" name="Овал 5" descr=""/>
            <p:cNvPicPr/>
            <p:nvPr/>
          </p:nvPicPr>
          <p:blipFill>
            <a:blip r:embed="rId4"/>
            <a:stretch/>
          </p:blipFill>
          <p:spPr>
            <a:xfrm>
              <a:off x="6778800" y="6095880"/>
              <a:ext cx="5173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6910560" y="6208560"/>
              <a:ext cx="2552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Овал 6"/>
          <p:cNvGrpSpPr/>
          <p:nvPr/>
        </p:nvGrpSpPr>
        <p:grpSpPr>
          <a:xfrm>
            <a:off x="4767120" y="3035160"/>
            <a:ext cx="517680" cy="592200"/>
            <a:chOff x="4767120" y="3035160"/>
            <a:chExt cx="517680" cy="592200"/>
          </a:xfrm>
        </p:grpSpPr>
        <p:pic>
          <p:nvPicPr>
            <p:cNvPr id="435" name="Овал 6" descr=""/>
            <p:cNvPicPr/>
            <p:nvPr/>
          </p:nvPicPr>
          <p:blipFill>
            <a:blip r:embed="rId5"/>
            <a:stretch/>
          </p:blipFill>
          <p:spPr>
            <a:xfrm>
              <a:off x="4767120" y="3035160"/>
              <a:ext cx="5176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4896000" y="3146400"/>
              <a:ext cx="255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Овал 7"/>
          <p:cNvGrpSpPr/>
          <p:nvPr/>
        </p:nvGrpSpPr>
        <p:grpSpPr>
          <a:xfrm>
            <a:off x="7808760" y="4906800"/>
            <a:ext cx="513000" cy="598680"/>
            <a:chOff x="7808760" y="4906800"/>
            <a:chExt cx="513000" cy="598680"/>
          </a:xfrm>
        </p:grpSpPr>
        <p:pic>
          <p:nvPicPr>
            <p:cNvPr id="438" name="Овал 7" descr=""/>
            <p:cNvPicPr/>
            <p:nvPr/>
          </p:nvPicPr>
          <p:blipFill>
            <a:blip r:embed="rId6"/>
            <a:stretch/>
          </p:blipFill>
          <p:spPr>
            <a:xfrm>
              <a:off x="7808760" y="4906800"/>
              <a:ext cx="51300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7937640" y="5019840"/>
              <a:ext cx="2556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Овал 10"/>
          <p:cNvGrpSpPr/>
          <p:nvPr/>
        </p:nvGrpSpPr>
        <p:grpSpPr>
          <a:xfrm>
            <a:off x="3017880" y="6095880"/>
            <a:ext cx="517320" cy="596880"/>
            <a:chOff x="3017880" y="6095880"/>
            <a:chExt cx="517320" cy="596880"/>
          </a:xfrm>
        </p:grpSpPr>
        <p:pic>
          <p:nvPicPr>
            <p:cNvPr id="441" name="Овал 10" descr=""/>
            <p:cNvPicPr/>
            <p:nvPr/>
          </p:nvPicPr>
          <p:blipFill>
            <a:blip r:embed="rId7"/>
            <a:stretch/>
          </p:blipFill>
          <p:spPr>
            <a:xfrm>
              <a:off x="3017880" y="6095880"/>
              <a:ext cx="5173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3146400" y="6208560"/>
              <a:ext cx="255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Box 3"/>
          <p:cNvSpPr/>
          <p:nvPr/>
        </p:nvSpPr>
        <p:spPr>
          <a:xfrm>
            <a:off x="4099680" y="85716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нель инстру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Box 14"/>
          <p:cNvSpPr/>
          <p:nvPr/>
        </p:nvSpPr>
        <p:spPr>
          <a:xfrm>
            <a:off x="4116600" y="356544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ее по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15"/>
          <p:cNvSpPr/>
          <p:nvPr/>
        </p:nvSpPr>
        <p:spPr>
          <a:xfrm>
            <a:off x="4930560" y="500364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льт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16"/>
          <p:cNvSpPr/>
          <p:nvPr/>
        </p:nvSpPr>
        <p:spPr>
          <a:xfrm>
            <a:off x="5861160" y="580392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кно подсказ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17"/>
          <p:cNvSpPr/>
          <p:nvPr/>
        </p:nvSpPr>
        <p:spPr>
          <a:xfrm>
            <a:off x="1799640" y="571968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нель конфигур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Box 18"/>
          <p:cNvSpPr/>
          <p:nvPr/>
        </p:nvSpPr>
        <p:spPr>
          <a:xfrm>
            <a:off x="1171080" y="405756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литра кома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Прямоугольник 2" descr=""/>
          <p:cNvPicPr/>
          <p:nvPr/>
        </p:nvPicPr>
        <p:blipFill>
          <a:blip r:embed="rId8"/>
          <a:stretch/>
        </p:blipFill>
        <p:spPr>
          <a:xfrm>
            <a:off x="49320" y="-66600"/>
            <a:ext cx="8899560" cy="93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4" descr=""/>
          <p:cNvPicPr/>
          <p:nvPr/>
        </p:nvPicPr>
        <p:blipFill>
          <a:blip r:embed="rId1"/>
          <a:srcRect l="10746" t="28676" r="72209" b="55732"/>
          <a:stretch/>
        </p:blipFill>
        <p:spPr>
          <a:xfrm>
            <a:off x="1900080" y="1719360"/>
            <a:ext cx="4551480" cy="30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1" name="TextBox 3"/>
          <p:cNvSpPr/>
          <p:nvPr/>
        </p:nvSpPr>
        <p:spPr>
          <a:xfrm>
            <a:off x="3700080" y="1114560"/>
            <a:ext cx="50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казывает какие порты управляются блок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Box 4"/>
          <p:cNvSpPr/>
          <p:nvPr/>
        </p:nvSpPr>
        <p:spPr>
          <a:xfrm>
            <a:off x="1692360" y="474336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конка показывает направление  движ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Box 5"/>
          <p:cNvSpPr/>
          <p:nvPr/>
        </p:nvSpPr>
        <p:spPr>
          <a:xfrm>
            <a:off x="5716440" y="4735440"/>
            <a:ext cx="188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кон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казывает ти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ительност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ользуем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Box 6"/>
          <p:cNvSpPr/>
          <p:nvPr/>
        </p:nvSpPr>
        <p:spPr>
          <a:xfrm>
            <a:off x="3713400" y="4776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кон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казыв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щ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5" name="Прямая со стрелкой 7"/>
          <p:cNvCxnSpPr/>
          <p:nvPr/>
        </p:nvCxnSpPr>
        <p:spPr>
          <a:xfrm flipV="1">
            <a:off x="5248440" y="1483560"/>
            <a:ext cx="403920" cy="672120"/>
          </a:xfrm>
          <a:prstGeom prst="straightConnector1">
            <a:avLst/>
          </a:prstGeom>
          <a:ln w="34920">
            <a:solidFill>
              <a:srgbClr val="7598d9"/>
            </a:solidFill>
            <a:miter/>
            <a:tailEnd len="med" type="arrow" w="med"/>
          </a:ln>
        </p:spPr>
      </p:cxnSp>
      <p:cxnSp>
        <p:nvCxnSpPr>
          <p:cNvPr id="456" name="Прямая со стрелкой 10"/>
          <p:cNvCxnSpPr/>
          <p:nvPr/>
        </p:nvCxnSpPr>
        <p:spPr>
          <a:xfrm>
            <a:off x="4833720" y="3960720"/>
            <a:ext cx="1107000" cy="783360"/>
          </a:xfrm>
          <a:prstGeom prst="straightConnector1">
            <a:avLst/>
          </a:prstGeom>
          <a:ln w="34920">
            <a:solidFill>
              <a:srgbClr val="7598d9"/>
            </a:solidFill>
            <a:miter/>
            <a:tailEnd len="med" type="arrow" w="med"/>
          </a:ln>
        </p:spPr>
      </p:cxnSp>
      <p:cxnSp>
        <p:nvCxnSpPr>
          <p:cNvPr id="457" name="Прямая со стрелкой 12"/>
          <p:cNvCxnSpPr>
            <a:endCxn id="450" idx="2"/>
          </p:cNvCxnSpPr>
          <p:nvPr/>
        </p:nvCxnSpPr>
        <p:spPr>
          <a:xfrm>
            <a:off x="4175280" y="4127040"/>
            <a:ext cx="2160" cy="616680"/>
          </a:xfrm>
          <a:prstGeom prst="straightConnector1">
            <a:avLst/>
          </a:prstGeom>
          <a:ln w="34920">
            <a:solidFill>
              <a:srgbClr val="7598d9"/>
            </a:solidFill>
            <a:miter/>
            <a:tailEnd len="med" type="arrow" w="med"/>
          </a:ln>
        </p:spPr>
      </p:cxnSp>
      <p:cxnSp>
        <p:nvCxnSpPr>
          <p:cNvPr id="458" name="Прямая со стрелкой 14"/>
          <p:cNvCxnSpPr/>
          <p:nvPr/>
        </p:nvCxnSpPr>
        <p:spPr>
          <a:xfrm flipH="1">
            <a:off x="2812320" y="4052880"/>
            <a:ext cx="537480" cy="682920"/>
          </a:xfrm>
          <a:prstGeom prst="straightConnector1">
            <a:avLst/>
          </a:prstGeom>
          <a:ln w="34920">
            <a:solidFill>
              <a:srgbClr val="7598d9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1"/>
          <p:cNvSpPr/>
          <p:nvPr/>
        </p:nvSpPr>
        <p:spPr>
          <a:xfrm>
            <a:off x="539640" y="1773360"/>
            <a:ext cx="8209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крепить знания, умения 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выки учащихся. Научиться самостоятельно писать программы для робот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Прямоугольник 1" descr=""/>
          <p:cNvPicPr/>
          <p:nvPr/>
        </p:nvPicPr>
        <p:blipFill>
          <a:blip r:embed="rId1"/>
          <a:stretch/>
        </p:blipFill>
        <p:spPr>
          <a:xfrm>
            <a:off x="2212920" y="365040"/>
            <a:ext cx="4864320" cy="114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1"/>
          <p:cNvSpPr/>
          <p:nvPr/>
        </p:nvSpPr>
        <p:spPr>
          <a:xfrm>
            <a:off x="182520" y="1039680"/>
            <a:ext cx="571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ем вперед в течении 3 секун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ючаем зву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Прямоугольник 1" descr=""/>
          <p:cNvPicPr/>
          <p:nvPr/>
        </p:nvPicPr>
        <p:blipFill>
          <a:blip r:embed="rId1"/>
          <a:stretch/>
        </p:blipFill>
        <p:spPr>
          <a:xfrm>
            <a:off x="1414440" y="225360"/>
            <a:ext cx="6297480" cy="113976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1"/>
          <p:cNvSpPr/>
          <p:nvPr/>
        </p:nvSpPr>
        <p:spPr>
          <a:xfrm>
            <a:off x="182520" y="1965240"/>
            <a:ext cx="729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ем вперед в течении 3 секунд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ем назад в течении  3 секун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ючаем зву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оугольник 1"/>
          <p:cNvSpPr/>
          <p:nvPr/>
        </p:nvSpPr>
        <p:spPr>
          <a:xfrm>
            <a:off x="182520" y="3284640"/>
            <a:ext cx="748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ем вперед в течении 2 секунд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ючаем звук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орачиваем направо в течении 4 секунд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Прямоугольник 1"/>
          <p:cNvSpPr/>
          <p:nvPr/>
        </p:nvSpPr>
        <p:spPr>
          <a:xfrm>
            <a:off x="324000" y="4549680"/>
            <a:ext cx="606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ючаем зву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ем вперед в течении 2 секун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ем назад 2 секун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орачиваем налево одним колес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ючаем зву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Прямоугольник 1" descr=""/>
          <p:cNvPicPr/>
          <p:nvPr/>
        </p:nvPicPr>
        <p:blipFill>
          <a:blip r:embed="rId1"/>
          <a:stretch/>
        </p:blipFill>
        <p:spPr>
          <a:xfrm>
            <a:off x="334800" y="225360"/>
            <a:ext cx="8474400" cy="113976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4"/>
          <p:cNvSpPr/>
          <p:nvPr/>
        </p:nvSpPr>
        <p:spPr>
          <a:xfrm>
            <a:off x="281160" y="1341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тся прямо 4 секун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анавливаетс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ет назад в течение 4 секун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анавлива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Прямоугольник 6"/>
          <p:cNvSpPr/>
          <p:nvPr/>
        </p:nvSpPr>
        <p:spPr>
          <a:xfrm>
            <a:off x="279360" y="530064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шина движется вперед 3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орачивается в течение 2 с на мес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анавливается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Прямоугольник 8"/>
          <p:cNvSpPr/>
          <p:nvPr/>
        </p:nvSpPr>
        <p:spPr>
          <a:xfrm>
            <a:off x="225360" y="3141720"/>
            <a:ext cx="614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шина едет вперед 3 се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орачивается в течении 2 сек по круг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анавл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ъезжает назад в течение 3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анавлива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Прямоугольник 1" descr=""/>
          <p:cNvPicPr/>
          <p:nvPr/>
        </p:nvPicPr>
        <p:blipFill>
          <a:blip r:embed="rId1"/>
          <a:stretch/>
        </p:blipFill>
        <p:spPr>
          <a:xfrm>
            <a:off x="1238400" y="291960"/>
            <a:ext cx="6710040" cy="11462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3"/>
          <p:cNvSpPr/>
          <p:nvPr/>
        </p:nvSpPr>
        <p:spPr>
          <a:xfrm>
            <a:off x="539640" y="195732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нового вы сегодня узн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у научилис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какими сложностями столкнулис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Прямоугольник 1" descr=""/>
          <p:cNvPicPr/>
          <p:nvPr/>
        </p:nvPicPr>
        <p:blipFill>
          <a:blip r:embed="rId1"/>
          <a:stretch/>
        </p:blipFill>
        <p:spPr>
          <a:xfrm>
            <a:off x="401760" y="1384200"/>
            <a:ext cx="8340480" cy="3608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755640" y="1720800"/>
            <a:ext cx="792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учающ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формирование умений работы с компьютером, развитие  исследовательских навыков учащихся и умения анализировать полученные результ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вивающ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развитие познавательной активности, развитие внимания и памяти учащих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спитатель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воспитание интереса к программирова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Прямоугольник 1" descr=""/>
          <p:cNvPicPr/>
          <p:nvPr/>
        </p:nvPicPr>
        <p:blipFill>
          <a:blip r:embed="rId1"/>
          <a:stretch/>
        </p:blipFill>
        <p:spPr>
          <a:xfrm>
            <a:off x="1981080" y="291960"/>
            <a:ext cx="5462640" cy="114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2"/>
          <p:cNvSpPr/>
          <p:nvPr/>
        </p:nvSpPr>
        <p:spPr>
          <a:xfrm>
            <a:off x="150840" y="1268280"/>
            <a:ext cx="6724800" cy="54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онный момен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 по технике безопас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го- разми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торение изученного материа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ктическая работа на компьютер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стоятельная творческая раб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монстрация готовых рабо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ведение итогов занят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Прямоугольник 1" descr=""/>
          <p:cNvPicPr/>
          <p:nvPr/>
        </p:nvPicPr>
        <p:blipFill>
          <a:blip r:embed="rId1"/>
          <a:stretch/>
        </p:blipFill>
        <p:spPr>
          <a:xfrm>
            <a:off x="2182680" y="201600"/>
            <a:ext cx="5321520" cy="114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7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90960" cy="3155760"/>
          </a:xfrm>
          <a:prstGeom prst="rect">
            <a:avLst/>
          </a:prstGeom>
          <a:ln w="0">
            <a:noFill/>
          </a:ln>
        </p:spPr>
      </p:pic>
      <p:sp>
        <p:nvSpPr>
          <p:cNvPr id="391" name="TextBox 1"/>
          <p:cNvSpPr/>
          <p:nvPr/>
        </p:nvSpPr>
        <p:spPr>
          <a:xfrm>
            <a:off x="3579840" y="59292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АЛ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Прямоугольник 2" descr=""/>
          <p:cNvPicPr/>
          <p:nvPr/>
        </p:nvPicPr>
        <p:blipFill>
          <a:blip r:embed="rId2"/>
          <a:stretch/>
        </p:blipFill>
        <p:spPr>
          <a:xfrm>
            <a:off x="1994040" y="438120"/>
            <a:ext cx="5522760" cy="1146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"/>
          <p:cNvPicPr/>
          <p:nvPr/>
        </p:nvPicPr>
        <p:blipFill>
          <a:blip r:embed="rId1"/>
          <a:stretch/>
        </p:blipFill>
        <p:spPr>
          <a:xfrm>
            <a:off x="2201760" y="839880"/>
            <a:ext cx="4729320" cy="372888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444600" y="5877000"/>
            <a:ext cx="82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НТЕРАКТИВНЫЙ СЕРВОМО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4029120" cy="56862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"/>
          <p:cNvSpPr/>
          <p:nvPr/>
        </p:nvSpPr>
        <p:spPr>
          <a:xfrm>
            <a:off x="2268360" y="587520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АЛКА С ШИП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6" descr=""/>
          <p:cNvPicPr/>
          <p:nvPr/>
        </p:nvPicPr>
        <p:blipFill>
          <a:blip r:embed="rId1"/>
          <a:stretch/>
        </p:blipFill>
        <p:spPr>
          <a:xfrm>
            <a:off x="900000" y="716040"/>
            <a:ext cx="3456000" cy="3614760"/>
          </a:xfrm>
          <a:prstGeom prst="rect">
            <a:avLst/>
          </a:prstGeom>
          <a:ln w="0">
            <a:noFill/>
          </a:ln>
        </p:spPr>
      </p:pic>
      <p:sp>
        <p:nvSpPr>
          <p:cNvPr id="398" name="TextBox 1"/>
          <p:cNvSpPr/>
          <p:nvPr/>
        </p:nvSpPr>
        <p:spPr>
          <a:xfrm>
            <a:off x="3276720" y="5732640"/>
            <a:ext cx="31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ИКС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7" descr="D:\5_1.jpg"/>
          <p:cNvPicPr/>
          <p:nvPr/>
        </p:nvPicPr>
        <p:blipFill>
          <a:blip r:embed="rId2"/>
          <a:srcRect l="34851" t="58666" r="54514" b="0"/>
          <a:stretch/>
        </p:blipFill>
        <p:spPr>
          <a:xfrm>
            <a:off x="5651640" y="716040"/>
            <a:ext cx="2001600" cy="3938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2214720" y="404640"/>
            <a:ext cx="4805280" cy="4040280"/>
          </a:xfrm>
          <a:prstGeom prst="rect">
            <a:avLst/>
          </a:prstGeom>
          <a:ln w="0">
            <a:noFill/>
          </a:ln>
        </p:spPr>
      </p:pic>
      <p:sp>
        <p:nvSpPr>
          <p:cNvPr id="401" name="TextBox 3"/>
          <p:cNvSpPr/>
          <p:nvPr/>
        </p:nvSpPr>
        <p:spPr>
          <a:xfrm>
            <a:off x="971640" y="57974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ЛЬТРАЗВУКОВОЙ ДАТЧИ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PC-1</cp:lastModifiedBy>
  <dcterms:modified xsi:type="dcterms:W3CDTF">2014-11-11T05:23:56Z</dcterms:modified>
  <cp:revision>34</cp:revision>
  <dc:subject/>
  <dc:title>Слайд 1</dc:title>
</cp:coreProperties>
</file>