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7CC2-79AB-4F79-BEF6-77CE61C8F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E163-A5DD-4FE2-B59D-1F9F2E2B3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4410-06C5-4A9D-A3BB-CACF2FF5E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BA12-8458-4890-94CB-20C5DB36D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B8AD-5D13-4170-87C5-FEBBB2593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5D61-EA0B-41CC-A997-8D2E0F921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F3E5-FE22-4BBF-9261-8886F97C9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8DFA-503C-4CDD-9405-E4D1228C2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9E81-7C3A-46E7-B25E-6143D0F9B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F75E-09B9-4D80-9322-1ACAE248B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6821-8B3D-4B54-B2C5-10E889C95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FD3B-178B-4554-B2FC-CE33F317E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B66B5-57AA-48EA-B5FB-1437565CE8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19080" y="0"/>
            <a:ext cx="9163080" cy="6905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371600" y="1600200"/>
            <a:ext cx="6629400" cy="165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блюдайте ПДД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3962520"/>
            <a:ext cx="48006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ыполнил: Драпун Филипп Вячеславович, ученик 11 класс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ОУ Кабановской СО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362320" y="563868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Февраль 2011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946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990720" y="838080"/>
            <a:ext cx="7086600" cy="50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bbe0e3"/>
                </a:solidFill>
                <a:latin typeface="Arial"/>
              </a:rPr>
              <a:t>Сообщает знак бесстрастно:</a:t>
            </a:r>
            <a:br>
              <a:rPr sz="1800"/>
            </a:br>
            <a:r>
              <a:rPr b="0" lang="ru-RU" sz="1800" spc="-1" strike="noStrike">
                <a:solidFill>
                  <a:srgbClr val="bbe0e3"/>
                </a:solidFill>
                <a:latin typeface="Arial"/>
              </a:rPr>
              <a:t>"Ехать здесь быстрей опасно!</a:t>
            </a:r>
            <a:br>
              <a:rPr sz="1800"/>
            </a:br>
            <a:r>
              <a:rPr b="0" lang="ru-RU" sz="1800" spc="-1" strike="noStrike">
                <a:solidFill>
                  <a:srgbClr val="bbe0e3"/>
                </a:solidFill>
                <a:latin typeface="Arial"/>
              </a:rPr>
              <a:t>Так что будьте вы добры</a:t>
            </a:r>
            <a:br>
              <a:rPr sz="1800"/>
            </a:br>
            <a:r>
              <a:rPr b="0" lang="ru-RU" sz="1800" spc="-1" strike="noStrike">
                <a:solidFill>
                  <a:srgbClr val="bbe0e3"/>
                </a:solidFill>
                <a:latin typeface="Arial"/>
              </a:rPr>
              <a:t>Снизить скорость до поры!"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…</a:t>
            </a:r>
            <a:r>
              <a:rPr b="0" lang="ru-RU" sz="1800" spc="-1" strike="noStrike">
                <a:solidFill>
                  <a:srgbClr val="bbe0e3"/>
                </a:solidFill>
                <a:latin typeface="Arial"/>
              </a:rPr>
              <a:t>Сказать мне больше нечего </a:t>
            </a:r>
            <a:br>
              <a:rPr sz="1800"/>
            </a:br>
            <a:r>
              <a:rPr b="0" lang="ru-RU" sz="1800" spc="-1" strike="noStrike">
                <a:solidFill>
                  <a:srgbClr val="bbe0e3"/>
                </a:solidFill>
                <a:latin typeface="Arial"/>
              </a:rPr>
              <a:t>Для всех один закон – </a:t>
            </a:r>
            <a:br>
              <a:rPr sz="1800"/>
            </a:br>
            <a:r>
              <a:rPr b="0" lang="ru-RU" sz="1800" spc="-1" strike="noStrike">
                <a:solidFill>
                  <a:srgbClr val="bbe0e3"/>
                </a:solidFill>
                <a:latin typeface="Arial"/>
              </a:rPr>
              <a:t>Для кошек и кузнечиков, </a:t>
            </a:r>
            <a:br>
              <a:rPr sz="1800"/>
            </a:br>
            <a:r>
              <a:rPr b="0" lang="ru-RU" sz="1800" spc="-1" strike="noStrike">
                <a:solidFill>
                  <a:srgbClr val="bbe0e3"/>
                </a:solidFill>
                <a:latin typeface="Arial"/>
              </a:rPr>
              <a:t>Людей, кротов, ворон </a:t>
            </a:r>
            <a:br>
              <a:rPr sz="1800"/>
            </a:br>
            <a:r>
              <a:rPr b="0" lang="ru-RU" sz="1800" spc="-1" strike="noStrike">
                <a:solidFill>
                  <a:srgbClr val="bbe0e3"/>
                </a:solidFill>
                <a:latin typeface="Arial"/>
              </a:rPr>
              <a:t>Быть очень осторожными </a:t>
            </a:r>
            <a:br>
              <a:rPr sz="1800"/>
            </a:b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Родных </a:t>
            </a:r>
            <a:r>
              <a:rPr b="0" lang="ru-RU" sz="1800" spc="-1" strike="noStrike">
                <a:solidFill>
                  <a:srgbClr val="bbe0e3"/>
                </a:solidFill>
                <a:latin typeface="Arial"/>
              </a:rPr>
              <a:t> не огорч</a:t>
            </a: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а</a:t>
            </a:r>
            <a:r>
              <a:rPr b="0" lang="ru-RU" sz="1800" spc="-1" strike="noStrike">
                <a:solidFill>
                  <a:srgbClr val="bbe0e3"/>
                </a:solidFill>
                <a:latin typeface="Arial"/>
              </a:rPr>
              <a:t>ть, </a:t>
            </a:r>
            <a:br>
              <a:rPr sz="1800"/>
            </a:b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Ты </a:t>
            </a:r>
            <a:r>
              <a:rPr b="0" lang="ru-RU" sz="1800" spc="-1" strike="noStrike">
                <a:solidFill>
                  <a:srgbClr val="bbe0e3"/>
                </a:solidFill>
                <a:latin typeface="Arial"/>
              </a:rPr>
              <a:t> правила дорожные </a:t>
            </a:r>
            <a:br>
              <a:rPr sz="1800"/>
            </a:b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На память должен зн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Arial"/>
              </a:rPr>
              <a:t>Всегда их соблюдать!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Желаем счастливой и безопасной всем дорог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-9360" y="-23760"/>
            <a:ext cx="9162720" cy="69055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-9360" y="-23760"/>
            <a:ext cx="9162720" cy="69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-9360" y="-23760"/>
            <a:ext cx="9162720" cy="69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-9360" y="-23760"/>
            <a:ext cx="9162720" cy="69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2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-9360" y="-23760"/>
            <a:ext cx="9162720" cy="69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-9360" y="-23760"/>
            <a:ext cx="9162720" cy="69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-9360" y="-23760"/>
            <a:ext cx="9162720" cy="69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0T07:52:58Z</dcterms:created>
  <dc:creator>Кабановская средняя школа</dc:creator>
  <dc:description/>
  <dc:language>en-US</dc:language>
  <cp:lastModifiedBy>Кабановская средняя школа</cp:lastModifiedBy>
  <dcterms:modified xsi:type="dcterms:W3CDTF">2011-02-14T12:30:07Z</dcterms:modified>
  <cp:revision>9</cp:revision>
  <dc:subject/>
  <dc:title>Слайд 1</dc:title>
</cp:coreProperties>
</file>