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135C-79E8-4CB3-BAD4-97345B01FB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F2C4-44FC-4C30-945C-03DDDE2A99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0EE8-3BD1-4C99-A8AC-5F7315CA9F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D0E0-EF4F-462A-AB95-F151BFC55D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1617-A824-465B-A37D-C60C88FB48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852-1BDD-4FB7-B804-E081EDBD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59F-A514-4F66-A450-BC05B82E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F8F-2AA0-46CE-ADC1-819133BE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FAE-8F78-4D60-BF01-4A263603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765-E8E4-49A6-BC8F-F485D38F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56F-17C1-487E-8C1D-CC918C53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44C-D3E1-48A6-A3C1-D97E1C08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CD0-5C62-442D-84AF-590454B9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476-9C52-40E0-B24C-7F5E030B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3E2-D40C-4C87-B98D-29D5B24F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295-D5CC-460E-9E0A-F8F7F33B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E2A1-1474-4BB2-8B60-23B66B89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B622-FDB6-4533-B43D-A6266767ED2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ptah76"/>
          <p:cNvPicPr/>
          <p:nvPr/>
        </p:nvPicPr>
        <p:blipFill>
          <a:blip r:embed="rId1"/>
          <a:stretch/>
        </p:blipFill>
        <p:spPr>
          <a:xfrm>
            <a:off x="250920" y="4518000"/>
            <a:ext cx="8713800" cy="21654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0"/>
          <p:cNvSpPr txBox="1"/>
          <p:nvPr/>
        </p:nvSpPr>
        <p:spPr>
          <a:xfrm>
            <a:off x="1357200" y="1714680"/>
            <a:ext cx="691380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1" descr="1b3"/>
          <p:cNvPicPr/>
          <p:nvPr/>
        </p:nvPicPr>
        <p:blipFill>
          <a:blip r:embed="rId2"/>
          <a:stretch/>
        </p:blipFill>
        <p:spPr>
          <a:xfrm>
            <a:off x="3851280" y="3433680"/>
            <a:ext cx="1539720" cy="1138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альбатрос"/>
          <p:cNvPicPr/>
          <p:nvPr/>
        </p:nvPicPr>
        <p:blipFill>
          <a:blip r:embed="rId3"/>
          <a:stretch/>
        </p:blipFill>
        <p:spPr>
          <a:xfrm>
            <a:off x="6084720" y="3860640"/>
            <a:ext cx="1089360" cy="11480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4"/>
          <a:stretch/>
        </p:blipFill>
        <p:spPr>
          <a:xfrm>
            <a:off x="347760" y="304920"/>
            <a:ext cx="7443720" cy="3297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6"/>
          <p:cNvSpPr/>
          <p:nvPr/>
        </p:nvSpPr>
        <p:spPr>
          <a:xfrm>
            <a:off x="539640" y="692280"/>
            <a:ext cx="831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23060"/>
                </a:solidFill>
                <a:latin typeface="Times New Roman"/>
              </a:rPr>
              <a:t>Отряды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30"/>
          <p:cNvSpPr/>
          <p:nvPr/>
        </p:nvSpPr>
        <p:spPr>
          <a:xfrm>
            <a:off x="214200" y="2071800"/>
            <a:ext cx="27860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нгв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31"/>
          <p:cNvSpPr/>
          <p:nvPr/>
        </p:nvSpPr>
        <p:spPr>
          <a:xfrm>
            <a:off x="3214800" y="2071800"/>
            <a:ext cx="27860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усо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32"/>
          <p:cNvSpPr/>
          <p:nvPr/>
        </p:nvSpPr>
        <p:spPr>
          <a:xfrm>
            <a:off x="6143760" y="2071800"/>
            <a:ext cx="27860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33"/>
          <p:cNvSpPr/>
          <p:nvPr/>
        </p:nvSpPr>
        <p:spPr>
          <a:xfrm>
            <a:off x="142920" y="3286080"/>
            <a:ext cx="28573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нду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34"/>
          <p:cNvSpPr/>
          <p:nvPr/>
        </p:nvSpPr>
        <p:spPr>
          <a:xfrm>
            <a:off x="3143160" y="3286080"/>
            <a:ext cx="28576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35"/>
          <p:cNvSpPr/>
          <p:nvPr/>
        </p:nvSpPr>
        <p:spPr>
          <a:xfrm>
            <a:off x="6143760" y="3286080"/>
            <a:ext cx="28573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се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36"/>
          <p:cNvSpPr/>
          <p:nvPr/>
        </p:nvSpPr>
        <p:spPr>
          <a:xfrm>
            <a:off x="142920" y="4572000"/>
            <a:ext cx="27860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уаро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37"/>
          <p:cNvSpPr/>
          <p:nvPr/>
        </p:nvSpPr>
        <p:spPr>
          <a:xfrm>
            <a:off x="5786280" y="4572000"/>
            <a:ext cx="32194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робьино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38"/>
          <p:cNvSpPr/>
          <p:nvPr/>
        </p:nvSpPr>
        <p:spPr>
          <a:xfrm>
            <a:off x="3071880" y="457200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исто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39"/>
          <p:cNvSpPr/>
          <p:nvPr/>
        </p:nvSpPr>
        <p:spPr>
          <a:xfrm>
            <a:off x="3214800" y="5715000"/>
            <a:ext cx="292896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невные хищные 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ряд Страусооб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арактерные призн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Крылья недоразвиты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Нет кил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На ногах-2 пальц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В костях нет воздушных полос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Шея не опер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4720" y="1428480"/>
            <a:ext cx="40417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риканский стра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tretch/>
        </p:blipFill>
        <p:spPr>
          <a:xfrm>
            <a:off x="4714920" y="2143080"/>
            <a:ext cx="3786120" cy="3929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ряд Нандуоб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ыкновенный нан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3214440" cy="3500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арактерные призн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4720" y="2174400"/>
            <a:ext cx="404172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8892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ылья недоразвиты;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Шея покрыта перья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На ногах-3 пальц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Нет кил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В костях нет воздушных пол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ряд Казуарооб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зу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6" descr=""/>
          <p:cNvPicPr/>
          <p:nvPr/>
        </p:nvPicPr>
        <p:blipFill>
          <a:blip r:embed="rId1"/>
          <a:stretch/>
        </p:blipFill>
        <p:spPr>
          <a:xfrm>
            <a:off x="1166760" y="2214720"/>
            <a:ext cx="2833920" cy="3246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арактерные призн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111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ылья недоразвиты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Хрящевой вырост на голо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На ногах-3 пальц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В костях нет воздухоносных полос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Нет ки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ряд Гусеоб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ебедь-шипун. Утка кряк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4" descr=""/>
          <p:cNvPicPr/>
          <p:nvPr/>
        </p:nvPicPr>
        <p:blipFill>
          <a:blip r:embed="rId1"/>
          <a:stretch/>
        </p:blipFill>
        <p:spPr>
          <a:xfrm>
            <a:off x="500040" y="2214720"/>
            <a:ext cx="2524320" cy="18954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арактерные призн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оплавающ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Короткие ноги, пальцев-4 (3 с перепонкам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Много пух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Клюв по краю с роговыми пластинками, на конце есть когот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Перья с водоотталкивающими свойств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5" descr=""/>
          <p:cNvPicPr/>
          <p:nvPr/>
        </p:nvPicPr>
        <p:blipFill>
          <a:blip r:embed="rId2"/>
          <a:stretch/>
        </p:blipFill>
        <p:spPr>
          <a:xfrm>
            <a:off x="1357200" y="4429080"/>
            <a:ext cx="2810160" cy="195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6"/>
          <p:cNvGrpSpPr/>
          <p:nvPr/>
        </p:nvGrpSpPr>
        <p:grpSpPr>
          <a:xfrm>
            <a:off x="0" y="3068640"/>
            <a:ext cx="3683160" cy="3789360"/>
            <a:chOff x="0" y="3068640"/>
            <a:chExt cx="3683160" cy="3789360"/>
          </a:xfrm>
        </p:grpSpPr>
        <p:pic>
          <p:nvPicPr>
            <p:cNvPr id="182" name="Picture 4" descr="ptah29"/>
            <p:cNvPicPr/>
            <p:nvPr/>
          </p:nvPicPr>
          <p:blipFill>
            <a:blip r:embed="rId1"/>
            <a:stretch/>
          </p:blipFill>
          <p:spPr>
            <a:xfrm>
              <a:off x="0" y="3068640"/>
              <a:ext cx="3683160" cy="37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5" descr="ptah73"/>
            <p:cNvPicPr/>
            <p:nvPr/>
          </p:nvPicPr>
          <p:blipFill>
            <a:blip r:embed="rId2"/>
            <a:stretch/>
          </p:blipFill>
          <p:spPr>
            <a:xfrm>
              <a:off x="0" y="5664240"/>
              <a:ext cx="1512720" cy="11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WordArt 7"/>
          <p:cNvSpPr txBox="1"/>
          <p:nvPr/>
        </p:nvSpPr>
        <p:spPr>
          <a:xfrm>
            <a:off x="1116000" y="2852640"/>
            <a:ext cx="7704000" cy="14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2411280" y="981000"/>
            <a:ext cx="4105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 урока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6" descr="ptah33"/>
          <p:cNvPicPr/>
          <p:nvPr/>
        </p:nvPicPr>
        <p:blipFill>
          <a:blip r:embed="rId1"/>
          <a:stretch/>
        </p:blipFill>
        <p:spPr>
          <a:xfrm>
            <a:off x="0" y="404640"/>
            <a:ext cx="6392880" cy="6453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3059280" y="2060640"/>
            <a:ext cx="5760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явить черты приспособленности птиц разных отрядов к различным условиям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комиться с многообразием современных п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9640" y="35712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Arial"/>
              </a:rPr>
              <a:t>Опишите форму тела птицы и укажите из каких отделов оно состо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Без имени-1копирование"/>
          <p:cNvPicPr/>
          <p:nvPr/>
        </p:nvPicPr>
        <p:blipFill>
          <a:blip r:embed="rId1"/>
          <a:stretch/>
        </p:blipFill>
        <p:spPr>
          <a:xfrm>
            <a:off x="2571840" y="1785960"/>
            <a:ext cx="5689440" cy="4495680"/>
          </a:xfrm>
          <a:prstGeom prst="rect">
            <a:avLst/>
          </a:prstGeom>
          <a:ln w="0">
            <a:noFill/>
          </a:ln>
        </p:spPr>
      </p:pic>
      <p:sp>
        <p:nvSpPr>
          <p:cNvPr id="58" name="Line 4"/>
          <p:cNvSpPr/>
          <p:nvPr/>
        </p:nvSpPr>
        <p:spPr>
          <a:xfrm flipH="1">
            <a:off x="3357720" y="1714680"/>
            <a:ext cx="2450880" cy="765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H="1">
            <a:off x="3949920" y="2184480"/>
            <a:ext cx="2730240" cy="545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 flipH="1">
            <a:off x="6372360" y="3657600"/>
            <a:ext cx="1628640" cy="995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H="1" flipV="1">
            <a:off x="7380360" y="5516280"/>
            <a:ext cx="544320" cy="5792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791320" y="838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705720" y="1981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7467480" y="3276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7010280" y="61437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 flipV="1">
            <a:off x="1440000" y="4048920"/>
            <a:ext cx="1960560" cy="357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533520" y="4419720"/>
            <a:ext cx="25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 flipV="1">
            <a:off x="3048120" y="5660640"/>
            <a:ext cx="1739880" cy="206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190512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5929200" y="1500120"/>
            <a:ext cx="28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О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6699240" y="1989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Ш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7451640" y="32846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РЫ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7020000" y="61437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539640" y="4437000"/>
            <a:ext cx="25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ТУЛОВ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1908000" y="5734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ЦЕ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857920" y="150012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Без имени-1копирование"/>
          <p:cNvPicPr/>
          <p:nvPr/>
        </p:nvPicPr>
        <p:blipFill>
          <a:blip r:embed="rId1"/>
          <a:stretch/>
        </p:blipFill>
        <p:spPr>
          <a:xfrm>
            <a:off x="2428920" y="2643120"/>
            <a:ext cx="4788000" cy="36435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611280" y="428760"/>
            <a:ext cx="805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Arial"/>
              </a:rPr>
              <a:t>Рассмотрите голову пти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Arial"/>
              </a:rPr>
              <a:t>Какие органы располагаются на 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 flipH="1">
            <a:off x="5500440" y="2857680"/>
            <a:ext cx="1857240" cy="95724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472428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 flipH="1">
            <a:off x="4571640" y="2143080"/>
            <a:ext cx="1071720" cy="1195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 flipV="1">
            <a:off x="1357200" y="4000320"/>
            <a:ext cx="1600200" cy="7596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 flipV="1">
            <a:off x="2000160" y="4142880"/>
            <a:ext cx="1681200" cy="11430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 flipV="1">
            <a:off x="3357720" y="4428720"/>
            <a:ext cx="85680" cy="150012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5572080" y="171468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6948360" y="184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1941480" y="6072120"/>
            <a:ext cx="27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33520" y="5181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3048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5643720" y="171468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948360" y="184464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УХО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РС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2143080" y="607212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КЛЮ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826920" y="5157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528480" y="30384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КЛЮВЬ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ЗД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ПУХ1"/>
          <p:cNvPicPr/>
          <p:nvPr/>
        </p:nvPicPr>
        <p:blipFill>
          <a:blip r:embed="rId1"/>
          <a:stretch/>
        </p:blipFill>
        <p:spPr>
          <a:xfrm>
            <a:off x="1547640" y="1773360"/>
            <a:ext cx="1800360" cy="4608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468360" y="69228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5b6f"/>
                </a:solidFill>
                <a:latin typeface="Arial"/>
              </a:rPr>
              <a:t>Внешнее строение пера п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2627280" y="6093000"/>
            <a:ext cx="28814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V="1">
            <a:off x="2484360" y="2852640"/>
            <a:ext cx="3095640" cy="144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 flipV="1">
            <a:off x="2398680" y="4041720"/>
            <a:ext cx="3114720" cy="101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508720" y="263700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508720" y="580536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0" y="3505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508720" y="386064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5940360" y="2637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Х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940360" y="5805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940360" y="386064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РЖ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900000" y="836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5b6f"/>
                </a:solidFill>
                <a:latin typeface="Arial"/>
              </a:rPr>
              <a:t>Разнообразие перьев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УРНОЕ МАХО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411280" y="4941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УРНОЕ КРО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724280" y="5562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ХОВОЕ П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74674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КРЫЛЬЯ1"/>
          <p:cNvPicPr/>
          <p:nvPr/>
        </p:nvPicPr>
        <p:blipFill>
          <a:blip r:embed="rId1"/>
          <a:stretch/>
        </p:blipFill>
        <p:spPr>
          <a:xfrm>
            <a:off x="2556000" y="1628640"/>
            <a:ext cx="1547640" cy="312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КРЫЛЬЯ2"/>
          <p:cNvPicPr/>
          <p:nvPr/>
        </p:nvPicPr>
        <p:blipFill>
          <a:blip r:embed="rId2"/>
          <a:stretch/>
        </p:blipFill>
        <p:spPr>
          <a:xfrm>
            <a:off x="5292720" y="2781360"/>
            <a:ext cx="1038240" cy="259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КРЫЛЬЯ3"/>
          <p:cNvPicPr/>
          <p:nvPr/>
        </p:nvPicPr>
        <p:blipFill>
          <a:blip r:embed="rId3"/>
          <a:stretch/>
        </p:blipFill>
        <p:spPr>
          <a:xfrm>
            <a:off x="7010280" y="3962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ПУХ1"/>
          <p:cNvPicPr/>
          <p:nvPr/>
        </p:nvPicPr>
        <p:blipFill>
          <a:blip r:embed="rId4"/>
          <a:stretch/>
        </p:blipFill>
        <p:spPr>
          <a:xfrm>
            <a:off x="414360" y="1600200"/>
            <a:ext cx="1109520" cy="3962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2"/>
          <p:cNvSpPr/>
          <p:nvPr/>
        </p:nvSpPr>
        <p:spPr>
          <a:xfrm>
            <a:off x="1187280" y="522936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635280" y="443700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012000" y="5084640"/>
            <a:ext cx="2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59640" y="501336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йдите соответ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15640" y="4897440"/>
            <a:ext cx="309564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рыль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туловищ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хво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утка"/>
          <p:cNvPicPr/>
          <p:nvPr/>
        </p:nvPicPr>
        <p:blipFill>
          <a:blip r:embed="rId1"/>
          <a:stretch/>
        </p:blipFill>
        <p:spPr>
          <a:xfrm>
            <a:off x="4284720" y="1773360"/>
            <a:ext cx="4392720" cy="2928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5219640" y="4897440"/>
            <a:ext cx="345600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грев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жат рул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гают лет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39640" y="2421000"/>
            <a:ext cx="3598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7791"/>
                </a:solidFill>
                <a:latin typeface="Arial"/>
              </a:rPr>
              <a:t>Какова роль перье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28760" y="550800"/>
            <a:ext cx="835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5b6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4e5b6f"/>
                </a:solidFill>
                <a:latin typeface="Arial"/>
              </a:rPr>
              <a:t>Эволюция позвоноч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низ 14"/>
          <p:cNvSpPr/>
          <p:nvPr/>
        </p:nvSpPr>
        <p:spPr>
          <a:xfrm rot="2826600">
            <a:off x="5510520" y="2997720"/>
            <a:ext cx="428760" cy="9954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низ 15"/>
          <p:cNvSpPr/>
          <p:nvPr/>
        </p:nvSpPr>
        <p:spPr>
          <a:xfrm>
            <a:off x="7072200" y="307188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6"/>
          <p:cNvSpPr/>
          <p:nvPr/>
        </p:nvSpPr>
        <p:spPr>
          <a:xfrm>
            <a:off x="357120" y="2143080"/>
            <a:ext cx="19526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7"/>
          <p:cNvSpPr/>
          <p:nvPr/>
        </p:nvSpPr>
        <p:spPr>
          <a:xfrm>
            <a:off x="2857680" y="2143080"/>
            <a:ext cx="23428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нов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8"/>
          <p:cNvSpPr/>
          <p:nvPr/>
        </p:nvSpPr>
        <p:spPr>
          <a:xfrm>
            <a:off x="5786280" y="2143080"/>
            <a:ext cx="292896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смыкаю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9"/>
          <p:cNvSpPr/>
          <p:nvPr/>
        </p:nvSpPr>
        <p:spPr>
          <a:xfrm>
            <a:off x="3476520" y="4214880"/>
            <a:ext cx="19526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20"/>
          <p:cNvSpPr/>
          <p:nvPr/>
        </p:nvSpPr>
        <p:spPr>
          <a:xfrm>
            <a:off x="5857920" y="4214880"/>
            <a:ext cx="27860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лекопит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трелка вниз 22"/>
          <p:cNvSpPr/>
          <p:nvPr/>
        </p:nvSpPr>
        <p:spPr>
          <a:xfrm rot="16200000">
            <a:off x="2286000" y="2285640"/>
            <a:ext cx="677880" cy="392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трелка вниз 23"/>
          <p:cNvSpPr/>
          <p:nvPr/>
        </p:nvSpPr>
        <p:spPr>
          <a:xfrm rot="16200000">
            <a:off x="5143320" y="2248920"/>
            <a:ext cx="67932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468360" y="549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5b6f"/>
                </a:solidFill>
                <a:latin typeface="Arial"/>
              </a:rPr>
              <a:t>Классификация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низ 15"/>
          <p:cNvSpPr/>
          <p:nvPr/>
        </p:nvSpPr>
        <p:spPr>
          <a:xfrm>
            <a:off x="4159080" y="2071800"/>
            <a:ext cx="48420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низ 17"/>
          <p:cNvSpPr/>
          <p:nvPr/>
        </p:nvSpPr>
        <p:spPr>
          <a:xfrm>
            <a:off x="4143240" y="3143160"/>
            <a:ext cx="642960" cy="285840"/>
          </a:xfrm>
          <a:prstGeom prst="downArrow">
            <a:avLst>
              <a:gd name="adj1" fmla="val 50000"/>
              <a:gd name="adj2" fmla="val 46120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низ 18"/>
          <p:cNvSpPr/>
          <p:nvPr/>
        </p:nvSpPr>
        <p:spPr>
          <a:xfrm rot="2113800">
            <a:off x="2458800" y="4352400"/>
            <a:ext cx="5713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низ 19"/>
          <p:cNvSpPr/>
          <p:nvPr/>
        </p:nvSpPr>
        <p:spPr>
          <a:xfrm>
            <a:off x="4214880" y="4429080"/>
            <a:ext cx="48420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низ 20"/>
          <p:cNvSpPr/>
          <p:nvPr/>
        </p:nvSpPr>
        <p:spPr>
          <a:xfrm rot="18252600">
            <a:off x="6072120" y="4309560"/>
            <a:ext cx="571320" cy="333360"/>
          </a:xfrm>
          <a:prstGeom prst="downArrow">
            <a:avLst>
              <a:gd name="adj1" fmla="val 50000"/>
              <a:gd name="adj2" fmla="val 47231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21"/>
          <p:cNvSpPr/>
          <p:nvPr/>
        </p:nvSpPr>
        <p:spPr>
          <a:xfrm>
            <a:off x="3214800" y="1285920"/>
            <a:ext cx="23572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хор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2"/>
          <p:cNvSpPr/>
          <p:nvPr/>
        </p:nvSpPr>
        <p:spPr>
          <a:xfrm>
            <a:off x="3000240" y="2428920"/>
            <a:ext cx="28576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позвон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23"/>
          <p:cNvSpPr/>
          <p:nvPr/>
        </p:nvSpPr>
        <p:spPr>
          <a:xfrm>
            <a:off x="3286080" y="3571920"/>
            <a:ext cx="23576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 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24"/>
          <p:cNvSpPr/>
          <p:nvPr/>
        </p:nvSpPr>
        <p:spPr>
          <a:xfrm>
            <a:off x="500040" y="4929120"/>
            <a:ext cx="235764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отряд Пинг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5"/>
          <p:cNvSpPr/>
          <p:nvPr/>
        </p:nvSpPr>
        <p:spPr>
          <a:xfrm>
            <a:off x="3286080" y="5143680"/>
            <a:ext cx="235764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отряд Страусовые (бескилев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26"/>
          <p:cNvSpPr/>
          <p:nvPr/>
        </p:nvSpPr>
        <p:spPr>
          <a:xfrm>
            <a:off x="6143760" y="4929120"/>
            <a:ext cx="27144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отряд Типичные птицы (килегруд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2:18:55Z</dcterms:created>
  <dc:creator>Берюхова</dc:creator>
  <dc:description/>
  <dc:language>en-US</dc:language>
  <cp:lastModifiedBy>Akado</cp:lastModifiedBy>
  <dcterms:modified xsi:type="dcterms:W3CDTF">2012-01-16T17:50:24Z</dcterms:modified>
  <cp:revision>111</cp:revision>
  <dc:subject/>
  <dc:title>Слайд 1</dc:title>
</cp:coreProperties>
</file>