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54D-B593-4BFE-AF24-52EFA02A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92D-EF0D-4236-BABC-B1A2FF8B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7AB-36A7-4AA9-BF7D-FDD8B6F0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8C6-1539-483F-B439-AF46CA73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CC1E-1AD2-4FAE-8324-016A5C08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593E-5DD0-4165-BA8A-0733298B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1277-1118-4B89-88D1-AF1B5A74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2872-941B-4EBE-BBDA-E409730C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0D23-AF73-4E0B-8010-D015E22F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D7BC-D953-4EC8-9B86-171BEE80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3659-E924-448E-BEF6-2DD94FDA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738-C3C5-46A4-AF91-E622ED78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C077-CCD6-4E71-875B-46D836BF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C749-3CBC-4690-AC22-223F9E9E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4F59-F2F3-4535-B728-8849E87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0782-4EDA-40F9-8B13-FF1DA444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9805-DB79-4354-8742-008AC1CE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BF6-D0A2-45D7-A9AD-1FC7F977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79E-B0E8-433F-8666-182784A3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F0A-5A9D-4C54-9B0C-5AD4DD25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D83-4D82-4804-A593-FF9255C4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E3F-5137-4BA3-8318-AA593F6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21E-9198-4EF3-8C2B-C5B51D25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744-8B82-4BEA-A424-8DF48806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E3D5-FC45-484D-9BDE-C3D1A5E3BFD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9B67-AB20-4481-9423-4872D1509AF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924000" y="4652640"/>
            <a:ext cx="476244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тукалова Александра 4 «а» клас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Руководитель:СтрукЛ.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257040" y="3166920"/>
            <a:ext cx="8629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итие речи на уроках русского язы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7" descr="fonbok_knsvpero"/>
          <p:cNvPicPr/>
          <p:nvPr/>
        </p:nvPicPr>
        <p:blipFill>
          <a:blip r:embed="rId1"/>
          <a:stretch/>
        </p:blipFill>
        <p:spPr>
          <a:xfrm>
            <a:off x="2050920" y="476280"/>
            <a:ext cx="496908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 благодарна Вам за внимание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47400" y="534960"/>
            <a:ext cx="6477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66"/>
                </a:solidFill>
                <a:latin typeface="Monotype Corsiva"/>
              </a:rPr>
              <a:t>СИНОНИМЫ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50920" y="2421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ff"/>
                </a:solidFill>
                <a:latin typeface="Tahoma"/>
              </a:rPr>
              <a:t>Дело      Воин        Дет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пупс"/>
          <p:cNvPicPr/>
          <p:nvPr/>
        </p:nvPicPr>
        <p:blipFill>
          <a:blip r:embed="rId1"/>
          <a:stretch/>
        </p:blipFill>
        <p:spPr>
          <a:xfrm>
            <a:off x="6516720" y="3284640"/>
            <a:ext cx="24732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818000" y="361800"/>
            <a:ext cx="6269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66"/>
                </a:solidFill>
                <a:latin typeface="Monotype Corsiva"/>
              </a:rPr>
              <a:t>АНТОНИМЫ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2421000"/>
            <a:ext cx="892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ff"/>
                </a:solidFill>
                <a:latin typeface="Tahoma"/>
              </a:rPr>
              <a:t>Говорить   Холодный   Шум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лыжник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829880" y="533520"/>
            <a:ext cx="6017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66"/>
                </a:solidFill>
                <a:latin typeface="Monotype Corsiva"/>
              </a:rPr>
              <a:t>ОМОНИМЫ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01040" y="2565360"/>
            <a:ext cx="81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ff"/>
                </a:solidFill>
                <a:latin typeface="Tahoma"/>
              </a:rPr>
              <a:t>Корень         Коса         Ключ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скрипичный ключ"/>
          <p:cNvPicPr/>
          <p:nvPr/>
        </p:nvPicPr>
        <p:blipFill>
          <a:blip r:embed="rId1"/>
          <a:stretch/>
        </p:blipFill>
        <p:spPr>
          <a:xfrm>
            <a:off x="6659640" y="3645000"/>
            <a:ext cx="22795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266200" y="577800"/>
            <a:ext cx="586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66"/>
                </a:solidFill>
                <a:latin typeface="Monotype Corsiva"/>
              </a:rPr>
              <a:t>АРХАИЗМЫ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1480" y="2514600"/>
            <a:ext cx="888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ff"/>
                </a:solidFill>
                <a:latin typeface="Tahoma"/>
              </a:rPr>
              <a:t>Зерцало     Разуметь     Льзя</a:t>
            </a: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пирамида"/>
          <p:cNvPicPr/>
          <p:nvPr/>
        </p:nvPicPr>
        <p:blipFill>
          <a:blip r:embed="rId1"/>
          <a:stretch/>
        </p:blipFill>
        <p:spPr>
          <a:xfrm>
            <a:off x="5003640" y="3213000"/>
            <a:ext cx="4140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-272160" y="665280"/>
            <a:ext cx="9704160" cy="94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3366"/>
                </a:solidFill>
                <a:latin typeface="Monotype Corsiva"/>
              </a:rPr>
              <a:t>ЗАИМСТВОВАННЫЕ СЛОВА</a:t>
            </a:r>
            <a:endParaRPr b="0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22080" y="2708280"/>
            <a:ext cx="800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ff"/>
                </a:solidFill>
                <a:latin typeface="Tahoma"/>
              </a:rPr>
              <a:t>Библио       Аква       Грамм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рыбалка"/>
          <p:cNvPicPr/>
          <p:nvPr/>
        </p:nvPicPr>
        <p:blipFill>
          <a:blip r:embed="rId1"/>
          <a:stretch/>
        </p:blipFill>
        <p:spPr>
          <a:xfrm>
            <a:off x="6156360" y="4221000"/>
            <a:ext cx="2987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-169560" y="765000"/>
            <a:ext cx="9437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66"/>
                </a:solidFill>
                <a:latin typeface="Monotype Corsiva"/>
              </a:rPr>
              <a:t>ФРАЗЕОЛОГИЗМЫ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3" descr="11"/>
          <p:cNvPicPr/>
          <p:nvPr/>
        </p:nvPicPr>
        <p:blipFill>
          <a:blip r:embed="rId1"/>
          <a:stretch/>
        </p:blipFill>
        <p:spPr>
          <a:xfrm>
            <a:off x="1763640" y="2421000"/>
            <a:ext cx="648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4859280" cy="414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13"/>
          <p:cNvPicPr/>
          <p:nvPr/>
        </p:nvPicPr>
        <p:blipFill>
          <a:blip r:embed="rId2"/>
          <a:stretch/>
        </p:blipFill>
        <p:spPr>
          <a:xfrm>
            <a:off x="4859280" y="2576520"/>
            <a:ext cx="42847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4"/>
          <p:cNvPicPr/>
          <p:nvPr/>
        </p:nvPicPr>
        <p:blipFill>
          <a:blip r:embed="rId1"/>
          <a:stretch/>
        </p:blipFill>
        <p:spPr>
          <a:xfrm>
            <a:off x="1403280" y="476280"/>
            <a:ext cx="6840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8:37:47Z</dcterms:created>
  <dc:creator>hobbit</dc:creator>
  <dc:description/>
  <dc:language>en-US</dc:language>
  <cp:lastModifiedBy>Ученик</cp:lastModifiedBy>
  <dcterms:modified xsi:type="dcterms:W3CDTF">2012-04-25T11:16:10Z</dcterms:modified>
  <cp:revision>7</cp:revision>
  <dc:subject/>
  <dc:title>Слайд 1</dc:title>
</cp:coreProperties>
</file>