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1.jpeg" ContentType="image/jpeg"/>
  <Override PartName="/ppt/media/image10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7E0-F1EF-4911-A682-0F8CE952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F11-1CC9-42DE-800F-86B3017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BE5-909D-4997-8B8C-7C0AB0ED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29C-B523-467B-9B01-0202EB75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FC7-AC91-4D61-A142-134DC352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1DE-D34D-459F-9EE2-8225450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152-BE9E-4EA5-8511-FB348D9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8C6-692C-48F4-B8E0-8C98FD1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01E-35B3-470A-B92D-C780398D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C4B-56B2-4358-8550-3C68BB0B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4A4-2C10-427A-897C-DEDFD76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C9B-8B6F-4131-9A3E-C7C3F3D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6C5-B3A0-4611-8904-A993253AF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Здравствуйте, химия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51055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рнякова Ин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human209"/>
          <p:cNvPicPr/>
          <p:nvPr/>
        </p:nvPicPr>
        <p:blipFill>
          <a:blip r:embed="rId1"/>
          <a:stretch/>
        </p:blipFill>
        <p:spPr>
          <a:xfrm>
            <a:off x="762120" y="3276720"/>
            <a:ext cx="25905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1052640"/>
            <a:ext cx="8964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приведите примеры веществ, которые мы используем в повседневной жизн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как вы считаете, что случилось бы откажись мы вдруг пользоваться «услугами химии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как вы думаете, какие открытия ждут впереди химическую нау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5" descr="enter178"/>
          <p:cNvPicPr/>
          <p:nvPr/>
        </p:nvPicPr>
        <p:blipFill>
          <a:blip r:embed="rId2"/>
          <a:stretch/>
        </p:blipFill>
        <p:spPr>
          <a:xfrm>
            <a:off x="8244000" y="6021360"/>
            <a:ext cx="617400" cy="61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 rot="21539400">
            <a:off x="380520" y="1828440"/>
            <a:ext cx="746784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 встречи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4" descr="raznoe270"/>
          <p:cNvPicPr/>
          <p:nvPr/>
        </p:nvPicPr>
        <p:blipFill>
          <a:blip r:embed="rId2"/>
          <a:stretch/>
        </p:blipFill>
        <p:spPr>
          <a:xfrm>
            <a:off x="3505320" y="3962520"/>
            <a:ext cx="2209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Comic Sans MS"/>
              </a:rPr>
              <a:t>ЧТО ИЗУЧАЕТ ХИМ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71600" y="914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22780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57200" y="235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33520" y="2133720"/>
            <a:ext cx="8153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Химия – наука 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еществах, их свойства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 превращениях друг 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ру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7" descr="ris16"/>
          <p:cNvPicPr/>
          <p:nvPr/>
        </p:nvPicPr>
        <p:blipFill>
          <a:blip r:embed="rId1"/>
          <a:stretch/>
        </p:blipFill>
        <p:spPr>
          <a:xfrm>
            <a:off x="5486400" y="1523880"/>
            <a:ext cx="335268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nter178"/>
          <p:cNvPicPr/>
          <p:nvPr/>
        </p:nvPicPr>
        <p:blipFill>
          <a:blip r:embed="rId2"/>
          <a:stretch/>
        </p:blipFill>
        <p:spPr>
          <a:xfrm>
            <a:off x="457200" y="5943600"/>
            <a:ext cx="617400" cy="61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d1d1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СНОВНЫЕ ХИМИЧЕСК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"/>
          <p:cNvPicPr/>
          <p:nvPr/>
        </p:nvPicPr>
        <p:blipFill>
          <a:blip r:embed="rId1"/>
          <a:stretch/>
        </p:blipFill>
        <p:spPr>
          <a:xfrm>
            <a:off x="6248520" y="342900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10"/>
          <p:cNvSpPr txBox="1"/>
          <p:nvPr/>
        </p:nvSpPr>
        <p:spPr>
          <a:xfrm>
            <a:off x="762120" y="1981080"/>
            <a:ext cx="2600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ВЕЩЕСТВО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304920" y="43434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ХИМИЧЕСКИЕ ЯВЛ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12" descr="enter178"/>
          <p:cNvPicPr/>
          <p:nvPr/>
        </p:nvPicPr>
        <p:blipFill>
          <a:blip r:embed="rId2"/>
          <a:stretch/>
        </p:blipFill>
        <p:spPr>
          <a:xfrm>
            <a:off x="457200" y="5943600"/>
            <a:ext cx="617400" cy="61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Comic Sans MS"/>
              </a:rPr>
              <a:t>Ве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title_all2_movie"/>
          <p:cNvPicPr/>
          <p:nvPr/>
        </p:nvPicPr>
        <p:blipFill>
          <a:blip r:embed="rId2"/>
          <a:stretch/>
        </p:blipFill>
        <p:spPr>
          <a:xfrm>
            <a:off x="0" y="0"/>
            <a:ext cx="2971800" cy="2830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048120" y="13716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Comic Sans MS"/>
              </a:rPr>
              <a:t>ОКРУЖАЮЩИЙ МИР</a:t>
            </a:r>
            <a:r>
              <a:rPr b="0" i="1" lang="en-U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0" i="1" lang="ru-RU" sz="2400" spc="-1" strike="noStrike">
                <a:solidFill>
                  <a:srgbClr val="990000"/>
                </a:solidFill>
                <a:latin typeface="Comic Sans MS"/>
              </a:rPr>
              <a:t>ТЕЛА</a:t>
            </a:r>
            <a:r>
              <a:rPr b="0" i="1" lang="ru-RU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omic Sans MS"/>
              </a:rPr>
              <a:t>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Comic Sans MS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3284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ВЕЩЕСТВА   БЫВАЮТ  ПРОСТЫЕ И СЛОЖ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0880" y="40305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ЩЕСТВА СОСТОЯТ ИЗ МОЛЕКУ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8" descr="27"/>
          <p:cNvPicPr/>
          <p:nvPr/>
        </p:nvPicPr>
        <p:blipFill>
          <a:blip r:embed="rId3"/>
          <a:stretch/>
        </p:blipFill>
        <p:spPr>
          <a:xfrm>
            <a:off x="5943600" y="3809880"/>
            <a:ext cx="270504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95280" y="465300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МОЛЕКУЛЫ СОСТОЯТ ИЗ АТОМ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24000" y="580536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ПРЕДЕЛЕННЫЙ ВИД АТОМОВ – ХИМИЧЕСКИЙ ЭЛЕМЕ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1" descr="enter178"/>
          <p:cNvPicPr/>
          <p:nvPr/>
        </p:nvPicPr>
        <p:blipFill>
          <a:blip r:embed="rId4"/>
          <a:stretch/>
        </p:blipFill>
        <p:spPr>
          <a:xfrm>
            <a:off x="8459640" y="634356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ХИМИЧЕСКИЕ Я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line39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04920" y="19051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0880" y="197316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57200" y="1897200"/>
            <a:ext cx="647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80880" y="2209680"/>
            <a:ext cx="61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Химические явления</a:t>
            </a:r>
            <a:br>
              <a:rPr sz="2000"/>
            </a:b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(или реакции) – это</a:t>
            </a:r>
            <a:br>
              <a:rPr sz="2000"/>
            </a:b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явления, при которых</a:t>
            </a:r>
            <a:br>
              <a:rPr sz="2000"/>
            </a:b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происходит превращение</a:t>
            </a:r>
            <a:br>
              <a:rPr sz="2000"/>
            </a:b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одних веществ в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8" descr="ris104b"/>
          <p:cNvPicPr/>
          <p:nvPr/>
        </p:nvPicPr>
        <p:blipFill>
          <a:blip r:embed="rId3"/>
          <a:stretch/>
        </p:blipFill>
        <p:spPr>
          <a:xfrm>
            <a:off x="5791320" y="1752480"/>
            <a:ext cx="2971800" cy="395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enter178"/>
          <p:cNvPicPr/>
          <p:nvPr/>
        </p:nvPicPr>
        <p:blipFill>
          <a:blip r:embed="rId4"/>
          <a:stretch/>
        </p:blipFill>
        <p:spPr>
          <a:xfrm>
            <a:off x="8629560" y="57340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6804000" y="62064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24000" y="189000"/>
            <a:ext cx="36036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 6"/>
          <p:cNvSpPr/>
          <p:nvPr/>
        </p:nvSpPr>
        <p:spPr>
          <a:xfrm>
            <a:off x="1619280" y="18900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249228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516720" y="62064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9"/>
          <p:cNvSpPr/>
          <p:nvPr/>
        </p:nvSpPr>
        <p:spPr>
          <a:xfrm>
            <a:off x="7524720" y="2349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8028000" y="2349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6516720" y="249228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5796000" y="249228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300720" y="249228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6012000" y="249228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24000" y="76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Ато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2987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5292720" y="40464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292720" y="18900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292720" y="1114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стые ве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24360" y="29973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ые ве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476360" y="508464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508464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1692360" y="4508640"/>
            <a:ext cx="36036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1619280" y="4292640"/>
            <a:ext cx="36036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26920" y="4508640"/>
            <a:ext cx="36036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684360" y="4292640"/>
            <a:ext cx="36036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2556000" y="393372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6877080" y="5013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31"/>
          <p:cNvSpPr/>
          <p:nvPr/>
        </p:nvSpPr>
        <p:spPr>
          <a:xfrm>
            <a:off x="7308720" y="5013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32"/>
          <p:cNvSpPr/>
          <p:nvPr/>
        </p:nvSpPr>
        <p:spPr>
          <a:xfrm>
            <a:off x="7093080" y="515772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33"/>
          <p:cNvSpPr/>
          <p:nvPr/>
        </p:nvSpPr>
        <p:spPr>
          <a:xfrm>
            <a:off x="5796000" y="443700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5364000" y="443700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35"/>
          <p:cNvSpPr/>
          <p:nvPr/>
        </p:nvSpPr>
        <p:spPr>
          <a:xfrm>
            <a:off x="5580000" y="458136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324000" y="530532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Химическая реакция –явление, при котором происходит образование молекул новых веществ из тех же атомов, из которых состояли исходные вещ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37" descr="enter178"/>
          <p:cNvPicPr/>
          <p:nvPr/>
        </p:nvPicPr>
        <p:blipFill>
          <a:blip r:embed="rId2"/>
          <a:stretch/>
        </p:blipFill>
        <p:spPr>
          <a:xfrm>
            <a:off x="8317080" y="6021360"/>
            <a:ext cx="617400" cy="61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8" descr="SCIENCE1"/>
          <p:cNvPicPr/>
          <p:nvPr/>
        </p:nvPicPr>
        <p:blipFill>
          <a:blip r:embed="rId3"/>
          <a:stretch/>
        </p:blipFill>
        <p:spPr>
          <a:xfrm>
            <a:off x="324000" y="2060640"/>
            <a:ext cx="273528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ВЫДАЮЩИЕСЯ УЧЕНЫЕ ХИМ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demokrit"/>
          <p:cNvPicPr/>
          <p:nvPr/>
        </p:nvPicPr>
        <p:blipFill>
          <a:blip r:embed="rId2"/>
          <a:stretch/>
        </p:blipFill>
        <p:spPr>
          <a:xfrm>
            <a:off x="838080" y="1523880"/>
            <a:ext cx="2324160" cy="190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НГШЩ"/>
          <p:cNvPicPr/>
          <p:nvPr/>
        </p:nvPicPr>
        <p:blipFill>
          <a:blip r:embed="rId3"/>
          <a:stretch/>
        </p:blipFill>
        <p:spPr>
          <a:xfrm>
            <a:off x="2666880" y="220968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ЛДО"/>
          <p:cNvPicPr/>
          <p:nvPr/>
        </p:nvPicPr>
        <p:blipFill>
          <a:blip r:embed="rId4"/>
          <a:stretch/>
        </p:blipFill>
        <p:spPr>
          <a:xfrm>
            <a:off x="4114800" y="3429000"/>
            <a:ext cx="1600200" cy="1930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533520" y="372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М.В.Ломон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895480" y="50292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Д.И.Менделе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11" descr="CAT8QDTF"/>
          <p:cNvPicPr/>
          <p:nvPr/>
        </p:nvPicPr>
        <p:blipFill>
          <a:blip r:embed="rId5"/>
          <a:stretch/>
        </p:blipFill>
        <p:spPr>
          <a:xfrm>
            <a:off x="5486400" y="43434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4572000" y="6477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А.М.Бутлер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3" descr="enter178"/>
          <p:cNvPicPr/>
          <p:nvPr/>
        </p:nvPicPr>
        <p:blipFill>
          <a:blip r:embed="rId6"/>
          <a:stretch/>
        </p:blipFill>
        <p:spPr>
          <a:xfrm>
            <a:off x="8388360" y="616572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МЕСТО ЗАКЛЮ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i"/>
          <p:cNvPicPr/>
          <p:nvPr/>
        </p:nvPicPr>
        <p:blipFill>
          <a:blip r:embed="rId2"/>
          <a:stretch/>
        </p:blipFill>
        <p:spPr>
          <a:xfrm>
            <a:off x="304920" y="16002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i"/>
          <p:cNvPicPr/>
          <p:nvPr/>
        </p:nvPicPr>
        <p:blipFill>
          <a:blip r:embed="rId3"/>
          <a:stretch/>
        </p:blipFill>
        <p:spPr>
          <a:xfrm>
            <a:off x="1981080" y="2666880"/>
            <a:ext cx="221004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"/>
          <p:cNvPicPr/>
          <p:nvPr/>
        </p:nvPicPr>
        <p:blipFill>
          <a:blip r:embed="rId4"/>
          <a:stretch/>
        </p:blipFill>
        <p:spPr>
          <a:xfrm>
            <a:off x="2921040" y="4572000"/>
            <a:ext cx="165096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"/>
          <p:cNvPicPr/>
          <p:nvPr/>
        </p:nvPicPr>
        <p:blipFill>
          <a:blip r:embed="rId5"/>
          <a:stretch/>
        </p:blipFill>
        <p:spPr>
          <a:xfrm>
            <a:off x="4876920" y="228600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"/>
          <p:cNvPicPr/>
          <p:nvPr/>
        </p:nvPicPr>
        <p:blipFill>
          <a:blip r:embed="rId6"/>
          <a:stretch/>
        </p:blipFill>
        <p:spPr>
          <a:xfrm>
            <a:off x="6629400" y="32767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"/>
          <p:cNvPicPr/>
          <p:nvPr/>
        </p:nvPicPr>
        <p:blipFill>
          <a:blip r:embed="rId7"/>
          <a:stretch/>
        </p:blipFill>
        <p:spPr>
          <a:xfrm>
            <a:off x="4572000" y="3962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"/>
          <p:cNvPicPr/>
          <p:nvPr/>
        </p:nvPicPr>
        <p:blipFill>
          <a:blip r:embed="rId8"/>
          <a:stretch/>
        </p:blipFill>
        <p:spPr>
          <a:xfrm>
            <a:off x="7086600" y="50292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i"/>
          <p:cNvPicPr/>
          <p:nvPr/>
        </p:nvPicPr>
        <p:blipFill>
          <a:blip r:embed="rId9"/>
          <a:stretch/>
        </p:blipFill>
        <p:spPr>
          <a:xfrm>
            <a:off x="3809880" y="1828800"/>
            <a:ext cx="198144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0" y="449568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Химия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современ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12" descr="enter178"/>
          <p:cNvPicPr/>
          <p:nvPr/>
        </p:nvPicPr>
        <p:blipFill>
          <a:blip r:embed="rId10"/>
          <a:stretch/>
        </p:blipFill>
        <p:spPr>
          <a:xfrm>
            <a:off x="457200" y="5943600"/>
            <a:ext cx="617400" cy="61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620640"/>
            <a:ext cx="896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«…Широко распростира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Химия руки свои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в дела человеческие…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М.В.Ломоносо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   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1:02:31Z</dcterms:created>
  <dc:creator>user13</dc:creator>
  <dc:description/>
  <dc:language>en-US</dc:language>
  <cp:lastModifiedBy>Учитель</cp:lastModifiedBy>
  <dcterms:modified xsi:type="dcterms:W3CDTF">2010-09-03T03:18:23Z</dcterms:modified>
  <cp:revision>42</cp:revision>
  <dc:subject/>
  <dc:title>Здравствуйте, химия!</dc:title>
</cp:coreProperties>
</file>