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6AE-4EC9-495B-A495-A56FF2D7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FAF-FE2D-4C18-905B-D9935F2E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2C6-9E46-4A59-BFA7-9BBF381A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437-3589-4FB0-9BF8-92E536D8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E5A-3BB7-4460-8B57-9D2E6137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272-C203-4F66-9F84-B22E0851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75F-C63E-43B2-B830-AB7A2D4C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7EB-BECD-471B-8756-93E5E40F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DDC-6264-4698-86C7-3A9F6163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7F4E-5B9D-4EC8-8B5B-88E573F8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1BD-AA3D-4F3C-BE01-19B41706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DA3-D404-4236-81F6-C01913BE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4565-4203-4F4C-8442-93C1B3254407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3279600" y="817560"/>
            <a:ext cx="6053400" cy="2668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Documents and Settings\Леха\Рабочий стол\портрет 2.jpeg"/>
          <p:cNvPicPr/>
          <p:nvPr/>
        </p:nvPicPr>
        <p:blipFill>
          <a:blip r:embed="rId2"/>
          <a:stretch/>
        </p:blipFill>
        <p:spPr>
          <a:xfrm>
            <a:off x="0" y="928800"/>
            <a:ext cx="3500280" cy="4606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297400" y="5429160"/>
            <a:ext cx="317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Минакова Л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ОШ №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ижневарто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00000"/>
                </a:solidFill>
                <a:latin typeface="Cambria"/>
              </a:rPr>
              <a:t>Память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2857680" y="128592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кончался Д.Н. Мамин-Сибиряк 15 ноября 1912 года в 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Леха\Рабочий стол\могила.jpg"/>
          <p:cNvPicPr/>
          <p:nvPr/>
        </p:nvPicPr>
        <p:blipFill>
          <a:blip r:embed="rId1"/>
          <a:stretch/>
        </p:blipFill>
        <p:spPr>
          <a:xfrm>
            <a:off x="0" y="1285920"/>
            <a:ext cx="2857680" cy="371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Леха\Рабочий стол\драмтеатр.jpg"/>
          <p:cNvPicPr/>
          <p:nvPr/>
        </p:nvPicPr>
        <p:blipFill>
          <a:blip r:embed="rId2"/>
          <a:stretch/>
        </p:blipFill>
        <p:spPr>
          <a:xfrm>
            <a:off x="3000240" y="2857680"/>
            <a:ext cx="3357720" cy="2716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Леха\Рабочий стол\медаль.jpg"/>
          <p:cNvPicPr/>
          <p:nvPr/>
        </p:nvPicPr>
        <p:blipFill>
          <a:blip r:embed="rId3"/>
          <a:stretch/>
        </p:blipFill>
        <p:spPr>
          <a:xfrm>
            <a:off x="6541920" y="3143160"/>
            <a:ext cx="231156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00000"/>
                </a:solidFill>
                <a:latin typeface="Cambria"/>
              </a:rPr>
              <a:t>«Приёмыш»</a:t>
            </a:r>
            <a:br>
              <a:rPr sz="6000"/>
            </a:b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(1893 год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5" name="Picture 2" descr="C:\Documents and Settings\Леха\Рабочий стол\приёмыш.jpeg"/>
          <p:cNvPicPr/>
          <p:nvPr/>
        </p:nvPicPr>
        <p:blipFill>
          <a:blip r:embed="rId1"/>
          <a:stretch/>
        </p:blipFill>
        <p:spPr>
          <a:xfrm>
            <a:off x="142920" y="1857240"/>
            <a:ext cx="2986200" cy="454824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143160" y="1643040"/>
            <a:ext cx="6000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mbria"/>
              </a:rPr>
              <a:t>Доспех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 в старину воинское тяжеловесное снаря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mbria"/>
              </a:rPr>
              <a:t>Проток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боковой рукав реки, а также речка соединяющая два водоё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mbria"/>
              </a:rPr>
              <a:t>Сайма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 рыбацкая стоя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mbria"/>
              </a:rPr>
              <a:t>Муштроват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 обучать, подвергать мушт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mbria"/>
              </a:rPr>
              <a:t>Муштра –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суровая система воспитания,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Леха\Рабочий стол\портретДНМС.jpeg"/>
          <p:cNvPicPr/>
          <p:nvPr/>
        </p:nvPicPr>
        <p:blipFill>
          <a:blip r:embed="rId1"/>
          <a:stretch/>
        </p:blipFill>
        <p:spPr>
          <a:xfrm>
            <a:off x="142920" y="214200"/>
            <a:ext cx="3506760" cy="4214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00320" y="713880"/>
            <a:ext cx="51433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6 ноября 1852 года в заводском посёлке Висимо-ШайтанскомПермской губернии (Свердловская область) в семье бедного заводского священника и учительницы местной школы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6" name="Picture 3" descr="C:\Documents and Settings\Леха\Рабочий стол\дом музе висимо-Шайтанск.jpeg"/>
          <p:cNvPicPr/>
          <p:nvPr/>
        </p:nvPicPr>
        <p:blipFill>
          <a:blip r:embed="rId2"/>
          <a:stretch/>
        </p:blipFill>
        <p:spPr>
          <a:xfrm>
            <a:off x="4071960" y="3000240"/>
            <a:ext cx="49212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28720" y="274680"/>
            <a:ext cx="471492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Материально семья жила довольно скромно, но в доме было много книг, и любовь к чтению, интерес к литературе появился уже в детстве во многом под влиянием отц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8" name="Picture 3" descr="C:\Documents and Settings\Леха\Рабочий стол\в доме.jpg"/>
          <p:cNvPicPr/>
          <p:nvPr/>
        </p:nvPicPr>
        <p:blipFill>
          <a:blip r:embed="rId1"/>
          <a:stretch/>
        </p:blipFill>
        <p:spPr>
          <a:xfrm>
            <a:off x="214200" y="642960"/>
            <a:ext cx="3967200" cy="5286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Леха\Рабочий стол\кабинет.jpg"/>
          <p:cNvPicPr/>
          <p:nvPr/>
        </p:nvPicPr>
        <p:blipFill>
          <a:blip r:embed="rId2"/>
          <a:stretch/>
        </p:blipFill>
        <p:spPr>
          <a:xfrm>
            <a:off x="4357800" y="3143160"/>
            <a:ext cx="466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0504d"/>
                </a:solidFill>
                <a:latin typeface="Cambria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000680" y="1428840"/>
            <a:ext cx="5143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лучил домашнее начальное образо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1866году был определён в Екатеринбургское духовное училище.  Затем четыре года отучился  в Пермской духовной семина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1872 году поступил на ветеринарное отделение Петербургской медико-хирургической академи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1876 году перешёл  на юридический факультет Петербургского университета, где проучился год. Однако получить законченное образование так и не смог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Леха\Рабочий стол\дом в екатеринбурге.jpg"/>
          <p:cNvPicPr/>
          <p:nvPr/>
        </p:nvPicPr>
        <p:blipFill>
          <a:blip r:embed="rId1"/>
          <a:stretch/>
        </p:blipFill>
        <p:spPr>
          <a:xfrm>
            <a:off x="174600" y="1285920"/>
            <a:ext cx="3567240" cy="4214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13800" y="557208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mbria"/>
              </a:rPr>
              <a:t>Дом в Екатерин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00000"/>
                </a:solidFill>
                <a:latin typeface="Cambria"/>
              </a:rPr>
              <a:t>Творчество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786040" y="142884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детства мечтал стать писа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1875 году начал репортёрскую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одной из Петербургских газет.  Тогда же были опубликованы его первые расск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Леха\Рабочий стол\рассказы очерки.jpg"/>
          <p:cNvPicPr/>
          <p:nvPr/>
        </p:nvPicPr>
        <p:blipFill>
          <a:blip r:embed="rId1"/>
          <a:stretch/>
        </p:blipFill>
        <p:spPr>
          <a:xfrm>
            <a:off x="0" y="1785960"/>
            <a:ext cx="2786040" cy="4208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Леха\Рабочий стол\повести.jpg"/>
          <p:cNvPicPr/>
          <p:nvPr/>
        </p:nvPicPr>
        <p:blipFill>
          <a:blip r:embed="rId2"/>
          <a:stretch/>
        </p:blipFill>
        <p:spPr>
          <a:xfrm>
            <a:off x="7000920" y="3500280"/>
            <a:ext cx="1965240" cy="315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Леха\Рабочий стол\в доме 3.jpg"/>
          <p:cNvPicPr/>
          <p:nvPr/>
        </p:nvPicPr>
        <p:blipFill>
          <a:blip r:embed="rId3"/>
          <a:stretch/>
        </p:blipFill>
        <p:spPr>
          <a:xfrm>
            <a:off x="2928960" y="3143160"/>
            <a:ext cx="38577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c00000"/>
                </a:solidFill>
                <a:latin typeface="Cambria"/>
              </a:rPr>
              <a:t>Жизненный путь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429000" y="1643040"/>
            <a:ext cx="571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1877 по 1891 год жил на  Урале, где написал самые интересные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произведениях этого времени создал яркие картины уральской природы, показал своеобразный уклад жизни и быта на уральских заводах, отразил непримиримую вражду между рабочими и хозяе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1891 года и до конца жизни жил  в Петербурге и Царском се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Леха\Рабочий стол\горное гнездо.jpg"/>
          <p:cNvPicPr/>
          <p:nvPr/>
        </p:nvPicPr>
        <p:blipFill>
          <a:blip r:embed="rId1"/>
          <a:stretch/>
        </p:blipFill>
        <p:spPr>
          <a:xfrm>
            <a:off x="214200" y="1571760"/>
            <a:ext cx="30718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00000"/>
                </a:solidFill>
                <a:latin typeface="Cambria"/>
              </a:rPr>
              <a:t>Творчество для детей.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357280" y="857160"/>
            <a:ext cx="678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1890 – 1900 годы писатель обрати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 произведениям для детей, ставшим классикой детской литературы.  Для детей и о детях им было написано более 130 произведений различных жанров (рассказы и сказ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Documents and Settings\Леха\Рабочий стол\серая шейка 2.jpg"/>
          <p:cNvPicPr/>
          <p:nvPr/>
        </p:nvPicPr>
        <p:blipFill>
          <a:blip r:embed="rId1"/>
          <a:stretch/>
        </p:blipFill>
        <p:spPr>
          <a:xfrm>
            <a:off x="142920" y="1357200"/>
            <a:ext cx="2143080" cy="3235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Леха\Рабочий стол\про козявочку.jpg"/>
          <p:cNvPicPr/>
          <p:nvPr/>
        </p:nvPicPr>
        <p:blipFill>
          <a:blip r:embed="rId2"/>
          <a:stretch/>
        </p:blipFill>
        <p:spPr>
          <a:xfrm>
            <a:off x="2500200" y="3262320"/>
            <a:ext cx="2286000" cy="3352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Леха\Рабочий стол\про воронушку.jpg"/>
          <p:cNvPicPr/>
          <p:nvPr/>
        </p:nvPicPr>
        <p:blipFill>
          <a:blip r:embed="rId3"/>
          <a:stretch/>
        </p:blipFill>
        <p:spPr>
          <a:xfrm>
            <a:off x="5786280" y="3286080"/>
            <a:ext cx="26434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00000"/>
                </a:solidFill>
                <a:latin typeface="Cambria"/>
              </a:rPr>
              <a:t>«Алёнушкины сказки»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8" name="Picture 2" descr="C:\Documents and Settings\Леха\Рабочий стол\с дочерью Алёнушкой.gif"/>
          <p:cNvPicPr/>
          <p:nvPr/>
        </p:nvPicPr>
        <p:blipFill>
          <a:blip r:embed="rId1"/>
          <a:stretch/>
        </p:blipFill>
        <p:spPr>
          <a:xfrm>
            <a:off x="214200" y="1317600"/>
            <a:ext cx="2079720" cy="3254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2286000" y="85716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Цикл «Алёнушкины сказки» (1894 – 1897 г.) Мамин-Сибир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писал для больной дочери после смертижены и отзывался о нём так: «Это моя любимая книжка – её писала сама любовь, и потому она переживёт всё оста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85680" y="46432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mbria"/>
              </a:rPr>
              <a:t>Д.Н. Мамин-Сибиря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mbria"/>
              </a:rPr>
              <a:t>с дочерью Алёнуш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Леха\Рабочий стол\жена ДНМС.jpg"/>
          <p:cNvPicPr/>
          <p:nvPr/>
        </p:nvPicPr>
        <p:blipFill>
          <a:blip r:embed="rId2"/>
          <a:stretch/>
        </p:blipFill>
        <p:spPr>
          <a:xfrm>
            <a:off x="3143160" y="3143160"/>
            <a:ext cx="2643120" cy="3511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500040" y="6000840"/>
            <a:ext cx="26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mbria"/>
              </a:rPr>
              <a:t>Ж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17375e"/>
                </a:solidFill>
                <a:latin typeface="Cambria"/>
              </a:rPr>
              <a:t>Д.Н. Мамина-Сибиря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Documents and Settings\Леха\Рабочий стол\алёнушкины сказки.jpeg"/>
          <p:cNvPicPr/>
          <p:nvPr/>
        </p:nvPicPr>
        <p:blipFill>
          <a:blip r:embed="rId3"/>
          <a:stretch/>
        </p:blipFill>
        <p:spPr>
          <a:xfrm>
            <a:off x="6572160" y="3184560"/>
            <a:ext cx="238284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00000"/>
                </a:solidFill>
                <a:latin typeface="Cambria"/>
              </a:rPr>
              <a:t>Творческое наследие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2714760" y="1214280"/>
            <a:ext cx="642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За свою жизнь писатель написал более 150 рассказов, сказок очерков, повестей для детей и взрослых. Мамин-Сибиряк внёс значительный вклад в развитие русского литературного языка.Его самобытные и оригинальные произведенияглубоко реалистичны, вних передан дух русского народа, раскрыты его судьба, национальные черты – мощь, размах, трудолюбие, любовь к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Documents and Settings\Леха\Рабочий стол\про зайца.jpg"/>
          <p:cNvPicPr/>
          <p:nvPr/>
        </p:nvPicPr>
        <p:blipFill>
          <a:blip r:embed="rId1"/>
          <a:stretch/>
        </p:blipFill>
        <p:spPr>
          <a:xfrm>
            <a:off x="285840" y="1214280"/>
            <a:ext cx="2413080" cy="357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Леха\Рабочий стол\про воробья.jpg"/>
          <p:cNvPicPr/>
          <p:nvPr/>
        </p:nvPicPr>
        <p:blipFill>
          <a:blip r:embed="rId2"/>
          <a:stretch/>
        </p:blipFill>
        <p:spPr>
          <a:xfrm>
            <a:off x="6215040" y="3357720"/>
            <a:ext cx="2587680" cy="3308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Леха\Рабочий стол\прокомара.jpeg"/>
          <p:cNvPicPr/>
          <p:nvPr/>
        </p:nvPicPr>
        <p:blipFill>
          <a:blip r:embed="rId3"/>
          <a:stretch/>
        </p:blipFill>
        <p:spPr>
          <a:xfrm>
            <a:off x="3286080" y="3357720"/>
            <a:ext cx="22957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09:37Z</dcterms:created>
  <dc:creator>Lexa</dc:creator>
  <dc:description/>
  <dc:language>en-US</dc:language>
  <cp:lastModifiedBy>Lexa</cp:lastModifiedBy>
  <dcterms:modified xsi:type="dcterms:W3CDTF">2014-11-05T15:53:20Z</dcterms:modified>
  <cp:revision>20</cp:revision>
  <dc:subject/>
  <dc:title>Слайд 1</dc:title>
</cp:coreProperties>
</file>