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EA9-C49B-4A42-A435-63F1E9AE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A1F1-B05C-4F01-85DD-4F954C78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E751-9CB5-44EF-B3FF-054DA4BA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3A9-4230-473A-8B86-98D8C4BA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4A5D-BDE7-4066-9F62-6A66D8C8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0EFC-FEF1-451F-9DD0-9BF25B6C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D887-133D-49BB-8CE7-3BB8860B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C326-5A81-46E6-9101-24B5F667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13BC-9871-4B9F-ADC5-54503848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56EC-B7D6-4759-99BC-ACDD8341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B45A-DBF8-4EEF-8003-16F83075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72F-6B53-4BF4-9AED-BE08361B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D716-5B1A-40BB-BE53-CD570634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6891-2FF6-4CAC-8963-11E793EB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00F2-B309-43A1-8C28-60E5DC9A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064B-B16E-41C2-B462-CE520830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A819-A546-46EF-B465-EE00D1C6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B39-F140-407C-8360-AB051013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E942-5A10-4775-9EC6-37529A52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2FFB-78F4-4DE4-AEF2-AA6BEA21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142-77C0-4FCC-8C30-C6121D68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C8C-67EF-42AD-B19C-F17F5100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4C60-5463-4F00-9FB5-60C8A47D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3CBD-DDB2-466E-8BC9-623FBD23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DD9A-5E2B-4977-B037-396280A8DB1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FA4E-C816-4B9B-8690-98938C918EB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82024"/>
                </a:solidFill>
                <a:latin typeface="Garamond"/>
              </a:rPr>
              <a:t>Урок №7</a:t>
            </a:r>
            <a:br>
              <a:rPr sz="5000"/>
            </a:br>
            <a:r>
              <a:rPr b="0" lang="en-US" sz="5000" spc="-1" strike="noStrike">
                <a:solidFill>
                  <a:srgbClr val="d82024"/>
                </a:solidFill>
                <a:latin typeface="Garamond"/>
              </a:rPr>
              <a:t>Жизнедеятельность клетки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раскрыть первоначальные представления о жизнедеятельности кл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811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ния жизни 6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76920" y="2080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/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1413000"/>
            <a:ext cx="5472000" cy="3954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262548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064720" cy="5183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42920" y="260280"/>
            <a:ext cx="78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2024"/>
                </a:solidFill>
                <a:latin typeface="Arial Narrow"/>
              </a:rPr>
              <a:t>Свойства растительной клет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2024"/>
                </a:solidFill>
                <a:latin typeface="Garamond"/>
              </a:rPr>
              <a:t>Движение цитоплазм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236680" y="1684440"/>
            <a:ext cx="4590720" cy="4317480"/>
            <a:chOff x="2236680" y="1684440"/>
            <a:chExt cx="4590720" cy="431748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2417760" y="1744560"/>
              <a:ext cx="4289760" cy="41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236680" y="1684440"/>
              <a:ext cx="4590720" cy="4317480"/>
            </a:xfrm>
            <a:prstGeom prst="donut">
              <a:avLst>
                <a:gd name="adj" fmla="val 484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2024"/>
                </a:solidFill>
                <a:latin typeface="Garamond"/>
              </a:rPr>
              <a:t>Питание клет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2960" y="1687680"/>
            <a:ext cx="7165800" cy="42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2024"/>
                </a:solidFill>
                <a:latin typeface="Garamond"/>
              </a:rPr>
              <a:t>Дыхание  клетки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3800" y="1608120"/>
            <a:ext cx="7319880" cy="44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2024"/>
                </a:solidFill>
                <a:latin typeface="Garamond"/>
              </a:rPr>
              <a:t>Рост и развит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8483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2024"/>
                </a:solidFill>
                <a:latin typeface="Garamond"/>
              </a:rPr>
              <a:t>Деление клет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21440" cy="2452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121280" y="496080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то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2024"/>
                </a:solidFill>
                <a:latin typeface="Garamond"/>
              </a:rPr>
              <a:t>Вывод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летка – целостная биологическая сист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з клеток состоят все раст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летка – основная структурная единица любого организма, обладающая  всеми признаками жив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летка -  единица размно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21:50:20Z</dcterms:created>
  <dc:creator>Admin</dc:creator>
  <dc:description/>
  <dc:language>en-US</dc:language>
  <cp:lastModifiedBy>Admin</cp:lastModifiedBy>
  <dcterms:modified xsi:type="dcterms:W3CDTF">2012-03-09T20:18:15Z</dcterms:modified>
  <cp:revision>4</cp:revision>
  <dc:subject/>
  <dc:title>Жизнедеятельность клетки</dc:title>
</cp:coreProperties>
</file>