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E6A9-F871-4015-A8B2-BBC64BE40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572A-C650-40AF-8178-8CA41922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13A6-F8D2-43E0-9B11-445CE376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9EB0-DABF-47E6-968F-A0D25C81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F6D2-4838-43B5-A3AD-6E2411A3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E31C-1979-4FB0-B2B7-D1FB1F0E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E59D-342F-42FA-9972-DEC17D97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8B5E-A112-4381-BA3F-F0F0645F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F3D5-4BB5-4027-AF9F-CC4D558D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BDC1-8B09-47F9-9D46-7B1303AC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84EB-CCBA-4187-8C9A-DA05E75F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9A53-2DC5-4D4A-90AF-99B1F2E0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34F8-458A-467D-A8BB-F6F6C6226F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eadtiger.com/wkp/ru/&#1043;&#1077;&#1086;&#1084;&#1077;&#1090;&#1088;&#1080;&#1103;" TargetMode="External"/><Relationship Id="rId2" Type="http://schemas.openxmlformats.org/officeDocument/2006/relationships/hyperlink" Target="http://readtiger.com/wkp/ru/&#1060;&#1080;&#1075;&#1091;&#1088;&#1072;_(&#1075;&#1077;&#1086;&#1084;&#1077;&#1090;&#1088;&#1080;&#1103;)" TargetMode="External"/><Relationship Id="rId3" Type="http://schemas.openxmlformats.org/officeDocument/2006/relationships/hyperlink" Target="http://readtiger.com/wkp/ru/&#1054;&#1090;&#1088;&#1077;&#1079;&#1086;&#1082;" TargetMode="External"/><Relationship Id="rId4" Type="http://schemas.openxmlformats.org/officeDocument/2006/relationships/hyperlink" Target="http://readtiger.com/wkp/ru/&#1055;&#1088;&#1103;&#1084;&#1072;&#1103;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nsportal.ru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21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Использование проблемных ситуаций на уроках матема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04a7b"/>
                </a:solidFill>
                <a:latin typeface="Arial Unicode MS"/>
                <a:ea typeface="Arial Unicode MS"/>
              </a:rPr>
              <a:t>Учитель математики СГО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04a7b"/>
                </a:solidFill>
                <a:latin typeface="Arial Unicode MS"/>
                <a:ea typeface="Arial Unicode MS"/>
              </a:rPr>
              <a:t>Нефёдова Нурия Хаджи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ма: «Сумма внутренних углов треугольника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роить треугольник по трем заданным углам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А=90°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=60°, С=40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А=70°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=30°, С=50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злагает различные точки зрения на один и тот же вопрос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ма «Задачи на построени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делить данный отрезок попол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а) с помощью циркуля и линейки без дел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б)с помощью линейки с параллельными краями и без дел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) острого угла и односторонней лин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г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транспортира и односторонней лин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ма «Теорема Пифагора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4" descr="200px-Pythagoras2"/>
          <p:cNvPicPr/>
          <p:nvPr/>
        </p:nvPicPr>
        <p:blipFill>
          <a:blip r:embed="rId1"/>
          <a:stretch/>
        </p:blipFill>
        <p:spPr>
          <a:xfrm>
            <a:off x="1258920" y="981000"/>
            <a:ext cx="2736720" cy="2735280"/>
          </a:xfrm>
          <a:prstGeom prst="rect">
            <a:avLst/>
          </a:prstGeom>
          <a:ln w="0">
            <a:noFill/>
          </a:ln>
        </p:spPr>
      </p:pic>
      <p:pic>
        <p:nvPicPr>
          <p:cNvPr id="66" name="Содержимое 12" descr="2"/>
          <p:cNvPicPr/>
          <p:nvPr/>
        </p:nvPicPr>
        <p:blipFill>
          <a:blip r:embed="rId2"/>
          <a:stretch/>
        </p:blipFill>
        <p:spPr>
          <a:xfrm>
            <a:off x="4859280" y="1197000"/>
            <a:ext cx="2808360" cy="2663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http://mat.1september.ru/2001/24/no24_13.gif"/>
          <p:cNvPicPr/>
          <p:nvPr/>
        </p:nvPicPr>
        <p:blipFill>
          <a:blip r:embed="rId3"/>
          <a:srcRect l="0" t="0" r="0" b="8739"/>
          <a:stretch/>
        </p:blipFill>
        <p:spPr>
          <a:xfrm>
            <a:off x="3059280" y="3789360"/>
            <a:ext cx="266508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шение текстовых задач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тоды: уравнением, арифметическим, с помощью графического моделирования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000" y="1988640"/>
            <a:ext cx="3249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льнику нужно перевезти 50 пудов муки. Сколько потребуется повозок, если на одной повозке можно перевезти 7 пудов мук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995640" y="2060640"/>
            <a:ext cx="454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и предпринимателя в банке взяли ссуду. Определить какой взнос вернёт банку каждый из предпринимателей, если 1/2  взноса первого равна 1/3 взноса второго, или ¼ взноса  третьего и что взнос третьего на 24 тысячи рублей больше взноса первого. Какова сумма всей ссуд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21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Предлагает рассмотреть явление с различных позиц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ма:«Сумма углов треугольника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99840"/>
            <a:ext cx="361008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рез вершину В проведем прямую а || А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означим получившиеся угл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˪5= ˪ 1и  ˪ 4= ˪ 3 (как накрест лежащие углы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˪ 5+ ˪ 2+ ˪ 4=180°, так как  В развернут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итывая равенство (1), получаем ˪ ˪ 1+ ˪ 2+ ˪ 3=180°  и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˪ А+ ˪ В+ ˪ С=180° 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орема доказа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6" descr="http://shamonino-sosh.ucoz.ru/Uroki/Matematika/Geom7_01.png"/>
          <p:cNvPicPr/>
          <p:nvPr/>
        </p:nvPicPr>
        <p:blipFill>
          <a:blip r:embed="rId1"/>
          <a:stretch/>
        </p:blipFill>
        <p:spPr>
          <a:xfrm>
            <a:off x="1332000" y="981000"/>
            <a:ext cx="1727280" cy="1058760"/>
          </a:xfrm>
          <a:prstGeom prst="rect">
            <a:avLst/>
          </a:prstGeom>
          <a:ln w="0">
            <a:noFill/>
          </a:ln>
        </p:spPr>
      </p:pic>
      <p:grpSp>
        <p:nvGrpSpPr>
          <p:cNvPr id="76" name="Содержимое 7"/>
          <p:cNvGrpSpPr/>
          <p:nvPr/>
        </p:nvGrpSpPr>
        <p:grpSpPr>
          <a:xfrm>
            <a:off x="4356000" y="981000"/>
            <a:ext cx="1728720" cy="1004040"/>
            <a:chOff x="4356000" y="981000"/>
            <a:chExt cx="1728720" cy="1004040"/>
          </a:xfrm>
        </p:grpSpPr>
        <p:sp>
          <p:nvSpPr>
            <p:cNvPr id="77" name="Равнобедренный треугольник 8"/>
            <p:cNvSpPr/>
            <p:nvPr/>
          </p:nvSpPr>
          <p:spPr>
            <a:xfrm>
              <a:off x="4356000" y="981000"/>
              <a:ext cx="1728720" cy="935280"/>
            </a:xfrm>
            <a:prstGeom prst="triangle">
              <a:avLst>
                <a:gd name="adj" fmla="val 29375"/>
              </a:avLst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Rectangle 1"/>
            <p:cNvSpPr/>
            <p:nvPr/>
          </p:nvSpPr>
          <p:spPr>
            <a:xfrm>
              <a:off x="4524120" y="1525320"/>
              <a:ext cx="18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Rectangle 2"/>
            <p:cNvSpPr/>
            <p:nvPr/>
          </p:nvSpPr>
          <p:spPr>
            <a:xfrm>
              <a:off x="4776840" y="1020960"/>
              <a:ext cx="214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ectangle 3"/>
            <p:cNvSpPr/>
            <p:nvPr/>
          </p:nvSpPr>
          <p:spPr>
            <a:xfrm>
              <a:off x="5576400" y="1531440"/>
              <a:ext cx="18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Группа 12"/>
          <p:cNvGrpSpPr/>
          <p:nvPr/>
        </p:nvGrpSpPr>
        <p:grpSpPr>
          <a:xfrm>
            <a:off x="6516720" y="1051920"/>
            <a:ext cx="1942560" cy="911520"/>
            <a:chOff x="6516720" y="1051920"/>
            <a:chExt cx="1942560" cy="911520"/>
          </a:xfrm>
        </p:grpSpPr>
        <p:grpSp>
          <p:nvGrpSpPr>
            <p:cNvPr id="82" name="Группа 13"/>
            <p:cNvGrpSpPr/>
            <p:nvPr/>
          </p:nvGrpSpPr>
          <p:grpSpPr>
            <a:xfrm>
              <a:off x="6516720" y="1051920"/>
              <a:ext cx="1942560" cy="911520"/>
              <a:chOff x="6516720" y="1051920"/>
              <a:chExt cx="1942560" cy="911520"/>
            </a:xfrm>
          </p:grpSpPr>
          <p:sp>
            <p:nvSpPr>
              <p:cNvPr id="83" name="Прямая соединительная линия 15"/>
              <p:cNvSpPr/>
              <p:nvPr/>
            </p:nvSpPr>
            <p:spPr>
              <a:xfrm flipH="1">
                <a:off x="7109640" y="1052640"/>
                <a:ext cx="1349640" cy="8067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84" name="Группа 16"/>
              <p:cNvGrpSpPr/>
              <p:nvPr/>
            </p:nvGrpSpPr>
            <p:grpSpPr>
              <a:xfrm>
                <a:off x="6516720" y="1051920"/>
                <a:ext cx="1942560" cy="911520"/>
                <a:chOff x="6516720" y="1051920"/>
                <a:chExt cx="1942560" cy="911520"/>
              </a:xfrm>
            </p:grpSpPr>
            <p:sp>
              <p:nvSpPr>
                <p:cNvPr id="85" name="Прямая соединительная линия 17"/>
                <p:cNvSpPr/>
                <p:nvPr/>
              </p:nvSpPr>
              <p:spPr>
                <a:xfrm flipV="1">
                  <a:off x="6548400" y="1052280"/>
                  <a:ext cx="1910520" cy="10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6" name="Прямая соединительная линия 18"/>
                <p:cNvSpPr/>
                <p:nvPr/>
              </p:nvSpPr>
              <p:spPr>
                <a:xfrm>
                  <a:off x="6548400" y="1051920"/>
                  <a:ext cx="560520" cy="80676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" name="Прямая соединительная линия 19"/>
                <p:cNvSpPr/>
                <p:nvPr/>
              </p:nvSpPr>
              <p:spPr>
                <a:xfrm flipH="1">
                  <a:off x="6516720" y="1051920"/>
                  <a:ext cx="32400" cy="80676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" name="Прямая соединительная линия 20"/>
                <p:cNvSpPr/>
                <p:nvPr/>
              </p:nvSpPr>
              <p:spPr>
                <a:xfrm flipH="1">
                  <a:off x="8456760" y="1052640"/>
                  <a:ext cx="2520" cy="80676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" name="Rectangle 4"/>
                <p:cNvSpPr/>
                <p:nvPr/>
              </p:nvSpPr>
              <p:spPr>
                <a:xfrm>
                  <a:off x="7457400" y="1478520"/>
                  <a:ext cx="2350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200" spc="-1" strike="noStrike">
                      <a:solidFill>
                        <a:srgbClr val="ff0000"/>
                      </a:solidFill>
                      <a:latin typeface="Calibri"/>
                      <a:ea typeface="Calibri"/>
                    </a:rPr>
                    <a:t>3</a:t>
                  </a:r>
                  <a:endParaRPr b="0" lang="en-US" sz="2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0" name="Rectangle 5"/>
                <p:cNvSpPr/>
                <p:nvPr/>
              </p:nvSpPr>
              <p:spPr>
                <a:xfrm>
                  <a:off x="7045920" y="1422720"/>
                  <a:ext cx="293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200" spc="-1" strike="noStrike">
                      <a:solidFill>
                        <a:srgbClr val="ff0000"/>
                      </a:solidFill>
                      <a:latin typeface="Calibri"/>
                      <a:ea typeface="Calibri"/>
                    </a:rPr>
                    <a:t>2</a:t>
                  </a:r>
                  <a:endParaRPr b="0" lang="en-US" sz="2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1" name="Rectangle 6"/>
                <p:cNvSpPr/>
                <p:nvPr/>
              </p:nvSpPr>
              <p:spPr>
                <a:xfrm>
                  <a:off x="6751800" y="1534320"/>
                  <a:ext cx="293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200" spc="-1" strike="noStrike">
                      <a:solidFill>
                        <a:srgbClr val="ff0000"/>
                      </a:solidFill>
                      <a:latin typeface="Calibri"/>
                      <a:ea typeface="Calibri"/>
                    </a:rPr>
                    <a:t>1</a:t>
                  </a:r>
                  <a:endParaRPr b="0" lang="en-US" sz="2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92" name="Прямоугольник 14"/>
            <p:cNvSpPr/>
            <p:nvPr/>
          </p:nvSpPr>
          <p:spPr>
            <a:xfrm>
              <a:off x="6516720" y="1052640"/>
              <a:ext cx="1940400" cy="835200"/>
            </a:xfrm>
            <a:prstGeom prst="rect">
              <a:avLst/>
            </a:prstGeom>
            <a:solidFill>
              <a:srgbClr val="b9cde5">
                <a:alpha val="67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Object 1"/>
          <p:cNvGraphicFramePr/>
          <p:nvPr/>
        </p:nvGraphicFramePr>
        <p:xfrm>
          <a:off x="3851280" y="2492280"/>
          <a:ext cx="4757760" cy="37450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95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1280" y="2492280"/>
                    <a:ext cx="4757760" cy="37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обуждает обучаемых делать сравнения, обобщения, выводы из ситуации, сопоставлять факты; ставит конкретные вопросы (на обобщение, обоснования, конкретизацию, логику рассужден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000" y="170028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Тема: «Натуральные числ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метьте верные высказывания, в неверных высказываниях укажите ошиб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9640" y="2852640"/>
          <a:ext cx="8209080" cy="3814920"/>
        </p:xfrm>
        <a:graphic>
          <a:graphicData uri="http://schemas.openxmlformats.org/drawingml/2006/table">
            <a:tbl>
              <a:tblPr/>
              <a:tblGrid>
                <a:gridCol w="4824360"/>
                <a:gridCol w="1995480"/>
                <a:gridCol w="1389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казы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о верное высказы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чём ошибк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е маленькое натуральное число — нуль.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23 не является натуральным числ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узначные, трехзначные, четырехзначные, пятизначные и т. д. числа называют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ногозначным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двух разных чи­сел всегда меньшим будет то, которое в натуральном ряду стоит рань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ультат счета не зависит от того порядка, в каком мы считаем предм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Тема: «Основное свойство дроб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метить дроб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) на координатной прямой 2/8   и 1/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) на круге 4/6 и 2/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Группа 4"/>
          <p:cNvGrpSpPr/>
          <p:nvPr/>
        </p:nvGrpSpPr>
        <p:grpSpPr>
          <a:xfrm>
            <a:off x="539640" y="3573360"/>
            <a:ext cx="4248360" cy="432000"/>
            <a:chOff x="539640" y="3573360"/>
            <a:chExt cx="4248360" cy="432000"/>
          </a:xfrm>
        </p:grpSpPr>
        <p:sp>
          <p:nvSpPr>
            <p:cNvPr id="103" name="Line 6"/>
            <p:cNvSpPr/>
            <p:nvPr/>
          </p:nvSpPr>
          <p:spPr>
            <a:xfrm>
              <a:off x="1625040" y="3573360"/>
              <a:ext cx="0" cy="429840"/>
            </a:xfrm>
            <a:prstGeom prst="line">
              <a:avLst/>
            </a:prstGeom>
            <a:ln w="255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4" name="Группа 6"/>
            <p:cNvGrpSpPr/>
            <p:nvPr/>
          </p:nvGrpSpPr>
          <p:grpSpPr>
            <a:xfrm>
              <a:off x="539640" y="3573360"/>
              <a:ext cx="4248360" cy="432000"/>
              <a:chOff x="539640" y="3573360"/>
              <a:chExt cx="4248360" cy="432000"/>
            </a:xfrm>
          </p:grpSpPr>
          <p:sp>
            <p:nvSpPr>
              <p:cNvPr id="105" name="Line 5"/>
              <p:cNvSpPr/>
              <p:nvPr/>
            </p:nvSpPr>
            <p:spPr>
              <a:xfrm>
                <a:off x="539640" y="3786840"/>
                <a:ext cx="4248360" cy="0"/>
              </a:xfrm>
              <a:prstGeom prst="line">
                <a:avLst/>
              </a:prstGeom>
              <a:ln w="38160">
                <a:solidFill>
                  <a:srgbClr val="9900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Line 7"/>
              <p:cNvSpPr/>
              <p:nvPr/>
            </p:nvSpPr>
            <p:spPr>
              <a:xfrm>
                <a:off x="1766520" y="3679920"/>
                <a:ext cx="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Line 9"/>
              <p:cNvSpPr/>
              <p:nvPr/>
            </p:nvSpPr>
            <p:spPr>
              <a:xfrm>
                <a:off x="2191320" y="3573360"/>
                <a:ext cx="0" cy="42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Line 10"/>
              <p:cNvSpPr/>
              <p:nvPr/>
            </p:nvSpPr>
            <p:spPr>
              <a:xfrm>
                <a:off x="2475360" y="3573360"/>
                <a:ext cx="0" cy="42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Line 11"/>
              <p:cNvSpPr/>
              <p:nvPr/>
            </p:nvSpPr>
            <p:spPr>
              <a:xfrm>
                <a:off x="2758680" y="3573360"/>
                <a:ext cx="0" cy="429840"/>
              </a:xfrm>
              <a:prstGeom prst="line">
                <a:avLst/>
              </a:prstGeom>
              <a:ln w="25560">
                <a:solidFill>
                  <a:srgbClr val="66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Line 13"/>
              <p:cNvSpPr/>
              <p:nvPr/>
            </p:nvSpPr>
            <p:spPr>
              <a:xfrm>
                <a:off x="3938760" y="3573360"/>
                <a:ext cx="0" cy="429840"/>
              </a:xfrm>
              <a:prstGeom prst="line">
                <a:avLst/>
              </a:prstGeom>
              <a:ln w="25560">
                <a:solidFill>
                  <a:srgbClr val="66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Line 14"/>
              <p:cNvSpPr/>
              <p:nvPr/>
            </p:nvSpPr>
            <p:spPr>
              <a:xfrm flipV="1">
                <a:off x="1908000" y="3573360"/>
                <a:ext cx="0" cy="432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Line 15"/>
              <p:cNvSpPr/>
              <p:nvPr/>
            </p:nvSpPr>
            <p:spPr>
              <a:xfrm>
                <a:off x="2049840" y="367992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Line 16"/>
              <p:cNvSpPr/>
              <p:nvPr/>
            </p:nvSpPr>
            <p:spPr>
              <a:xfrm>
                <a:off x="2332800" y="367992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Line 17"/>
              <p:cNvSpPr/>
              <p:nvPr/>
            </p:nvSpPr>
            <p:spPr>
              <a:xfrm>
                <a:off x="2616840" y="367992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5" name="Группа 17"/>
          <p:cNvGrpSpPr/>
          <p:nvPr/>
        </p:nvGrpSpPr>
        <p:grpSpPr>
          <a:xfrm>
            <a:off x="5796000" y="2492280"/>
            <a:ext cx="2376360" cy="2160720"/>
            <a:chOff x="5796000" y="2492280"/>
            <a:chExt cx="2376360" cy="2160720"/>
          </a:xfrm>
        </p:grpSpPr>
        <p:sp>
          <p:nvSpPr>
            <p:cNvPr id="116" name="Oval 20"/>
            <p:cNvSpPr/>
            <p:nvPr/>
          </p:nvSpPr>
          <p:spPr>
            <a:xfrm>
              <a:off x="5796000" y="2492280"/>
              <a:ext cx="2376360" cy="21607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7" name="Группа 19"/>
            <p:cNvGrpSpPr/>
            <p:nvPr/>
          </p:nvGrpSpPr>
          <p:grpSpPr>
            <a:xfrm>
              <a:off x="5939640" y="2492280"/>
              <a:ext cx="2089440" cy="2160720"/>
              <a:chOff x="5939640" y="2492280"/>
              <a:chExt cx="2089440" cy="2160720"/>
            </a:xfrm>
          </p:grpSpPr>
          <p:sp>
            <p:nvSpPr>
              <p:cNvPr id="118" name="Line 25"/>
              <p:cNvSpPr/>
              <p:nvPr/>
            </p:nvSpPr>
            <p:spPr>
              <a:xfrm>
                <a:off x="7021080" y="3643200"/>
                <a:ext cx="0" cy="100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9" name="Группа 21"/>
              <p:cNvGrpSpPr/>
              <p:nvPr/>
            </p:nvGrpSpPr>
            <p:grpSpPr>
              <a:xfrm>
                <a:off x="5939640" y="2492280"/>
                <a:ext cx="2089440" cy="1798920"/>
                <a:chOff x="5939640" y="2492280"/>
                <a:chExt cx="2089440" cy="1798920"/>
              </a:xfrm>
            </p:grpSpPr>
            <p:sp>
              <p:nvSpPr>
                <p:cNvPr id="120" name="Line 21"/>
                <p:cNvSpPr/>
                <p:nvPr/>
              </p:nvSpPr>
              <p:spPr>
                <a:xfrm flipH="1">
                  <a:off x="6084000" y="3643560"/>
                  <a:ext cx="934920" cy="64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Line 23"/>
                <p:cNvSpPr/>
                <p:nvPr/>
              </p:nvSpPr>
              <p:spPr>
                <a:xfrm>
                  <a:off x="7021080" y="2492280"/>
                  <a:ext cx="0" cy="1151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" name="Line 24"/>
                <p:cNvSpPr/>
                <p:nvPr/>
              </p:nvSpPr>
              <p:spPr>
                <a:xfrm flipH="1" flipV="1">
                  <a:off x="7020720" y="3643200"/>
                  <a:ext cx="863640" cy="57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3" name="Line 26"/>
                <p:cNvSpPr/>
                <p:nvPr/>
              </p:nvSpPr>
              <p:spPr>
                <a:xfrm flipH="1">
                  <a:off x="7021080" y="2995560"/>
                  <a:ext cx="1008000" cy="64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4" name="Line 28"/>
                <p:cNvSpPr/>
                <p:nvPr/>
              </p:nvSpPr>
              <p:spPr>
                <a:xfrm flipH="1" flipV="1">
                  <a:off x="5939640" y="3068640"/>
                  <a:ext cx="1081080" cy="57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пределяет проблемные теоретические и практические задания (например, исследовательские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55280" y="14842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полните таблицу, используя следующие обознач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»  Я это знаю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» Это новая для меня информация, мне понятн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» Это новая для меня информация, но не совсем понятная, требуется помощь (учителя, одноклассника, учебника и др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все высказывания, приведённые в таблице, верные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11280" y="3284640"/>
          <a:ext cx="8064360" cy="3100320"/>
        </p:xfrm>
        <a:graphic>
          <a:graphicData uri="http://schemas.openxmlformats.org/drawingml/2006/table">
            <a:tbl>
              <a:tblPr/>
              <a:tblGrid>
                <a:gridCol w="7345440"/>
                <a:gridCol w="718920"/>
              </a:tblGrid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лину отрезка АВ называют также расстоянием между точками А и 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ля измерения длин кроме сантиметр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меняют и другие единицы длины.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4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лина отрезка равна сумме длин частей, на которые он разбивается любой его точк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ва отрезка называются равными, если они имеют равные длин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2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еугольник— это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"/>
                        </a:rPr>
                        <a:t>геометрическа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2"/>
                        </a:rPr>
                        <a:t>фигур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образованная тремя 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3"/>
                        </a:rPr>
                        <a:t>отрезкам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которые соединяют три не лежащие на одной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4"/>
                        </a:rPr>
                        <a:t>прямой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чки. Три точки, образующие треугольник, называютс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ршинам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еугольника, а отрезки —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ронам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еугольника.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ольшие расстояния измеряют в километрах.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дин километр равен одной тысяче метров: 1 км = 1000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делите отрезок АВ точкой С так, чтоб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55640" y="1600200"/>
          <a:ext cx="7931160" cy="3602160"/>
        </p:xfrm>
        <a:graphic>
          <a:graphicData uri="http://schemas.openxmlformats.org/drawingml/2006/table">
            <a:tbl>
              <a:tblPr/>
              <a:tblGrid>
                <a:gridCol w="3965760"/>
                <a:gridCol w="3965400"/>
              </a:tblGrid>
              <a:tr h="730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С=С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776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С=2С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53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5АС=С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6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резок АС больше СВ на 2 с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5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резок АВ больше СВ на 2 с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pSp>
        <p:nvGrpSpPr>
          <p:cNvPr id="130" name="Группа 5"/>
          <p:cNvGrpSpPr/>
          <p:nvPr/>
        </p:nvGrpSpPr>
        <p:grpSpPr>
          <a:xfrm>
            <a:off x="5292720" y="1628640"/>
            <a:ext cx="2879640" cy="432000"/>
            <a:chOff x="5292720" y="1628640"/>
            <a:chExt cx="2879640" cy="432000"/>
          </a:xfrm>
        </p:grpSpPr>
        <p:sp>
          <p:nvSpPr>
            <p:cNvPr id="131" name="Прямая соединительная линия 6"/>
            <p:cNvSpPr/>
            <p:nvPr/>
          </p:nvSpPr>
          <p:spPr>
            <a:xfrm>
              <a:off x="5441760" y="2059200"/>
              <a:ext cx="2557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TextBox 28"/>
            <p:cNvSpPr/>
            <p:nvPr/>
          </p:nvSpPr>
          <p:spPr>
            <a:xfrm>
              <a:off x="5292720" y="1628640"/>
              <a:ext cx="24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TextBox 29"/>
            <p:cNvSpPr/>
            <p:nvPr/>
          </p:nvSpPr>
          <p:spPr>
            <a:xfrm>
              <a:off x="7824960" y="1628640"/>
              <a:ext cx="3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Группа 9"/>
          <p:cNvGrpSpPr/>
          <p:nvPr/>
        </p:nvGrpSpPr>
        <p:grpSpPr>
          <a:xfrm>
            <a:off x="5292720" y="2565360"/>
            <a:ext cx="2879640" cy="432000"/>
            <a:chOff x="5292720" y="2565360"/>
            <a:chExt cx="2879640" cy="432000"/>
          </a:xfrm>
        </p:grpSpPr>
        <p:sp>
          <p:nvSpPr>
            <p:cNvPr id="135" name="Прямая соединительная линия 10"/>
            <p:cNvSpPr/>
            <p:nvPr/>
          </p:nvSpPr>
          <p:spPr>
            <a:xfrm>
              <a:off x="5441760" y="2995920"/>
              <a:ext cx="2557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TextBox 28"/>
            <p:cNvSpPr/>
            <p:nvPr/>
          </p:nvSpPr>
          <p:spPr>
            <a:xfrm>
              <a:off x="5292720" y="2565360"/>
              <a:ext cx="24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TextBox 29"/>
            <p:cNvSpPr/>
            <p:nvPr/>
          </p:nvSpPr>
          <p:spPr>
            <a:xfrm>
              <a:off x="7824960" y="2565360"/>
              <a:ext cx="3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Группа 13"/>
          <p:cNvGrpSpPr/>
          <p:nvPr/>
        </p:nvGrpSpPr>
        <p:grpSpPr>
          <a:xfrm>
            <a:off x="5364000" y="3284640"/>
            <a:ext cx="2880000" cy="431640"/>
            <a:chOff x="5364000" y="3284640"/>
            <a:chExt cx="2880000" cy="431640"/>
          </a:xfrm>
        </p:grpSpPr>
        <p:sp>
          <p:nvSpPr>
            <p:cNvPr id="139" name="Прямая соединительная линия 14"/>
            <p:cNvSpPr/>
            <p:nvPr/>
          </p:nvSpPr>
          <p:spPr>
            <a:xfrm>
              <a:off x="5513040" y="3714840"/>
              <a:ext cx="2557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Box 28"/>
            <p:cNvSpPr/>
            <p:nvPr/>
          </p:nvSpPr>
          <p:spPr>
            <a:xfrm>
              <a:off x="5364000" y="3284640"/>
              <a:ext cx="24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TextBox 29"/>
            <p:cNvSpPr/>
            <p:nvPr/>
          </p:nvSpPr>
          <p:spPr>
            <a:xfrm>
              <a:off x="7896600" y="3284640"/>
              <a:ext cx="3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Группа 17"/>
          <p:cNvGrpSpPr/>
          <p:nvPr/>
        </p:nvGrpSpPr>
        <p:grpSpPr>
          <a:xfrm>
            <a:off x="5435640" y="4076640"/>
            <a:ext cx="2881440" cy="432000"/>
            <a:chOff x="5435640" y="4076640"/>
            <a:chExt cx="2881440" cy="432000"/>
          </a:xfrm>
        </p:grpSpPr>
        <p:sp>
          <p:nvSpPr>
            <p:cNvPr id="143" name="Прямая соединительная линия 18"/>
            <p:cNvSpPr/>
            <p:nvPr/>
          </p:nvSpPr>
          <p:spPr>
            <a:xfrm>
              <a:off x="5584680" y="4507200"/>
              <a:ext cx="2557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TextBox 28"/>
            <p:cNvSpPr/>
            <p:nvPr/>
          </p:nvSpPr>
          <p:spPr>
            <a:xfrm>
              <a:off x="5435640" y="4076640"/>
              <a:ext cx="24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TextBox 29"/>
            <p:cNvSpPr/>
            <p:nvPr/>
          </p:nvSpPr>
          <p:spPr>
            <a:xfrm>
              <a:off x="7969320" y="4076640"/>
              <a:ext cx="34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Группа 21"/>
          <p:cNvGrpSpPr/>
          <p:nvPr/>
        </p:nvGrpSpPr>
        <p:grpSpPr>
          <a:xfrm>
            <a:off x="5435640" y="4724280"/>
            <a:ext cx="2881440" cy="433440"/>
            <a:chOff x="5435640" y="4724280"/>
            <a:chExt cx="2881440" cy="433440"/>
          </a:xfrm>
        </p:grpSpPr>
        <p:sp>
          <p:nvSpPr>
            <p:cNvPr id="147" name="Прямая соединительная линия 22"/>
            <p:cNvSpPr/>
            <p:nvPr/>
          </p:nvSpPr>
          <p:spPr>
            <a:xfrm>
              <a:off x="5584680" y="5156280"/>
              <a:ext cx="2557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TextBox 28"/>
            <p:cNvSpPr/>
            <p:nvPr/>
          </p:nvSpPr>
          <p:spPr>
            <a:xfrm>
              <a:off x="5435640" y="4724280"/>
              <a:ext cx="24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TextBox 29"/>
            <p:cNvSpPr/>
            <p:nvPr/>
          </p:nvSpPr>
          <p:spPr>
            <a:xfrm>
              <a:off x="7969320" y="4724280"/>
              <a:ext cx="34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2781000"/>
            <a:ext cx="758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haroni"/>
              </a:rPr>
              <a:t>«Образование – это то, что остается после  того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haroni"/>
              </a:rPr>
              <a:t>как все выученное забудется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haroni"/>
              </a:rPr>
              <a:t>М.Т.Лауэ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ма:  «Свойства степени с натуральным показателем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26920" y="2636640"/>
            <a:ext cx="74282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ое из выражений больше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³ºº   или   3²ºº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Ставит проблемные задачи (например, с недостаточными или избыточными исходными данными; с неопределенностью в постановке вопроса; с противоречивыми данными; с заведомо допущенными ошибками; с ограниченным временем решения), анализирует умение применять полученные зн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"Обманные задачи"</a:t>
            </a:r>
            <a:br>
              <a:rPr sz="4400"/>
            </a:b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haroni"/>
              </a:rPr>
              <a:t>А)Постройте прямоугольник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haroni"/>
              </a:rPr>
              <a:t>         со сторонами 2; 3 и 5 см.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haroni"/>
              </a:rPr>
              <a:t>Б)Больший угол треугольника равен 50°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haroni"/>
              </a:rPr>
              <a:t>         Найдите остальные углы.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haroni"/>
              </a:rPr>
              <a:t>В) Диагональ ромба в два раза больш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haroni"/>
              </a:rPr>
              <a:t>          его  стороны. Найдите углы ромба.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йди ошибку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39640" y="1557360"/>
          <a:ext cx="3095640" cy="4321080"/>
        </p:xfrm>
        <a:graphic>
          <a:graphicData uri="http://schemas.openxmlformats.org/drawingml/2006/table">
            <a:tbl>
              <a:tblPr/>
              <a:tblGrid>
                <a:gridCol w="309564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йди ошибку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0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=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9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a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0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 - b=ab-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9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a+b)(a-b)=b(a-b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9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=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0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9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0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=1 !!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3851280" y="2492280"/>
          <a:ext cx="4835520" cy="2194200"/>
        </p:xfrm>
        <a:graphic>
          <a:graphicData uri="http://schemas.openxmlformats.org/drawingml/2006/table">
            <a:tbl>
              <a:tblPr/>
              <a:tblGrid>
                <a:gridCol w="1366200"/>
                <a:gridCol w="242640"/>
                <a:gridCol w="1401120"/>
                <a:gridCol w="216000"/>
                <a:gridCol w="1383480"/>
                <a:gridCol w="226080"/>
              </a:tblGrid>
              <a:tr h="825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йди ошибку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-2)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-5)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-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-8)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3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3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полните пропуск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00000" y="1268280"/>
          <a:ext cx="7632720" cy="5045040"/>
        </p:xfrm>
        <a:graphic>
          <a:graphicData uri="http://schemas.openxmlformats.org/drawingml/2006/table">
            <a:tbl>
              <a:tblPr/>
              <a:tblGrid>
                <a:gridCol w="2880000"/>
                <a:gridCol w="4752720"/>
              </a:tblGrid>
              <a:tr h="12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шить уравнение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 значит найти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его __________ или доказать, что ____________ не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едение двух или более множителей равно нулю тогда и только тогда, когда _________ из множителей равен 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нем уравнения называется значение _________, обращающее данное уравнение в _________ числовое равенств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рерывная функция меняет знак только в тех точках, 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де она равна ___________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Такие точки разбивают координатную ____ на ___________, внутри которых знак функции __________.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ррациональным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авнением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называется уравнение, содержащее __________ под знаком ________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ачение неизвестного называется допустимым для неравенства, если при этом значении обе части неравенства _________. Совокупность всех __________ значений неизвестного называется областью _____________ неравенст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ча с недостающими данными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Банка с медом весит 500 г. Такая же банка с керосином - 350 г. Сколько весит пустая банка? (Нужно знать отношение веса меда и керосина.)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Даны две окружности, радиус одной из них - 3 см, расстояние между их центрами - 10 см. (Требуется знать радиус другой окружности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Хороших методов существует ровно столько, сколько существует хороших учителей» (Д. Пой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Социальная сеть работников_x000b_образования nsportal.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федова Нурия Хаджи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айт учителя матема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332000" y="1125360"/>
            <a:ext cx="6480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haroni"/>
              </a:rPr>
              <a:t>Джон Дью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haroni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haroni"/>
              </a:rPr>
              <a:t>мыслить человек начинает тогда, когда сталкивается с трудностями, преодоление которых имеет для него большое знач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приёмы создания проблемных ситуаци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учитель подводит школьников к противоречию и предлагает им самим найти способ его разреш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излагает различные точки зрения на один и тот же вопрос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сталкивает противоречия практической деятель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предлагает классу рассмотреть явление с различных позиц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побуждает учащихся делать сравнения, обобщения, выводы из ситуации, сопоставлять факт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ставит конкретные вопросы (на обобщение, обоснования, конкретизацию, логику рассужд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определяет проблемные теоретические и практические зад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ставит проблемные задачи (с недостаточными или избыточными исходными данными; с неопределенностью в постановке вопроса; с противоречивыми данными; с заведомо допущенными ошибками; с ограниченным временем решения; на преодоление психической инерции и другим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Учитель подводит школьников к проблеме и предлагает им самим найти способ её разреш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ма: «Обозначение натуральных чисел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едини линией равные чис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11280" y="2349360"/>
          <a:ext cx="7777080" cy="3876840"/>
        </p:xfrm>
        <a:graphic>
          <a:graphicData uri="http://schemas.openxmlformats.org/drawingml/2006/table">
            <a:tbl>
              <a:tblPr/>
              <a:tblGrid>
                <a:gridCol w="1555560"/>
                <a:gridCol w="3773520"/>
                <a:gridCol w="2448000"/>
              </a:tblGrid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а миллиона двести д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2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сотни тысяч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сотни  2 единиц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2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миллиона 2 сотн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единиц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ести тысяч двести д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ма: «Прямая. Луч. Отрезок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а)Проведи прямую линию так, чтобы она пересекала кривую линию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в двух точках;   в трех точках;   в пяти точках;   в шести точка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б)Проведи луч так, чтобы он пересекал кривую линию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в двух точках;   в трех точках;   в пяти точках;   в шести точка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в)Проведи отрезок так, чтобы он пересекал кривую линию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в двух точках;   в трех точках;   в пяти точках;   в шести точка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3" descr=""/>
          <p:cNvPicPr/>
          <p:nvPr/>
        </p:nvPicPr>
        <p:blipFill>
          <a:blip r:embed="rId1"/>
          <a:stretch/>
        </p:blipFill>
        <p:spPr>
          <a:xfrm>
            <a:off x="2411280" y="3716280"/>
            <a:ext cx="4537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ма: «Простые и составные числа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й “лишнее” число: 2, 3, 5, 7, 9, 11,13,1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ма: «Сравнение чисел»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е однозначные числа можно вставить в “окошки”, чтобы получились верные неравенства? </a:t>
            </a:r>
            <a:r>
              <a:rPr b="0" lang="ru-RU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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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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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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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9&lt;</a:t>
            </a:r>
            <a:r>
              <a:rPr b="0" lang="ru-RU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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9&gt;</a:t>
            </a:r>
            <a:r>
              <a:rPr b="0" lang="ru-RU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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8&lt;</a:t>
            </a:r>
            <a:r>
              <a:rPr b="0" lang="ru-RU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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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е двузначные числа можно вставить в “окошки”, чтобы получились верные неравенства? </a:t>
            </a:r>
            <a:r>
              <a:rPr b="0" lang="ru-RU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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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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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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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99&lt;</a:t>
            </a:r>
            <a:r>
              <a:rPr b="0" lang="ru-RU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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9&gt;</a:t>
            </a:r>
            <a:r>
              <a:rPr b="0" lang="ru-RU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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11&lt;</a:t>
            </a:r>
            <a:r>
              <a:rPr b="0" lang="ru-RU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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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авните зашифрованные числ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2924280"/>
          <a:ext cx="7248600" cy="3444840"/>
        </p:xfrm>
        <a:graphic>
          <a:graphicData uri="http://schemas.openxmlformats.org/drawingml/2006/table">
            <a:tbl>
              <a:tblPr/>
              <a:tblGrid>
                <a:gridCol w="1944720"/>
                <a:gridCol w="3271680"/>
                <a:gridCol w="2032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ак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тор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*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**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*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**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*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Сталкивает противоречия практической деятельност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ма:«Построение треугольника по трем элементам. Неравенство треугольни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роить с помощью циркуля и линейки треугольник со сторонам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5см; 6см; 7см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 9см; 5см; 6см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 1см; 2см; 3см;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) 3см; 4см; 10с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USER</cp:lastModifiedBy>
  <dcterms:modified xsi:type="dcterms:W3CDTF">2013-11-06T04:18:48Z</dcterms:modified>
  <cp:revision>20</cp:revision>
  <dc:subject/>
  <dc:title>Шаблон презентации</dc:title>
</cp:coreProperties>
</file>