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F69-2134-4BFC-A40E-D3151CCE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9D8-2880-4085-AD0C-0104DC99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7E3-70B2-406B-9691-2BB5E42A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B53-1717-4468-8C68-4C2685E1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1334-EA09-4BA8-84BA-A8FAB05A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FC9-14B4-4823-B0F4-2AAF79ED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F2D-7138-4763-9AED-3826BD08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A02-410B-47E7-92AC-4B5CA43A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F3B-D85F-491E-80D4-71E34B4A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293-15E2-4562-8E75-0236BA6F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0D0-FBE0-4C25-B1AA-902FD36B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642-B3BB-4463-8794-4C69D17B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A5D4-BA24-4A93-9FE9-BDD76A5A3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eadtiger.com/wkp/ru/&#1043;&#1077;&#1086;&#1084;&#1077;&#1090;&#1088;&#1080;&#1103;" TargetMode="External"/><Relationship Id="rId2" Type="http://schemas.openxmlformats.org/officeDocument/2006/relationships/hyperlink" Target="http://readtiger.com/wkp/ru/&#1060;&#1080;&#1075;&#1091;&#1088;&#1072;_(&#1075;&#1077;&#1086;&#1084;&#1077;&#1090;&#1088;&#1080;&#1103;)" TargetMode="External"/><Relationship Id="rId3" Type="http://schemas.openxmlformats.org/officeDocument/2006/relationships/hyperlink" Target="http://readtiger.com/wkp/ru/&#1054;&#1090;&#1088;&#1077;&#1079;&#1086;&#1082;" TargetMode="External"/><Relationship Id="rId4" Type="http://schemas.openxmlformats.org/officeDocument/2006/relationships/hyperlink" Target="http://readtiger.com/wkp/ru/&#1055;&#1088;&#1103;&#1084;&#1072;&#1103;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nsportal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Использование проблемных ситуаций на уроках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Arial Unicode MS"/>
                <a:ea typeface="Arial Unicode MS"/>
              </a:rPr>
              <a:t>Учитель математики СГО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Arial Unicode MS"/>
                <a:ea typeface="Arial Unicode MS"/>
              </a:rPr>
              <a:t>Нефёдова Нурия Хаджи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«Сумма внутренних углов треугольника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роить треугольник по трем заданным угла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А=90°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60°, С=40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А=70°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30°, С=50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злагает различные точки зрения на один и тот же вопро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 «Задачи на построе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ить данный отрезок попол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) с помощью циркуля и линейки без де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)с помощью линейки с параллельными краями и без дел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) острого угла и односторонней лин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ранспортира и односторонней лин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 «Теорема Пифагор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200px-Pythagoras2"/>
          <p:cNvPicPr/>
          <p:nvPr/>
        </p:nvPicPr>
        <p:blipFill>
          <a:blip r:embed="rId1"/>
          <a:stretch/>
        </p:blipFill>
        <p:spPr>
          <a:xfrm>
            <a:off x="1258920" y="981000"/>
            <a:ext cx="273672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12" descr="2"/>
          <p:cNvPicPr/>
          <p:nvPr/>
        </p:nvPicPr>
        <p:blipFill>
          <a:blip r:embed="rId2"/>
          <a:stretch/>
        </p:blipFill>
        <p:spPr>
          <a:xfrm>
            <a:off x="4859280" y="1197000"/>
            <a:ext cx="2808360" cy="266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mat.1september.ru/2001/24/no24_13.gif"/>
          <p:cNvPicPr/>
          <p:nvPr/>
        </p:nvPicPr>
        <p:blipFill>
          <a:blip r:embed="rId3"/>
          <a:srcRect l="0" t="0" r="0" b="8739"/>
          <a:stretch/>
        </p:blipFill>
        <p:spPr>
          <a:xfrm>
            <a:off x="3059280" y="3789360"/>
            <a:ext cx="26650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шение текстовых задач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оды: уравнением, арифметическим, с помощью графического моделирования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000" y="1988640"/>
            <a:ext cx="3249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льнику нужно перевезти 50 пудов муки. Сколько потребуется повозок, если на одной повозке можно перевезти 7 пудов му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95640" y="206064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и предпринимателя в банке взяли ссуду. Определить какой взнос вернёт банку каждый из предпринимателей, если 1/2  взноса первого равна 1/3 взноса второго, или ¼ взноса  третьего и что взнос третьего на 24 тысячи рублей больше взноса первого. Какова сумма всей ссуд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редлагает рассмотреть явление с различных пози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«Сумма углов треугольника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3610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ез вершину В проведем прямую а || 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значим получившиеся уг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˪5= ˪ 1и  ˪ 4= ˪ 3 (как накрест лежащие угл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˪ 5+ ˪ 2+ ˪ 4=180°, так как  В развернут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ывая равенство (1), получаем ˪ ˪ 1+ ˪ 2+ ˪ 3=180°  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˪ А+ ˪ В+ ˪ С=180° 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орема доказа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6" descr="http://shamonino-sosh.ucoz.ru/Uroki/Matematika/Geom7_01.png"/>
          <p:cNvPicPr/>
          <p:nvPr/>
        </p:nvPicPr>
        <p:blipFill>
          <a:blip r:embed="rId1"/>
          <a:stretch/>
        </p:blipFill>
        <p:spPr>
          <a:xfrm>
            <a:off x="1332000" y="981000"/>
            <a:ext cx="1727280" cy="1058760"/>
          </a:xfrm>
          <a:prstGeom prst="rect">
            <a:avLst/>
          </a:prstGeom>
          <a:ln w="0">
            <a:noFill/>
          </a:ln>
        </p:spPr>
      </p:pic>
      <p:grpSp>
        <p:nvGrpSpPr>
          <p:cNvPr id="76" name="Содержимое 7"/>
          <p:cNvGrpSpPr/>
          <p:nvPr/>
        </p:nvGrpSpPr>
        <p:grpSpPr>
          <a:xfrm>
            <a:off x="4356000" y="981000"/>
            <a:ext cx="1728720" cy="1004040"/>
            <a:chOff x="4356000" y="981000"/>
            <a:chExt cx="1728720" cy="1004040"/>
          </a:xfrm>
        </p:grpSpPr>
        <p:sp>
          <p:nvSpPr>
            <p:cNvPr id="77" name="Равнобедренный треугольник 8"/>
            <p:cNvSpPr/>
            <p:nvPr/>
          </p:nvSpPr>
          <p:spPr>
            <a:xfrm>
              <a:off x="4356000" y="981000"/>
              <a:ext cx="1728720" cy="935280"/>
            </a:xfrm>
            <a:prstGeom prst="triangle">
              <a:avLst>
                <a:gd name="adj" fmla="val 29375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1"/>
            <p:cNvSpPr/>
            <p:nvPr/>
          </p:nvSpPr>
          <p:spPr>
            <a:xfrm>
              <a:off x="4524120" y="1525320"/>
              <a:ext cx="1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2"/>
            <p:cNvSpPr/>
            <p:nvPr/>
          </p:nvSpPr>
          <p:spPr>
            <a:xfrm>
              <a:off x="4776840" y="1020960"/>
              <a:ext cx="214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3"/>
            <p:cNvSpPr/>
            <p:nvPr/>
          </p:nvSpPr>
          <p:spPr>
            <a:xfrm>
              <a:off x="5576400" y="1531440"/>
              <a:ext cx="18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Группа 12"/>
          <p:cNvGrpSpPr/>
          <p:nvPr/>
        </p:nvGrpSpPr>
        <p:grpSpPr>
          <a:xfrm>
            <a:off x="6516720" y="1051920"/>
            <a:ext cx="1942560" cy="911520"/>
            <a:chOff x="6516720" y="1051920"/>
            <a:chExt cx="1942560" cy="911520"/>
          </a:xfrm>
        </p:grpSpPr>
        <p:grpSp>
          <p:nvGrpSpPr>
            <p:cNvPr id="82" name="Группа 13"/>
            <p:cNvGrpSpPr/>
            <p:nvPr/>
          </p:nvGrpSpPr>
          <p:grpSpPr>
            <a:xfrm>
              <a:off x="6516720" y="1051920"/>
              <a:ext cx="1942560" cy="911520"/>
              <a:chOff x="6516720" y="1051920"/>
              <a:chExt cx="1942560" cy="911520"/>
            </a:xfrm>
          </p:grpSpPr>
          <p:sp>
            <p:nvSpPr>
              <p:cNvPr id="83" name="Прямая соединительная линия 15"/>
              <p:cNvSpPr/>
              <p:nvPr/>
            </p:nvSpPr>
            <p:spPr>
              <a:xfrm flipH="1">
                <a:off x="7109640" y="1052640"/>
                <a:ext cx="1349640" cy="8067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4" name="Группа 16"/>
              <p:cNvGrpSpPr/>
              <p:nvPr/>
            </p:nvGrpSpPr>
            <p:grpSpPr>
              <a:xfrm>
                <a:off x="6516720" y="1051920"/>
                <a:ext cx="1942560" cy="911520"/>
                <a:chOff x="6516720" y="1051920"/>
                <a:chExt cx="1942560" cy="911520"/>
              </a:xfrm>
            </p:grpSpPr>
            <p:sp>
              <p:nvSpPr>
                <p:cNvPr id="85" name="Прямая соединительная линия 17"/>
                <p:cNvSpPr/>
                <p:nvPr/>
              </p:nvSpPr>
              <p:spPr>
                <a:xfrm flipV="1">
                  <a:off x="6548400" y="1052280"/>
                  <a:ext cx="1910520" cy="1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" name="Прямая соединительная линия 18"/>
                <p:cNvSpPr/>
                <p:nvPr/>
              </p:nvSpPr>
              <p:spPr>
                <a:xfrm>
                  <a:off x="6548400" y="1051920"/>
                  <a:ext cx="560520" cy="8067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Прямая соединительная линия 19"/>
                <p:cNvSpPr/>
                <p:nvPr/>
              </p:nvSpPr>
              <p:spPr>
                <a:xfrm flipH="1">
                  <a:off x="6516720" y="1051920"/>
                  <a:ext cx="32400" cy="8067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Прямая соединительная линия 20"/>
                <p:cNvSpPr/>
                <p:nvPr/>
              </p:nvSpPr>
              <p:spPr>
                <a:xfrm flipH="1">
                  <a:off x="8456760" y="1052640"/>
                  <a:ext cx="2520" cy="8067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Rectangle 4"/>
                <p:cNvSpPr/>
                <p:nvPr/>
              </p:nvSpPr>
              <p:spPr>
                <a:xfrm>
                  <a:off x="7457400" y="1478520"/>
                  <a:ext cx="2350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ff0000"/>
                      </a:solidFill>
                      <a:latin typeface="Calibri"/>
                      <a:ea typeface="Calibri"/>
                    </a:rPr>
                    <a:t>3</a:t>
                  </a:r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Rectangle 5"/>
                <p:cNvSpPr/>
                <p:nvPr/>
              </p:nvSpPr>
              <p:spPr>
                <a:xfrm>
                  <a:off x="7045920" y="1422720"/>
                  <a:ext cx="293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ff0000"/>
                      </a:solidFill>
                      <a:latin typeface="Calibri"/>
                      <a:ea typeface="Calibri"/>
                    </a:rPr>
                    <a:t>2</a:t>
                  </a:r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Rectangle 6"/>
                <p:cNvSpPr/>
                <p:nvPr/>
              </p:nvSpPr>
              <p:spPr>
                <a:xfrm>
                  <a:off x="6751800" y="1534320"/>
                  <a:ext cx="293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ff0000"/>
                      </a:solidFill>
                      <a:latin typeface="Calibri"/>
                      <a:ea typeface="Calibri"/>
                    </a:rPr>
                    <a:t>1</a:t>
                  </a:r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2" name="Прямоугольник 14"/>
            <p:cNvSpPr/>
            <p:nvPr/>
          </p:nvSpPr>
          <p:spPr>
            <a:xfrm>
              <a:off x="6516720" y="1052640"/>
              <a:ext cx="1940400" cy="835200"/>
            </a:xfrm>
            <a:prstGeom prst="rect">
              <a:avLst/>
            </a:prstGeom>
            <a:solidFill>
              <a:srgbClr val="b9cde5">
                <a:alpha val="67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1"/>
          <p:cNvGraphicFramePr/>
          <p:nvPr/>
        </p:nvGraphicFramePr>
        <p:xfrm>
          <a:off x="3851280" y="2492280"/>
          <a:ext cx="4757760" cy="37450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95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2492280"/>
                    <a:ext cx="475776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буждает обучаемых делать сравнения, обобщения, выводы из ситуации, сопоставлять факты; ставит конкретные вопросы (на обобщение, обоснования, конкретизацию, логику рассужд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1700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ема: «Натуральные числ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тьте верные высказывания, в неверных высказываниях укажите ошиб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9640" y="2852640"/>
          <a:ext cx="8209080" cy="3814920"/>
        </p:xfrm>
        <a:graphic>
          <a:graphicData uri="http://schemas.openxmlformats.org/drawingml/2006/table">
            <a:tbl>
              <a:tblPr/>
              <a:tblGrid>
                <a:gridCol w="4824360"/>
                <a:gridCol w="1995480"/>
                <a:gridCol w="1389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казы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о верное высказы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чём ошибк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е маленькое натуральное число — нуль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23 не является натуральным чис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значные, трехзначные, четырехзначные, пятизначные и т. д. числа называют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гозначным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двух разных чи­сел всегда меньшим будет то, которое в натуральном ряду стоит ран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 счета не зависит от того порядка, в каком мы считаем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ема: «Основное свойство дроб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метить дроб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) на координатной прямой 2/8   и 1/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) на круге 4/6 и 2/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4"/>
          <p:cNvGrpSpPr/>
          <p:nvPr/>
        </p:nvGrpSpPr>
        <p:grpSpPr>
          <a:xfrm>
            <a:off x="539640" y="3573360"/>
            <a:ext cx="4248360" cy="432000"/>
            <a:chOff x="539640" y="3573360"/>
            <a:chExt cx="4248360" cy="432000"/>
          </a:xfrm>
        </p:grpSpPr>
        <p:sp>
          <p:nvSpPr>
            <p:cNvPr id="103" name="Line 6"/>
            <p:cNvSpPr/>
            <p:nvPr/>
          </p:nvSpPr>
          <p:spPr>
            <a:xfrm>
              <a:off x="1625040" y="3573360"/>
              <a:ext cx="0" cy="429840"/>
            </a:xfrm>
            <a:prstGeom prst="line">
              <a:avLst/>
            </a:prstGeom>
            <a:ln w="255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Группа 6"/>
            <p:cNvGrpSpPr/>
            <p:nvPr/>
          </p:nvGrpSpPr>
          <p:grpSpPr>
            <a:xfrm>
              <a:off x="539640" y="3573360"/>
              <a:ext cx="4248360" cy="432000"/>
              <a:chOff x="539640" y="3573360"/>
              <a:chExt cx="4248360" cy="432000"/>
            </a:xfrm>
          </p:grpSpPr>
          <p:sp>
            <p:nvSpPr>
              <p:cNvPr id="105" name="Line 5"/>
              <p:cNvSpPr/>
              <p:nvPr/>
            </p:nvSpPr>
            <p:spPr>
              <a:xfrm>
                <a:off x="539640" y="3786840"/>
                <a:ext cx="4248360" cy="0"/>
              </a:xfrm>
              <a:prstGeom prst="line">
                <a:avLst/>
              </a:prstGeom>
              <a:ln w="38160">
                <a:solidFill>
                  <a:srgbClr val="9900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7"/>
              <p:cNvSpPr/>
              <p:nvPr/>
            </p:nvSpPr>
            <p:spPr>
              <a:xfrm>
                <a:off x="1766520" y="36799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>
                <a:off x="2191320" y="3573360"/>
                <a:ext cx="0" cy="42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2475360" y="3573360"/>
                <a:ext cx="0" cy="42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>
                <a:off x="2758680" y="3573360"/>
                <a:ext cx="0" cy="429840"/>
              </a:xfrm>
              <a:prstGeom prst="line">
                <a:avLst/>
              </a:prstGeom>
              <a:ln w="255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13"/>
              <p:cNvSpPr/>
              <p:nvPr/>
            </p:nvSpPr>
            <p:spPr>
              <a:xfrm>
                <a:off x="3938760" y="3573360"/>
                <a:ext cx="0" cy="429840"/>
              </a:xfrm>
              <a:prstGeom prst="line">
                <a:avLst/>
              </a:prstGeom>
              <a:ln w="255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14"/>
              <p:cNvSpPr/>
              <p:nvPr/>
            </p:nvSpPr>
            <p:spPr>
              <a:xfrm flipV="1">
                <a:off x="1908000" y="3573360"/>
                <a:ext cx="0" cy="432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15"/>
              <p:cNvSpPr/>
              <p:nvPr/>
            </p:nvSpPr>
            <p:spPr>
              <a:xfrm>
                <a:off x="2049840" y="367992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16"/>
              <p:cNvSpPr/>
              <p:nvPr/>
            </p:nvSpPr>
            <p:spPr>
              <a:xfrm>
                <a:off x="2332800" y="367992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17"/>
              <p:cNvSpPr/>
              <p:nvPr/>
            </p:nvSpPr>
            <p:spPr>
              <a:xfrm>
                <a:off x="2616840" y="367992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5" name="Группа 17"/>
          <p:cNvGrpSpPr/>
          <p:nvPr/>
        </p:nvGrpSpPr>
        <p:grpSpPr>
          <a:xfrm>
            <a:off x="5796000" y="2492280"/>
            <a:ext cx="2376360" cy="2160720"/>
            <a:chOff x="5796000" y="2492280"/>
            <a:chExt cx="2376360" cy="2160720"/>
          </a:xfrm>
        </p:grpSpPr>
        <p:sp>
          <p:nvSpPr>
            <p:cNvPr id="116" name="Oval 20"/>
            <p:cNvSpPr/>
            <p:nvPr/>
          </p:nvSpPr>
          <p:spPr>
            <a:xfrm>
              <a:off x="5796000" y="2492280"/>
              <a:ext cx="2376360" cy="21607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7" name="Группа 19"/>
            <p:cNvGrpSpPr/>
            <p:nvPr/>
          </p:nvGrpSpPr>
          <p:grpSpPr>
            <a:xfrm>
              <a:off x="5939640" y="2492280"/>
              <a:ext cx="2089440" cy="2160720"/>
              <a:chOff x="5939640" y="2492280"/>
              <a:chExt cx="2089440" cy="2160720"/>
            </a:xfrm>
          </p:grpSpPr>
          <p:sp>
            <p:nvSpPr>
              <p:cNvPr id="118" name="Line 25"/>
              <p:cNvSpPr/>
              <p:nvPr/>
            </p:nvSpPr>
            <p:spPr>
              <a:xfrm>
                <a:off x="7021080" y="3643200"/>
                <a:ext cx="0" cy="10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9" name="Группа 21"/>
              <p:cNvGrpSpPr/>
              <p:nvPr/>
            </p:nvGrpSpPr>
            <p:grpSpPr>
              <a:xfrm>
                <a:off x="5939640" y="2492280"/>
                <a:ext cx="2089440" cy="1798920"/>
                <a:chOff x="5939640" y="2492280"/>
                <a:chExt cx="2089440" cy="1798920"/>
              </a:xfrm>
            </p:grpSpPr>
            <p:sp>
              <p:nvSpPr>
                <p:cNvPr id="120" name="Line 21"/>
                <p:cNvSpPr/>
                <p:nvPr/>
              </p:nvSpPr>
              <p:spPr>
                <a:xfrm flipH="1">
                  <a:off x="6084000" y="3643560"/>
                  <a:ext cx="93492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Line 23"/>
                <p:cNvSpPr/>
                <p:nvPr/>
              </p:nvSpPr>
              <p:spPr>
                <a:xfrm>
                  <a:off x="7021080" y="2492280"/>
                  <a:ext cx="0" cy="115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Line 24"/>
                <p:cNvSpPr/>
                <p:nvPr/>
              </p:nvSpPr>
              <p:spPr>
                <a:xfrm flipH="1" flipV="1">
                  <a:off x="7020720" y="3643200"/>
                  <a:ext cx="863640" cy="57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Line 26"/>
                <p:cNvSpPr/>
                <p:nvPr/>
              </p:nvSpPr>
              <p:spPr>
                <a:xfrm flipH="1">
                  <a:off x="7021080" y="2995560"/>
                  <a:ext cx="100800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Line 28"/>
                <p:cNvSpPr/>
                <p:nvPr/>
              </p:nvSpPr>
              <p:spPr>
                <a:xfrm flipH="1" flipV="1">
                  <a:off x="5939640" y="3068640"/>
                  <a:ext cx="1081080" cy="57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пределяет проблемные теоретические и практические задания (например, исследовательские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280" y="14842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олните таблицу, используя следующие обознач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 Я это зна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Это новая для меня информация, мне понят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Это новая для меня информация, но не совсем понятная, требуется помощь (учителя, одноклассника, учебника и др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все высказывания, приведённые в таблице, верны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11280" y="3284640"/>
          <a:ext cx="8064360" cy="3100320"/>
        </p:xfrm>
        <a:graphic>
          <a:graphicData uri="http://schemas.openxmlformats.org/drawingml/2006/table">
            <a:tbl>
              <a:tblPr/>
              <a:tblGrid>
                <a:gridCol w="7345440"/>
                <a:gridCol w="718920"/>
              </a:tblGrid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ину отрезка АВ называют также расстоянием между точками А и 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измерения длин кроме сантиметр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няют и другие единицы длины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ина отрезка равна сумме длин частей, на которые он разбивается любой его точ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а отрезка называются равными, если они имеют равные дли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угольник— эт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1"/>
                        </a:rPr>
                        <a:t>геометрическа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2"/>
                        </a:rPr>
                        <a:t>фигур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образованная тремя 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3"/>
                        </a:rPr>
                        <a:t>отрезкам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которые соединяют три не лежащие на одно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Calibri"/>
                          <a:hlinkClick r:id="rId4"/>
                        </a:rPr>
                        <a:t>прямо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чки. Три точки, образующие треугольник, называютс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ршинам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угольника, а отрезки —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ронам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угольника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ие расстояния измеряют в километрах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дин километр равен одной тысяче метров: 1 км = 1000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елите отрезок АВ точкой С так, чтоб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55640" y="1600200"/>
          <a:ext cx="7931160" cy="3602160"/>
        </p:xfrm>
        <a:graphic>
          <a:graphicData uri="http://schemas.openxmlformats.org/drawingml/2006/table">
            <a:tbl>
              <a:tblPr/>
              <a:tblGrid>
                <a:gridCol w="3965760"/>
                <a:gridCol w="3965400"/>
              </a:tblGrid>
              <a:tr h="73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С=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76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С=2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3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АС=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6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езок АС больше СВ на 2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резок АВ больше СВ на 2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130" name="Группа 5"/>
          <p:cNvGrpSpPr/>
          <p:nvPr/>
        </p:nvGrpSpPr>
        <p:grpSpPr>
          <a:xfrm>
            <a:off x="5292720" y="1628640"/>
            <a:ext cx="2879640" cy="432000"/>
            <a:chOff x="5292720" y="1628640"/>
            <a:chExt cx="2879640" cy="432000"/>
          </a:xfrm>
        </p:grpSpPr>
        <p:sp>
          <p:nvSpPr>
            <p:cNvPr id="131" name="Прямая соединительная линия 6"/>
            <p:cNvSpPr/>
            <p:nvPr/>
          </p:nvSpPr>
          <p:spPr>
            <a:xfrm>
              <a:off x="5441760" y="2059200"/>
              <a:ext cx="2557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28"/>
            <p:cNvSpPr/>
            <p:nvPr/>
          </p:nvSpPr>
          <p:spPr>
            <a:xfrm>
              <a:off x="5292720" y="1628640"/>
              <a:ext cx="2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29"/>
            <p:cNvSpPr/>
            <p:nvPr/>
          </p:nvSpPr>
          <p:spPr>
            <a:xfrm>
              <a:off x="7824960" y="1628640"/>
              <a:ext cx="3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Группа 9"/>
          <p:cNvGrpSpPr/>
          <p:nvPr/>
        </p:nvGrpSpPr>
        <p:grpSpPr>
          <a:xfrm>
            <a:off x="5292720" y="2565360"/>
            <a:ext cx="2879640" cy="432000"/>
            <a:chOff x="5292720" y="2565360"/>
            <a:chExt cx="2879640" cy="432000"/>
          </a:xfrm>
        </p:grpSpPr>
        <p:sp>
          <p:nvSpPr>
            <p:cNvPr id="135" name="Прямая соединительная линия 10"/>
            <p:cNvSpPr/>
            <p:nvPr/>
          </p:nvSpPr>
          <p:spPr>
            <a:xfrm>
              <a:off x="5441760" y="2995920"/>
              <a:ext cx="2557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28"/>
            <p:cNvSpPr/>
            <p:nvPr/>
          </p:nvSpPr>
          <p:spPr>
            <a:xfrm>
              <a:off x="5292720" y="2565360"/>
              <a:ext cx="2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Box 29"/>
            <p:cNvSpPr/>
            <p:nvPr/>
          </p:nvSpPr>
          <p:spPr>
            <a:xfrm>
              <a:off x="7824960" y="2565360"/>
              <a:ext cx="3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Группа 13"/>
          <p:cNvGrpSpPr/>
          <p:nvPr/>
        </p:nvGrpSpPr>
        <p:grpSpPr>
          <a:xfrm>
            <a:off x="5364000" y="3284640"/>
            <a:ext cx="2880000" cy="431640"/>
            <a:chOff x="5364000" y="3284640"/>
            <a:chExt cx="2880000" cy="431640"/>
          </a:xfrm>
        </p:grpSpPr>
        <p:sp>
          <p:nvSpPr>
            <p:cNvPr id="139" name="Прямая соединительная линия 14"/>
            <p:cNvSpPr/>
            <p:nvPr/>
          </p:nvSpPr>
          <p:spPr>
            <a:xfrm>
              <a:off x="5513040" y="3714840"/>
              <a:ext cx="2557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28"/>
            <p:cNvSpPr/>
            <p:nvPr/>
          </p:nvSpPr>
          <p:spPr>
            <a:xfrm>
              <a:off x="5364000" y="3284640"/>
              <a:ext cx="2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29"/>
            <p:cNvSpPr/>
            <p:nvPr/>
          </p:nvSpPr>
          <p:spPr>
            <a:xfrm>
              <a:off x="7896600" y="3284640"/>
              <a:ext cx="3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Группа 17"/>
          <p:cNvGrpSpPr/>
          <p:nvPr/>
        </p:nvGrpSpPr>
        <p:grpSpPr>
          <a:xfrm>
            <a:off x="5435640" y="4076640"/>
            <a:ext cx="2881440" cy="432000"/>
            <a:chOff x="5435640" y="4076640"/>
            <a:chExt cx="2881440" cy="432000"/>
          </a:xfrm>
        </p:grpSpPr>
        <p:sp>
          <p:nvSpPr>
            <p:cNvPr id="143" name="Прямая соединительная линия 18"/>
            <p:cNvSpPr/>
            <p:nvPr/>
          </p:nvSpPr>
          <p:spPr>
            <a:xfrm>
              <a:off x="5584680" y="4507200"/>
              <a:ext cx="2557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28"/>
            <p:cNvSpPr/>
            <p:nvPr/>
          </p:nvSpPr>
          <p:spPr>
            <a:xfrm>
              <a:off x="5435640" y="4076640"/>
              <a:ext cx="2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Box 29"/>
            <p:cNvSpPr/>
            <p:nvPr/>
          </p:nvSpPr>
          <p:spPr>
            <a:xfrm>
              <a:off x="7969320" y="4076640"/>
              <a:ext cx="3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Группа 21"/>
          <p:cNvGrpSpPr/>
          <p:nvPr/>
        </p:nvGrpSpPr>
        <p:grpSpPr>
          <a:xfrm>
            <a:off x="5435640" y="4724280"/>
            <a:ext cx="2881440" cy="433440"/>
            <a:chOff x="5435640" y="4724280"/>
            <a:chExt cx="2881440" cy="433440"/>
          </a:xfrm>
        </p:grpSpPr>
        <p:sp>
          <p:nvSpPr>
            <p:cNvPr id="147" name="Прямая соединительная линия 22"/>
            <p:cNvSpPr/>
            <p:nvPr/>
          </p:nvSpPr>
          <p:spPr>
            <a:xfrm>
              <a:off x="5584680" y="5156280"/>
              <a:ext cx="2557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28"/>
            <p:cNvSpPr/>
            <p:nvPr/>
          </p:nvSpPr>
          <p:spPr>
            <a:xfrm>
              <a:off x="5435640" y="4724280"/>
              <a:ext cx="2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29"/>
            <p:cNvSpPr/>
            <p:nvPr/>
          </p:nvSpPr>
          <p:spPr>
            <a:xfrm>
              <a:off x="7969320" y="4724280"/>
              <a:ext cx="3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81000"/>
            <a:ext cx="75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haroni"/>
              </a:rPr>
              <a:t>«Образование – это то, что остается после  того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haroni"/>
              </a:rPr>
              <a:t>как все выученное забудется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haroni"/>
              </a:rPr>
              <a:t>М.Т.Лауэ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«Свойства степени с натуральным показателем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636640"/>
            <a:ext cx="74282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е из выражений больше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³ºº   или   3²ºº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тавит проблемные задачи (например, с недостаточными или избыточными исходными данными; с неопределенностью в постановке вопроса; с противоречивыми данными; с заведомо допущенными ошибками; с ограниченным временем решения), анализирует умение применять полученные зн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"Обманные задачи"</a:t>
            </a: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А)Постройте прямоугольни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         со сторонами 2; 3 и 5 см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Б)Больший угол треугольника равен 50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         Найдите остальные углы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В) Диагональ ромба в два раза больш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          его  стороны. Найдите углы ромба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 ошиб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9640" y="1557360"/>
          <a:ext cx="3095640" cy="432108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йди ошибку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=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a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 - b=ab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a+b)(a-b)=b(a-b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=1 !!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851280" y="2492280"/>
          <a:ext cx="4835520" cy="2194200"/>
        </p:xfrm>
        <a:graphic>
          <a:graphicData uri="http://schemas.openxmlformats.org/drawingml/2006/table">
            <a:tbl>
              <a:tblPr/>
              <a:tblGrid>
                <a:gridCol w="1366200"/>
                <a:gridCol w="242640"/>
                <a:gridCol w="1401120"/>
                <a:gridCol w="216000"/>
                <a:gridCol w="1383480"/>
                <a:gridCol w="226080"/>
              </a:tblGrid>
              <a:tr h="825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йди ошибку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-2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-5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-8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3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= 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полните пропус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1268280"/>
          <a:ext cx="7632720" cy="5045040"/>
        </p:xfrm>
        <a:graphic>
          <a:graphicData uri="http://schemas.openxmlformats.org/drawingml/2006/table">
            <a:tbl>
              <a:tblPr/>
              <a:tblGrid>
                <a:gridCol w="2880000"/>
                <a:gridCol w="4752720"/>
              </a:tblGrid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шить уравне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значит найти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его __________ или доказать, что ____________ н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едение двух или более множителей равно нулю тогда и только тогда, когда _________ из множителей равен 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нем уравнения называется значение _________, обращающее данное уравнение в _________ числовое равенст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ерывная функция меняет знак только в тех точках, 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де она равна ___________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Такие точки разбивают координатную ____ на ___________, внутри которых знак функции __________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ррациональным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авнением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азывается уравнение, содержащее __________ под знаком ________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чение неизвестного называется допустимым для неравенства, если при этом значении обе части неравенства _________. Совокупность всех __________ значений неизвестного называется областью _____________ неравен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а с недостающими данным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Банка с медом весит 500 г. Такая же банка с керосином - 350 г. Сколько весит пустая банка? (Нужно знать отношение веса меда и керосина.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аны две окружности, радиус одной из них - 3 см, расстояние между их центрами - 10 см. (Требуется знать радиус другой окружности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Хороших методов существует ровно столько, сколько существует хороших учителей» (Д. Пой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оциальная сеть работников_x000b_образования nsportal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федова Нурия Хаджи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йт учителя мате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332000" y="1125360"/>
            <a:ext cx="648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Джон Дью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haroni"/>
              </a:rPr>
              <a:t>мыслить человек начинает тогда, когда сталкивается с трудностями, преодоление которых имеет для него большое зна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ные приёмы создания проблемных ситуац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учитель подводит школьников к противоречию и предлагает им самим найти способ его разреш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излагает различные точки зрения на один и тот же вопро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сталкивает противоречия практическ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предлагает классу рассмотреть явление с различных пози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побуждает учащихся делать сравнения, обобщения, выводы из ситуации, сопоставлять фак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ставит конкретные вопросы (на обобщение, обоснования, конкретизацию, логику рассуж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определяет проблемные теоретические и практические зад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ставит проблемные задачи (с недостаточными или избыточными исходными данными; с неопределенностью в постановке вопроса; с противоречивыми данными; с заведомо допущенными ошибками; с ограниченным временем решения; на преодоление психической инерции и други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читель подводит школьников к проблеме и предлагает им самим найти способ её раз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: «Обозначение натуральных чисел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едини линией равные чис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11280" y="2349360"/>
          <a:ext cx="7777080" cy="3876840"/>
        </p:xfrm>
        <a:graphic>
          <a:graphicData uri="http://schemas.openxmlformats.org/drawingml/2006/table">
            <a:tbl>
              <a:tblPr/>
              <a:tblGrid>
                <a:gridCol w="1555560"/>
                <a:gridCol w="3773520"/>
                <a:gridCol w="244800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 миллиона двести д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отни тыся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отни  2 еди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иллиона 2 сот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еди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ести тысяч двести д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«Прямая. Луч. Отрезок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а)Проведи прямую линию так, чтобы она пересекала кривую линию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в двух точках;   в трех точках;   в пяти точках;   в шести точк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б)Проведи луч так, чтобы он пересекал кривую линию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в двух точках;   в трех точках;   в пяти точках;   в шести точк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в)Проведи отрезок так, чтобы он пересекал кривую линию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в двух точках;   в трех точках;   в пяти точках;   в шести точк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4537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«Простые и составные числа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“лишнее” число: 2, 3, 5, 7, 9, 11,13,1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«Сравнение чисел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однозначные числа можно вставить в “окошки”, чтобы получились верные неравенства?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9&l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9&g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8&l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двузначные числа можно вставить в “окошки”, чтобы получились верные неравенства?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99&l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9&g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11&lt;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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авните зашифрованные чис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2924280"/>
          <a:ext cx="7248600" cy="3444840"/>
        </p:xfrm>
        <a:graphic>
          <a:graphicData uri="http://schemas.openxmlformats.org/drawingml/2006/table">
            <a:tbl>
              <a:tblPr/>
              <a:tblGrid>
                <a:gridCol w="1944720"/>
                <a:gridCol w="327168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к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**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*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**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*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Сталкивает противоречия практической деятель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«Построение треугольника по трем элементам. Неравенство треугольни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роить с помощью циркуля и линейки треугольник со сторон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5см; 6см; 7с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9см; 5см; 6с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1см; 2см; 3см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3см; 4см; 10с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3-11-06T04:18:48Z</dcterms:modified>
  <cp:revision>20</cp:revision>
  <dc:subject/>
  <dc:title>Шаблон презентации</dc:title>
</cp:coreProperties>
</file>