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5CE-C2C6-4E5B-A51F-FD834F8F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94BB-20ED-47C6-A360-2EF74732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B14-D764-48DC-9A93-C1F158EC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03B-6D64-4D5D-9F1B-FFC77A30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2008-59B2-45A1-9DFE-4061133D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B2A-434F-446C-8D77-63DEEBAD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B1C-D3A0-4CBF-9EBC-967AC9C0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D69-7FE7-4D2D-A0F7-1CD3A354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D494-3F19-44D5-97A5-A168CD89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E70E-3EC2-46D5-B855-AA2F1A33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0B6-A407-4828-B911-8913D1FF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645-39AB-4450-BB2B-4BD8DD49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0F79-16DB-4F4E-A28A-32FA1D3E88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61069-blackangel"/>
          <p:cNvPicPr/>
          <p:nvPr/>
        </p:nvPicPr>
        <p:blipFill>
          <a:blip r:embed="rId1"/>
          <a:srcRect l="6394" t="4341" r="41685" b="0"/>
          <a:stretch/>
        </p:blipFill>
        <p:spPr>
          <a:xfrm>
            <a:off x="0" y="0"/>
            <a:ext cx="7121520" cy="9144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0_7f560_988a0154_L"/>
          <p:cNvPicPr/>
          <p:nvPr/>
        </p:nvPicPr>
        <p:blipFill>
          <a:blip r:embed="rId2"/>
          <a:stretch/>
        </p:blipFill>
        <p:spPr>
          <a:xfrm>
            <a:off x="2492280" y="2987640"/>
            <a:ext cx="2158920" cy="1800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4"/>
          <p:cNvSpPr/>
          <p:nvPr/>
        </p:nvSpPr>
        <p:spPr>
          <a:xfrm>
            <a:off x="620640" y="1042920"/>
            <a:ext cx="583272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Муниципальное  обще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«Средняя общеобразовательная школа № 27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г. о. Саран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i="1" lang="ru-RU" sz="2200" spc="-1" strike="noStrike">
                <a:solidFill>
                  <a:srgbClr val="a50021"/>
                </a:solidFill>
                <a:latin typeface="Arial"/>
              </a:rPr>
              <a:t>Литературно - художествен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a50021"/>
                </a:solidFill>
                <a:latin typeface="Arial"/>
              </a:rPr>
              <a:t>журнал №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«Родничок»</a:t>
            </a:r>
            <a:r>
              <a:rPr b="1" i="1" lang="ru-RU" sz="4400" spc="-1" strike="noStrike">
                <a:solidFill>
                  <a:srgbClr val="339933"/>
                </a:solidFill>
                <a:latin typeface="Arial"/>
              </a:rPr>
              <a:t>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2013-2014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6" descr="0_a5fc0_66a0ae77_L"/>
          <p:cNvPicPr/>
          <p:nvPr/>
        </p:nvPicPr>
        <p:blipFill>
          <a:blip r:embed="rId3"/>
          <a:stretch/>
        </p:blipFill>
        <p:spPr>
          <a:xfrm>
            <a:off x="0" y="0"/>
            <a:ext cx="7316640" cy="1187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0_a5fc0_66a0ae77_L"/>
          <p:cNvPicPr/>
          <p:nvPr/>
        </p:nvPicPr>
        <p:blipFill>
          <a:blip r:embed="rId4"/>
          <a:stretch/>
        </p:blipFill>
        <p:spPr>
          <a:xfrm>
            <a:off x="0" y="7956720"/>
            <a:ext cx="731664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413000" y="1495440"/>
            <a:ext cx="424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ем доме выросла ёл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ует нас она каждой иголо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ушки на ёлке блестят и сверк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имание всех она привлек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и учить рядом с ней не м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уюсь на ёлочку и бере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ков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 чудеса закружат вокруг ёлки хоро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Дедушкой Морозом к нам приходит Нов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раздник мы встречаем всей семьёю в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даринов мы съедаем килограммов двес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околадок и конфет, пряников, печен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готовим для друзей игры, развлече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хов 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hristmas_texture2626"/>
          <p:cNvPicPr/>
          <p:nvPr/>
        </p:nvPicPr>
        <p:blipFill>
          <a:blip r:embed="rId2"/>
          <a:srcRect l="0" t="0" r="6945" b="0"/>
          <a:stretch/>
        </p:blipFill>
        <p:spPr>
          <a:xfrm>
            <a:off x="216000" y="21600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1773360" y="2197440"/>
            <a:ext cx="401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ТАКОЕ НОВЫЙ ГОД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 Новый год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год он наста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год его все жд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встречает там и т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 и тут все ставят ел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шают все игол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шают мишур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ождем еще по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 ко всем приход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негурочку привод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песенки по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дарки разда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год – отличный празд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м скажу я не т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Новым годом, с Новым год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Новым годом вас друз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ков Вита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413000" y="1495440"/>
            <a:ext cx="424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ем доме выросла ёл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ует нас она каждой иголо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ушки на ёлке блестят и сверк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имание всех она привлек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и учить рядом с ней не м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уюсь на ёлочку и бере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ков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 чудеса закружат вокруг ёлки хоро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Дедушкой Морозом к нам приходит Нов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раздник мы встречаем всей семьёю в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даринов мы съедаем килограммов двес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околадок и конфет, пряников, печен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готовим для друзей игры, развлече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хов 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hristmas_texture2626"/>
          <p:cNvPicPr/>
          <p:nvPr/>
        </p:nvPicPr>
        <p:blipFill>
          <a:blip r:embed="rId2"/>
          <a:srcRect l="0" t="0" r="6945" b="0"/>
          <a:stretch/>
        </p:blipFill>
        <p:spPr>
          <a:xfrm>
            <a:off x="216000" y="21600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1628640" y="1692360"/>
            <a:ext cx="4321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 праздник Нов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 к нам вновь прид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еланья, поздравле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дарки принес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его нарядим ёл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ню выучим, сти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мся ко встре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 себя не подв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ерём бал новогод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нарядные прид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ле ёлочки наря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воды повед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год – волшебный праз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яются меч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, что ты, дружок, скор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у напи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заветные желан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яет в пол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 нам, ребята, ну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ще верить в чудес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рнайкина Ви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557360" y="2124000"/>
            <a:ext cx="3908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 идёт на праз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встречайте поскор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рки он кладёт под ёл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ирайте побыстр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 конфеты, там игр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ё для маленьких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ова М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год,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лучший праздн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подкрался к нам у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какой проказн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друзья мои спеш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Ёлку наряж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у что Нов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обожаю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рин Серг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485720" y="2268360"/>
            <a:ext cx="4178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лучший праздник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 под ё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рки принес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Ёлочка сияет множеством ог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м веселиться, радоваться с н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янкин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 стучит в окош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дёт лошадка у порож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дарины, шишки ёл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йный запах от иго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год пришёл, ур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дёт подарков детвор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маева Соф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557360" y="1547640"/>
            <a:ext cx="38876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, Дед Моро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жи, что нам принё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Я принёс вам ёлоч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шуры коробоч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то, и всё? - воскликнул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же праздник и друзь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сех друзей я собе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воды заве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 подарком не спе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елимся от ду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лев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, скоро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на праздник всех зовё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т снег, мороз и ё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ё ледянки, гор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хочу всем пожел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год скорей встреч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арев Тим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1557360" y="1774080"/>
            <a:ext cx="3959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праздник любят вс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рослые и д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раздник волшеб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ше всех на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 украсим миш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рядим ё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шадку с гривой золо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выставим на по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приходит Дед Мо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му мы очень р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несёт подарков во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ушки и наряд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исов Да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, скоро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м улыбки принес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ё плохое уво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ее, праздник, приход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андин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1698120" y="1258920"/>
            <a:ext cx="379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 дедушка прид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дарки принес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странный этот д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шубу тёплую одет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аёт подарки де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м на этом белом св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го не забы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ню громко напе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подарить хлопуш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книжку и игр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околадок целый во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Дедушка Моро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нгаева Веро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х, зима, зима, зи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ё кругом ты замел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еревья, и дом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ьдом закована р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ороз играет с н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иплет уши, щиплет но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 в дверь к нам постуч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ый Дедушка Моро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яскина М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1404000" y="1629720"/>
            <a:ext cx="4725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год!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импиаду нам несё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рались у нашей ё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лисманы  в хоро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яц, барс и медвежо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любят зимний сп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желают всем поб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лимпийский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добрый праздник наста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рослые и дети ждут чуд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, скоро Новый год прид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хо падает снежок с неб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желанья пусть исполнятся у вс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надежды сбудутся, меч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д бой часов звучит счастливый см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м счастливы всегда и я, и 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акевич Ар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628640" y="1995480"/>
            <a:ext cx="3959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самого утра метель метет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ж сугробы белые нам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упает праздник, празд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огод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ый счастья, чуда, свет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мнате сияет золотая ё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дёт подарков дет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лночь Дед Мороз придёт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шкам принесё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-много счастья, рад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ковлев Евг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413000" y="1619280"/>
            <a:ext cx="4268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ем доме выросла ёл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ует нас она каждой иголо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ушки на ёлке блестят и сверк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имание всех она привлек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и учить рядом с ней не м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уюсь на ёлочку и бере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ков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 чудеса закружат вокруг ёлки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Дедушкой Морозом к н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ходит Нов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раздник мы встречаем вс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ьёю в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даринов мы съеда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лограммов двес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околадок и конфет, пряни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ен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готовим для друзей иг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лече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хов 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361069-blackangel"/>
          <p:cNvPicPr/>
          <p:nvPr/>
        </p:nvPicPr>
        <p:blipFill>
          <a:blip r:embed="rId1"/>
          <a:srcRect l="6394" t="4341" r="41685" b="0"/>
          <a:stretch/>
        </p:blipFill>
        <p:spPr>
          <a:xfrm>
            <a:off x="0" y="0"/>
            <a:ext cx="7121520" cy="9144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4"/>
          <p:cNvSpPr txBox="1"/>
          <p:nvPr/>
        </p:nvSpPr>
        <p:spPr>
          <a:xfrm>
            <a:off x="836640" y="826920"/>
            <a:ext cx="52563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990033"/>
                </a:solidFill>
                <a:latin typeface="Monotype Corsiva"/>
              </a:rPr>
              <a:t>Сегодня в номере:</a:t>
            </a:r>
            <a:endParaRPr b="1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990033"/>
              </a:solidFill>
              <a:latin typeface="Monotype Corsiva"/>
              <a:ea typeface="Monotype Corsiva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125360" y="1763640"/>
            <a:ext cx="5256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Добрые сказки Новог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укузов Кирилл «Год Лошад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естков Максим «Сосуль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Новогодние сти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исеенко Яна, Волков Витал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урнайкина Виктория, Данилова Миле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арин Сергей, Буянкина Юл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лмаеав Софья, Гилева Анастас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карев Тимур, Борисов Дани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ландина Дарья, Сенгаева Верони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яскина Мария, Тимонькина Ари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уракевич Артур,  Яковлев Евг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естков Максим, Прахов 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овый Год в кафе «Александ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акевич Артур, Щемерова Дарь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шников Эду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depositphotos_14895807-Christmas-Framтe-with-Red-Ribbon"/>
          <p:cNvPicPr/>
          <p:nvPr/>
        </p:nvPicPr>
        <p:blipFill>
          <a:blip r:embed="rId1"/>
          <a:stretch/>
        </p:blipFill>
        <p:spPr>
          <a:xfrm>
            <a:off x="0" y="0"/>
            <a:ext cx="6835680" cy="9144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6"/>
          <p:cNvSpPr txBox="1"/>
          <p:nvPr/>
        </p:nvSpPr>
        <p:spPr>
          <a:xfrm>
            <a:off x="1916280" y="395280"/>
            <a:ext cx="439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Georgia"/>
              </a:rPr>
              <a:t>Новый Год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Georgia"/>
              </a:rPr>
              <a:t>в кафе "Александра"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Georgia"/>
              <a:ea typeface="Georgia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557360" y="3203640"/>
            <a:ext cx="489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из самых любимых праздников многих людей, Новый год, мы с классом ходили отмечать в кафе. Мне очень понравилось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веселились, общались с одноклассниками и ели разные вкусности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самым особенным  и впечатляющим для меня стал салют в конце праздника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загадывали самые заветные желания. Я тоже загадал. И очень надеюсь, что оно обязательно сбуде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аеквич Ар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depositphotos_14895807-Christmas-Framтe-with-Red-Ribbon"/>
          <p:cNvPicPr/>
          <p:nvPr/>
        </p:nvPicPr>
        <p:blipFill>
          <a:blip r:embed="rId1"/>
          <a:stretch/>
        </p:blipFill>
        <p:spPr>
          <a:xfrm>
            <a:off x="0" y="0"/>
            <a:ext cx="6835680" cy="9144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4"/>
          <p:cNvPicPr/>
          <p:nvPr/>
        </p:nvPicPr>
        <p:blipFill>
          <a:blip r:embed="rId2"/>
          <a:srcRect l="0" t="0" r="20477" b="24093"/>
          <a:stretch/>
        </p:blipFill>
        <p:spPr>
          <a:xfrm rot="675600">
            <a:off x="1989000" y="611280"/>
            <a:ext cx="3878280" cy="2530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5"/>
          <p:cNvPicPr/>
          <p:nvPr/>
        </p:nvPicPr>
        <p:blipFill>
          <a:blip r:embed="rId3"/>
          <a:srcRect l="0" t="0" r="20477" b="21911"/>
          <a:stretch/>
        </p:blipFill>
        <p:spPr>
          <a:xfrm rot="21066000">
            <a:off x="1412640" y="2987640"/>
            <a:ext cx="3878280" cy="260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6"/>
          <p:cNvPicPr/>
          <p:nvPr/>
        </p:nvPicPr>
        <p:blipFill>
          <a:blip r:embed="rId4"/>
          <a:srcRect l="0" t="0" r="21747" b="24816"/>
          <a:stretch/>
        </p:blipFill>
        <p:spPr>
          <a:xfrm>
            <a:off x="1989000" y="5724360"/>
            <a:ext cx="381636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depositphotos_14895807-Christmas-Framтe-with-Red-Ribbon"/>
          <p:cNvPicPr/>
          <p:nvPr/>
        </p:nvPicPr>
        <p:blipFill>
          <a:blip r:embed="rId1"/>
          <a:stretch/>
        </p:blipFill>
        <p:spPr>
          <a:xfrm>
            <a:off x="0" y="0"/>
            <a:ext cx="6835680" cy="9144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628640" y="1116000"/>
            <a:ext cx="48992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м классом на Новый год мы ходили в кафе. Было любопытно, что ждёт нас там?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с нетерпением ждал, когда же наступит двадцать седьмое декабря. Наконец, этот день наступ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с ребятами вошли в кафе «Александра». Нас встретила украшенная ёлка и накрытые столы. Здесь были и фрукты, и салат, и любимое моё картофельное пюре с котле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затем начались конкурсы. Я участвовал в конкурсе, где измерялась сила руки. Я занял второе место! Ещё интересно было ходить над бутылками, пытаясь не уро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 мы танцевали и ели мороженое. Было так  весело и интересно, что я не заметил, как пролетели три ча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кончанию праздника мы получили подарки от Деда Мороза и вышли на улицу. Собравшись вместе, мы запустили в небо фейерверк и радостные побежали по дом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очень понравился этот ден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шников Эду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depositphotos_14895807-Christmas-Framтe-with-Red-Ribbon"/>
          <p:cNvPicPr/>
          <p:nvPr/>
        </p:nvPicPr>
        <p:blipFill>
          <a:blip r:embed="rId1"/>
          <a:stretch/>
        </p:blipFill>
        <p:spPr>
          <a:xfrm>
            <a:off x="0" y="0"/>
            <a:ext cx="6835680" cy="9144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700280" y="1258920"/>
            <a:ext cx="489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с классом никогда не ходили в кафе.  Новогодний праздник мы решили в первый раз отметить в каф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почему-то волновалась. Но когда я зашла в кафе, моё волнение улетучи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играли, танцевали, пели песни и водили хоровод. Нам было очень весел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елились не только мы, но и наши родители, и наша учительница Наталья Владимировна. Было очень здоров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 мы запускали фонарики и сал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ого Нового года у меня никогда не было! Я его запомню на всю жизн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емеро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2"/>
          <p:cNvPicPr/>
          <p:nvPr/>
        </p:nvPicPr>
        <p:blipFill>
          <a:blip r:embed="rId2"/>
          <a:srcRect l="0" t="0" r="52964" b="22285"/>
          <a:stretch/>
        </p:blipFill>
        <p:spPr>
          <a:xfrm>
            <a:off x="1484280" y="5292720"/>
            <a:ext cx="2293920" cy="2220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3"/>
          <p:cNvPicPr/>
          <p:nvPr/>
        </p:nvPicPr>
        <p:blipFill>
          <a:blip r:embed="rId3"/>
          <a:srcRect l="0" t="0" r="51273" b="21895"/>
          <a:stretch/>
        </p:blipFill>
        <p:spPr>
          <a:xfrm>
            <a:off x="3860640" y="5940360"/>
            <a:ext cx="237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depositphotos_14895807-Christmas-Framтe-with-Red-Ribbon"/>
          <p:cNvPicPr/>
          <p:nvPr/>
        </p:nvPicPr>
        <p:blipFill>
          <a:blip r:embed="rId1"/>
          <a:stretch/>
        </p:blipFill>
        <p:spPr>
          <a:xfrm>
            <a:off x="0" y="0"/>
            <a:ext cx="6835680" cy="9144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1557360" y="1835280"/>
            <a:ext cx="5024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Новый год мы с классом ходили в кафе «Александр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 я вошёл внутрь, мне показалось, что я попал в ночной Нью-Йорк. В кафе было очень красиво! В зале стояла наряженная ёлка и звучала му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здник начался. Мы с ребятами угощались разными вкусностями, играли, участвовали в конкурсах, танцевали. В конце праздника каждый получил пода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самое интересное было после выхода из кафе. Мы с родителями и нашей учительницей любовались салютом,  пускали небесные фонарики и загадывали желания. Было так красиво! Все веселились и радовали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очень понравилось на нашем празднике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…………………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depositphotos_14895807-Christmas-Framтe-with-Red-Ribbon"/>
          <p:cNvPicPr/>
          <p:nvPr/>
        </p:nvPicPr>
        <p:blipFill>
          <a:blip r:embed="rId1"/>
          <a:stretch/>
        </p:blipFill>
        <p:spPr>
          <a:xfrm>
            <a:off x="0" y="0"/>
            <a:ext cx="6835680" cy="9144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916280" y="2268360"/>
            <a:ext cx="4537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Всех детей и взрослых мы от души поздравляем с новым 2014 годом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усть этот год будет светлым, добрым, счастливым и радостн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620640" y="611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now_texture1960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765000" y="3348000"/>
            <a:ext cx="5329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Georgia"/>
              </a:rPr>
              <a:t>Добрые сказки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Georgia"/>
              </a:rPr>
              <a:t>Нового Год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Georgia"/>
              <a:ea typeface="Georgia"/>
            </a:endParaRPr>
          </a:p>
        </p:txBody>
      </p:sp>
      <p:pic>
        <p:nvPicPr>
          <p:cNvPr id="52" name="Picture 7" descr="0_7f560_988a0154_L"/>
          <p:cNvPicPr/>
          <p:nvPr/>
        </p:nvPicPr>
        <p:blipFill>
          <a:blip r:embed="rId2"/>
          <a:stretch/>
        </p:blipFill>
        <p:spPr>
          <a:xfrm>
            <a:off x="1700280" y="5219640"/>
            <a:ext cx="3552840" cy="2990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765000" y="1187280"/>
            <a:ext cx="54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се мы считаем главным праздником им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овый год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— с его ожиданием чудес и вер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 исполнение жел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Когда за окном кружат снежинки, а все во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твердят о подарках к новогодним праздника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олей-не­волей начинаешь ожидать волшебства и верить в сказку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" descr="snow_texture1960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0" y="2651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edmoroz"/>
          <p:cNvPicPr/>
          <p:nvPr/>
        </p:nvPicPr>
        <p:blipFill>
          <a:blip r:embed="rId2"/>
          <a:stretch/>
        </p:blipFill>
        <p:spPr>
          <a:xfrm>
            <a:off x="3716280" y="6084720"/>
            <a:ext cx="2835360" cy="2664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8"/>
          <p:cNvSpPr txBox="1"/>
          <p:nvPr/>
        </p:nvSpPr>
        <p:spPr>
          <a:xfrm>
            <a:off x="1773360" y="826920"/>
            <a:ext cx="3571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Georgia"/>
              </a:rPr>
              <a:t>Сказ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Georgia"/>
              </a:rPr>
              <a:t>«Год Лошади»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Georgia"/>
              <a:ea typeface="Georgia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765000" y="2050920"/>
            <a:ext cx="55645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рилл Тукузов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 с трудом брел по окраине леса. На плечах у него лежал тяжелый мешок с подар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ак же так получилось?! – грустно размышлял Дед Мороз. - Все шло своим чередом. Большие расписные сани, тройка сытых отдохнувших оленей. И вот те раз! Одна остановка в мордовском лесу – и ни саней, ни оле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верное, волки, - предположил Дед Моро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л бы он, что в этом мордовском лесу,  давно не было ни зайцев, ни медведей, ни волков. Да и лес, когда-то дремучий, изрядно поред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друг к хрусту шаг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а, добавил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чьи-то шаг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лянувшись, Де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оз увидел небольш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енского муж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логрейке, валенка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пке-уша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snow_texture1960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620640" y="971640"/>
            <a:ext cx="57610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Эй, мил человек, - обрати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жичок к Дед Морозу, 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идал ли ты моего конь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пустил я его, а он, вид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рел в глушь да и потеря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мехнулся Дед Мор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дно и твоего конька во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ъели. У меня-то трех оленей съ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а, знаю я этих «волков»! Браконьеры это.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го не щадят. Приходят в лес и хозяйничают тут. Животных убивают, огромные деревья валят и вывозят тоннами. Скоро ничего не останется. А ведь лес испокон веков кормил и укрывал нас, жителей ближних дерев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Ах, ты, безобразие какое! – возмутился Дед Мороз. - Что же вы не изловите этих браконьеров да не накажите их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т уж мужичок усмехну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м без власти их не одол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 бывать этому! – заволновался Дед Мороз.-Вот, я их заморожу, в ледышек превращ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х, хо, хо, - вздохнул мужичок. Пытались мы на них управу найти. Да воз и ныне 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не бы только какой-нибудь транспорт найти, да до города добраться. Уж я бы нашел виновных и наказал, как следу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59c408178553"/>
          <p:cNvPicPr/>
          <p:nvPr/>
        </p:nvPicPr>
        <p:blipFill>
          <a:blip r:embed="rId2"/>
          <a:stretch/>
        </p:blipFill>
        <p:spPr>
          <a:xfrm>
            <a:off x="4221000" y="971640"/>
            <a:ext cx="24037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snow_texture1960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620640" y="900000"/>
            <a:ext cx="561672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Глянь-ка, дедушка, а вон мой конек беж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ежал к ним молодой резвый конь вороной масти. Ткнулся мордой хозяину в плечо,  раду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ижу я, устал ты, старик. Бери моего ко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езет он тебя до города. Может и правда удастся тебе наказать браконье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не забудь вернуть мне моего  верного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пасибо! Виновных накажу, - коня обязательно верну, - сказал Дед Мороз и двинулся в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устя час он уже въезжал в гор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х, и досталось тем, кто безобразничал в лесу!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аялись браконьеры и  пообещали охранять  лес и еще новый посади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множко упокоивш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 решил наз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упающий год год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шади. Имен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родного и ве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ого, которо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ую минуту не подведё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гда придет на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107454178_4"/>
          <p:cNvPicPr/>
          <p:nvPr/>
        </p:nvPicPr>
        <p:blipFill>
          <a:blip r:embed="rId2"/>
          <a:stretch/>
        </p:blipFill>
        <p:spPr>
          <a:xfrm>
            <a:off x="3789360" y="5003640"/>
            <a:ext cx="33177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622"/>
          <p:cNvPicPr/>
          <p:nvPr/>
        </p:nvPicPr>
        <p:blipFill>
          <a:blip r:embed="rId1"/>
          <a:srcRect l="46379" t="3857" r="3195" b="986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620640" y="2050920"/>
            <a:ext cx="5832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м Же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ко-далеко, на севере, среди вечной мерзлоты, стоит деревенька. Непростая деревенька. В ней живут сосульки. Да-да, сосульки. Именно те сосульки, которые появляются на крыше домов зимой и ранней весной в тёплый солнечный де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ут сосульки в ледяных домах, спят на ледяных постелях, пьют ледяной чай и едят ледяное мороженое. Днём сосульки собираются вместе, водят хороводы  и поют песню. Какая это удивительная песня! Словно тысячи маленьких колокольчиков звучат одновременно в воздухе и переливаются на разные гол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же эти сосульки попадают к нам на крышу, спросите в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Дедушка Мороз собирает сосульки в большой мешок и по ночам украшает ими крыши наших домов.  Как сказочно красив наш город, украшенный сосулькам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ульки звенят на ветру, переливаются в лучах солнца и… плач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2"/>
          <p:cNvSpPr txBox="1"/>
          <p:nvPr/>
        </p:nvSpPr>
        <p:spPr>
          <a:xfrm>
            <a:off x="1773360" y="971640"/>
            <a:ext cx="3384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Сказка 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«Сосульки»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622"/>
          <p:cNvPicPr/>
          <p:nvPr/>
        </p:nvPicPr>
        <p:blipFill>
          <a:blip r:embed="rId1"/>
          <a:srcRect l="46379" t="3857" r="3195" b="986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593640" y="2474280"/>
            <a:ext cx="5931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чут, потому что они скучают по своей деревне и по своим друзьям. Но с каждой новой слезинкой сосулька становится всё больше и больше. И вот маленькая сосулька превращается в огромный жезл, который так и норовит оторваться от крыши и разлететься на тысячи мелких оскол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ульки очень красивы, но опасны! Так что, ребята, не стоит стоять под крышами домов зимой и ранней весн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ше отойти подальше и просто любоваться этим неповторимым созданием природы! И тогда сосульки обязательно споют  тебе свою удивительную ледяную песенку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1700280" y="2124000"/>
            <a:ext cx="345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Georgia"/>
              </a:rPr>
              <a:t>Новогодние стих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Georgia"/>
              <a:ea typeface="Georgia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628640" y="2987640"/>
            <a:ext cx="3413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Год похож на сказк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, Снегуроч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дут подарков в Нов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я, Света, Шур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т праздник всем друзь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желаю сча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обходят вас все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ды и ненаст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все сбудутся мечт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ости жела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лошадка в Нов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 не обижает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исеенко 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5T06:51:35Z</dcterms:created>
  <dc:creator>User</dc:creator>
  <dc:description/>
  <dc:language>en-US</dc:language>
  <cp:lastModifiedBy>Наталья</cp:lastModifiedBy>
  <dcterms:modified xsi:type="dcterms:W3CDTF">2014-11-23T18:23:06Z</dcterms:modified>
  <cp:revision>8</cp:revision>
  <dc:subject/>
  <dc:title>Слайд 1</dc:title>
</cp:coreProperties>
</file>