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5C2-576A-48B2-ABB8-206DAFAF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01F-98C8-4175-B20A-90FD43E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7B2-746B-4A4E-9F3C-994535A5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168-5B6E-4D4D-9375-481FFE52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624-EA00-454D-908D-BAB549B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68E-DF67-4ABF-ABEE-944DBDF8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D3C-856B-41F7-BACF-E3D6E57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BA6-E45B-4A27-8924-009BB64E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77D-3C03-4855-A649-597F8B0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D87-B166-4557-B961-6A3164B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D54-A0AE-44E7-8482-B5D581B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E9D-E725-4CF9-AF03-202DF77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BF2-1CA5-411A-90EE-04FE94F92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61069-blackangel"/>
          <p:cNvPicPr/>
          <p:nvPr/>
        </p:nvPicPr>
        <p:blipFill>
          <a:blip r:embed="rId1"/>
          <a:srcRect l="6394" t="4341" r="41685" b="0"/>
          <a:stretch/>
        </p:blipFill>
        <p:spPr>
          <a:xfrm>
            <a:off x="0" y="0"/>
            <a:ext cx="7121520" cy="914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0_7f560_988a0154_L"/>
          <p:cNvPicPr/>
          <p:nvPr/>
        </p:nvPicPr>
        <p:blipFill>
          <a:blip r:embed="rId2"/>
          <a:stretch/>
        </p:blipFill>
        <p:spPr>
          <a:xfrm>
            <a:off x="2492280" y="2987640"/>
            <a:ext cx="215892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4"/>
          <p:cNvSpPr/>
          <p:nvPr/>
        </p:nvSpPr>
        <p:spPr>
          <a:xfrm>
            <a:off x="620640" y="1042920"/>
            <a:ext cx="58327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Муниципальное 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Литературно - художествен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журнал №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«Родничок»</a:t>
            </a:r>
            <a:r>
              <a:rPr b="1" i="1" lang="ru-RU" sz="44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2013-2014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0_a5fc0_66a0ae77_L"/>
          <p:cNvPicPr/>
          <p:nvPr/>
        </p:nvPicPr>
        <p:blipFill>
          <a:blip r:embed="rId3"/>
          <a:stretch/>
        </p:blipFill>
        <p:spPr>
          <a:xfrm>
            <a:off x="0" y="0"/>
            <a:ext cx="7316640" cy="11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0_a5fc0_66a0ae77_L"/>
          <p:cNvPicPr/>
          <p:nvPr/>
        </p:nvPicPr>
        <p:blipFill>
          <a:blip r:embed="rId4"/>
          <a:stretch/>
        </p:blipFill>
        <p:spPr>
          <a:xfrm>
            <a:off x="0" y="7956720"/>
            <a:ext cx="73166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413000" y="14954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hristmas_texture2626"/>
          <p:cNvPicPr/>
          <p:nvPr/>
        </p:nvPicPr>
        <p:blipFill>
          <a:blip r:embed="rId2"/>
          <a:srcRect l="0" t="0" r="6945" b="0"/>
          <a:stretch/>
        </p:blipFill>
        <p:spPr>
          <a:xfrm>
            <a:off x="216000" y="21600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773360" y="2197440"/>
            <a:ext cx="401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НОВЫЙ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Новый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он наст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его все жд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речает там и 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и тут все ставят е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ают все иго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ают миш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ждем еще по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ко всем при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негурочку приво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песенки по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разд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– отлич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скажу я не 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овым годом, с Новым год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овым годом вас друз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13000" y="14954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hristmas_texture2626"/>
          <p:cNvPicPr/>
          <p:nvPr/>
        </p:nvPicPr>
        <p:blipFill>
          <a:blip r:embed="rId2"/>
          <a:srcRect l="0" t="0" r="6945" b="0"/>
          <a:stretch/>
        </p:blipFill>
        <p:spPr>
          <a:xfrm>
            <a:off x="216000" y="21600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628640" y="1692360"/>
            <a:ext cx="43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праздник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к нам вновь пр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еланья, поздравл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го нарядим ёл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ю выучим,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мся ко вст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себя не под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ерём бал нового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арядные при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ле ёлочки наря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ы пове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– волшебный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ются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 ты, дружок, ско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у напи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заветные желан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ет в пол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нам, ребята,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ерить в чуд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557360" y="2124000"/>
            <a:ext cx="3908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идёт на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речайте поско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он кладёт под ёл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райте побыст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онфеты, там игр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для маленьк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ова М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,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лучший праздн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дкрался к нам 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какой проказн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зья мои спеш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лку наряж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обожа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485720" y="2268360"/>
            <a:ext cx="417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лучший праздник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под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лочка сияет множеством ог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веселиться, радоваться с 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стучит в окош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лошадка у поро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ы, шишки ё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йный запах от иго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пришёл, у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подарков детв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маева 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557360" y="1547640"/>
            <a:ext cx="3887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, Дед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жи, что нам принё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Я принёс вам ёло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уры короб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, и всё? - воскликнул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праздник и друз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ех друзей я со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ы зав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 подарком не спе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имся от ду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а праздник всех зов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снег, мороз и ё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ё ледянки, го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хочу всем пож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скорей встреч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57360" y="177408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раздник любят 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е и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волшеб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украсим миш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рядим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ку с гривой 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ыставим на по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приходит Дед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у мы очень 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есёт подарков во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и наря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улыб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плохое ув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ее, праздник, прихо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698120" y="1258920"/>
            <a:ext cx="379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дедушка пр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странный этот д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убу тёплую одет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аёт подарки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 на этом белом с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о не за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ю громко напе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подарить хлопуш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книжку и игр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целый в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едушка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х, зима, зима,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кругом ты заме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еревья, и дом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дом закована 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роз играет с н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иплет уши, щиплет н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в дверь к нам пост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ый Дедушка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404000" y="1629720"/>
            <a:ext cx="472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!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аду нам нес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лись у нашей ё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исманы  в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, барс и медвежо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любят зимний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елают всем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лимпийский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добрый праздник наста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е и дети ждут чуд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 пр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хо падает снежок с неб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еланья пусть исполнятся у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адежды сбудутся,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 бой часов звучит счастливый с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счастливы всегда и я, и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628640" y="1995480"/>
            <a:ext cx="395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амого утра метель метет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 сугробы белые на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упает праздник,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год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ый счастья, чуда, свет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нате сияет золотая ё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подарков дет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ночь Дед Мороз придё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шкам принес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-много счастья, рад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413000" y="1619280"/>
            <a:ext cx="426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361069-blackangel"/>
          <p:cNvPicPr/>
          <p:nvPr/>
        </p:nvPicPr>
        <p:blipFill>
          <a:blip r:embed="rId1"/>
          <a:srcRect l="6394" t="4341" r="41685" b="0"/>
          <a:stretch/>
        </p:blipFill>
        <p:spPr>
          <a:xfrm>
            <a:off x="0" y="0"/>
            <a:ext cx="7121520" cy="9144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836640" y="826920"/>
            <a:ext cx="5256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125360" y="1763640"/>
            <a:ext cx="52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Добрые сказки Нов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кузов Кирилл «Год Лоша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ов Максим «Сосул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овогодние 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исеенко Яна, Волков Витал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рнайкина Виктория, Данилова Мил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рин Сергей, Буянкина Юл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маеав Софья, Гилева Анаста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арев Тимур, Борисов Дани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дина Дарья, Сенгаева Веро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яскина Мария, Тимонькина 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ракевич Артур,  Яковле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ов Максим, 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вый Год в кафе «Александ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кевич Артур, Щемерова Дар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916280" y="395280"/>
            <a:ext cx="439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Новый Год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в кафе "Александра"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557360" y="3203640"/>
            <a:ext cx="48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самых любимых праздников многих людей, Новый год, мы с классом ходили отмечать в кафе. Мне очень понравило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еселились, общались с одноклассниками и ели разные вкусности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ым особенным  и впечатляющим для меня стал салют в конце праздника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загадывали самые заветные желания. Я тоже загадал. И очень надеюсь, что оно обязательно сбуд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еквич Ар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4"/>
          <p:cNvPicPr/>
          <p:nvPr/>
        </p:nvPicPr>
        <p:blipFill>
          <a:blip r:embed="rId2"/>
          <a:srcRect l="0" t="0" r="20477" b="24093"/>
          <a:stretch/>
        </p:blipFill>
        <p:spPr>
          <a:xfrm rot="675600">
            <a:off x="1989000" y="611280"/>
            <a:ext cx="3878280" cy="253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5"/>
          <p:cNvPicPr/>
          <p:nvPr/>
        </p:nvPicPr>
        <p:blipFill>
          <a:blip r:embed="rId3"/>
          <a:srcRect l="0" t="0" r="20477" b="21911"/>
          <a:stretch/>
        </p:blipFill>
        <p:spPr>
          <a:xfrm rot="21066000">
            <a:off x="1412640" y="2987640"/>
            <a:ext cx="3878280" cy="260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6"/>
          <p:cNvPicPr/>
          <p:nvPr/>
        </p:nvPicPr>
        <p:blipFill>
          <a:blip r:embed="rId4"/>
          <a:srcRect l="0" t="0" r="21747" b="24816"/>
          <a:stretch/>
        </p:blipFill>
        <p:spPr>
          <a:xfrm>
            <a:off x="1989000" y="5724360"/>
            <a:ext cx="3816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628640" y="1116000"/>
            <a:ext cx="4899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 классом на Новый год мы ходили в кафе. Было любопытно, что ждёт нас там?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 нетерпением ждал, когда же наступит двадцать седьмое декабря. Наконец, этот день наступ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ребятами вошли в кафе «Александра». Нас встретила украшенная ёлка и накрытые столы. Здесь были и фрукты, и салат, и любимое моё картофельное пюре с котле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атем начались конкурсы. Я участвовал в конкурсе, где измерялась сила руки. Я занял второе место! Ещё интересно было ходить над бутылками, пытаясь не уро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мы танцевали и ели мороженое. Было так  весело и интересно, что я не заметил, как пролетели три ч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ю праздника мы получили подарки от Деда Мороза и вышли на улицу. Собравшись вместе, мы запустили в небо фейерверк и радостные побежали по до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чень понравился этот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700280" y="125892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классом никогда не ходили в кафе.  Новогодний праздник мы решили в первый раз отметить в каф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очему-то волновалась. Но когда я зашла в кафе, моё волнение улетуч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играли, танцевали, пели песни и водили хоровод. Нам было очень весе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ились не только мы, но и наши родители, и наша учительница Наталья Владимировна. Было очень здоро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мы запускали фонарики и сал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го Нового года у меня никогда не было! Я его запомню на всю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2"/>
          <p:cNvPicPr/>
          <p:nvPr/>
        </p:nvPicPr>
        <p:blipFill>
          <a:blip r:embed="rId2"/>
          <a:srcRect l="0" t="0" r="52964" b="22285"/>
          <a:stretch/>
        </p:blipFill>
        <p:spPr>
          <a:xfrm>
            <a:off x="1484280" y="5292720"/>
            <a:ext cx="2293920" cy="222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3"/>
          <p:cNvPicPr/>
          <p:nvPr/>
        </p:nvPicPr>
        <p:blipFill>
          <a:blip r:embed="rId3"/>
          <a:srcRect l="0" t="0" r="51273" b="21895"/>
          <a:stretch/>
        </p:blipFill>
        <p:spPr>
          <a:xfrm>
            <a:off x="3860640" y="5940360"/>
            <a:ext cx="237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557360" y="1835280"/>
            <a:ext cx="5024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овый год мы с классом ходили в кафе «Александ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 я вошёл внутрь, мне показалось, что я попал в ночной Нью-Йорк. В кафе было очень красиво! В зале стояла наряженная ёлка и звучала му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начался. Мы с ребятами угощались разными вкусностями, играли, участвовали в конкурсах, танцевали. В конце праздника каждый получил пода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ое интересное было после выхода из кафе. Мы с родителями и нашей учительницей любовались салютом,  пускали небесные фонарики и загадывали желания. Было так красиво! Все веселились и радова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чень понравилось на нашем праздник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………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916280" y="2268360"/>
            <a:ext cx="453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сех детей и взрослых мы от души поздравляем с новым 2014 го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усть этот год будет светлым, добрым, счастливым и радост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20640" y="611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765000" y="3348000"/>
            <a:ext cx="5329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Добрые сказк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Нового Го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</p:txBody>
      </p:sp>
      <p:pic>
        <p:nvPicPr>
          <p:cNvPr id="52" name="Picture 7" descr="0_7f560_988a0154_L"/>
          <p:cNvPicPr/>
          <p:nvPr/>
        </p:nvPicPr>
        <p:blipFill>
          <a:blip r:embed="rId2"/>
          <a:stretch/>
        </p:blipFill>
        <p:spPr>
          <a:xfrm>
            <a:off x="1700280" y="5219640"/>
            <a:ext cx="355284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765000" y="118728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е мы считаем главным праздником им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овый год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— с его ожиданием чудес и ве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исполнение жел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гда за окном кружат снежинки, а все в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твердят о подарках к новогодним праздник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лей-не­волей начинаешь ожидать волшебства и верить в сказку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2651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dmoroz"/>
          <p:cNvPicPr/>
          <p:nvPr/>
        </p:nvPicPr>
        <p:blipFill>
          <a:blip r:embed="rId2"/>
          <a:stretch/>
        </p:blipFill>
        <p:spPr>
          <a:xfrm>
            <a:off x="3716280" y="6084720"/>
            <a:ext cx="283536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1773360" y="826920"/>
            <a:ext cx="3571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Сказ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«Год Лошади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5000" y="2050920"/>
            <a:ext cx="5564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илл Тукузов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с трудом брел по окраине леса. На плечах у него лежал тяжелый мешок с подар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же так получилось?! – грустно размышлял Дед Мороз. - Все шло своим чередом. Большие расписные сани, тройка сытых отдохнувших оленей. И вот те раз! Одна остановка в мордовском лесу – и ни саней, ни оле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верное, волки, - предположил Дед Мо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л бы он, что в этом мордовском лесу,  давно не было ни зайцев, ни медведей, ни волков. Да и лес, когда-то дремучий, изрядно поре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руг к хрусту ша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а, добав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чьи-то ша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лянувшись, Д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оз увидел небольш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енского муж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логрейке, валенк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пке-уша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20640" y="971640"/>
            <a:ext cx="5761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й, мил человек, - обрат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ичок к Дед Морозу, 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идал ли ты моего конь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устил я его, а он, вид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рел в глушь да и потеря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мехнулся Дед Мор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дно и твоего конька во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ли. У меня-то трех оленей съ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, знаю я этих «волков»! Браконьеры это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о не щадят. Приходят в лес и хозяйничают тут. Животных убивают, огромные деревья валят и вывозят тоннами. Скоро ничего не останется. А ведь лес испокон веков кормил и укрывал нас, жителей ближних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х, ты, безобразие какое! – возмутился Дед Мороз. - Что же вы не изловите этих браконьеров да не накажите их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уж мужичок усмехну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м без власти их не од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бывать этому! – заволновался Дед Мороз.-Вот, я их заморожу, в ледышек превращ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х, хо, хо, - вздохнул мужичок. Пытались мы на них управу найти. Да воз и нын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не бы только какой-нибудь транспорт найти, да до города добраться. Уж я бы нашел виновных и наказал, как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59c408178553"/>
          <p:cNvPicPr/>
          <p:nvPr/>
        </p:nvPicPr>
        <p:blipFill>
          <a:blip r:embed="rId2"/>
          <a:stretch/>
        </p:blipFill>
        <p:spPr>
          <a:xfrm>
            <a:off x="4221000" y="971640"/>
            <a:ext cx="2403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20640" y="900000"/>
            <a:ext cx="56167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лянь-ка, дедушка, а вон мой конек беж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ежал к ним молодой резвый конь вороной масти. Ткнулся мордой хозяину в плечо,  рад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ижу я, устал ты, старик. Бери моего ко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зет он тебя до города. Может и правда удастся тебе наказать браконь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не забудь вернуть мне моего  верного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асибо! Виновных накажу, - коня обязательно верну, - сказал Дед Мороз и двинулся в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стя час он уже въезжал в го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, и досталось тем, кто безобразничал в лесу!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аялись браконьеры и  пообещали охранять  лес и еще новый посад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ножко упокоивш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решил наз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упающий год го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и. Име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родного и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го, которо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ую минуту не подвед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гда придет 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07454178_4"/>
          <p:cNvPicPr/>
          <p:nvPr/>
        </p:nvPicPr>
        <p:blipFill>
          <a:blip r:embed="rId2"/>
          <a:stretch/>
        </p:blipFill>
        <p:spPr>
          <a:xfrm>
            <a:off x="3789360" y="5003640"/>
            <a:ext cx="3317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622"/>
          <p:cNvPicPr/>
          <p:nvPr/>
        </p:nvPicPr>
        <p:blipFill>
          <a:blip r:embed="rId1"/>
          <a:srcRect l="46379" t="3857" r="3195" b="986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20640" y="2050920"/>
            <a:ext cx="583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м Ж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-далеко, на севере, среди вечной мерзлоты, стоит деревенька. Непростая деревенька. В ней живут сосульки. Да-да, сосульки. Именно те сосульки, которые появляются на крыше домов зимой и ранней весной в тёплый солнечный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ут сосульки в ледяных домах, спят на ледяных постелях, пьют ледяной чай и едят ледяное мороженое. Днём сосульки собираются вместе, водят хороводы  и поют песню. Какая это удивительная песня! Словно тысячи маленьких колокольчиков звучат одновременно в воздухе и переливаются на разные гол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эти сосульки попадают к нам на крышу, спросите в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едушка Мороз собирает сосульки в большой мешок и по ночам украшает ими крыши наших домов.  Как сказочно красив наш город, украшенный сосулька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льки звенят на ветру, переливаются в лучах солнца и… плач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1773360" y="971640"/>
            <a:ext cx="338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Сказка 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«Сосульки»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622"/>
          <p:cNvPicPr/>
          <p:nvPr/>
        </p:nvPicPr>
        <p:blipFill>
          <a:blip r:embed="rId1"/>
          <a:srcRect l="46379" t="3857" r="3195" b="986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593640" y="2474280"/>
            <a:ext cx="593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чут, потому что они скучают по своей деревне и по своим друзьям. Но с каждой новой слезинкой сосулька становится всё больше и больше. И вот маленькая сосулька превращается в огромный жезл, который так и норовит оторваться от крыши и разлететься на тысячи мелких оскол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льки очень красивы, но опасны! Так что, ребята, не стоит стоять под крышами домов зимой и ранней вес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отойти подальше и просто любоваться этим неповторимым созданием природы! И тогда сосульки обязательно споют  тебе свою удивительную ледяную песенк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700280" y="2124000"/>
            <a:ext cx="34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Новогодние стих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28640" y="2987640"/>
            <a:ext cx="341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похож на сказ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, Снегур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ут подарков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я, Света, Шур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праздник всем друзь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желаю 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обходят вас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ды и ненаст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сбудутся меч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ости жел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лошадка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не обижает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6:51:35Z</dcterms:created>
  <dc:creator>User</dc:creator>
  <dc:description/>
  <dc:language>en-US</dc:language>
  <cp:lastModifiedBy>Наталья</cp:lastModifiedBy>
  <dcterms:modified xsi:type="dcterms:W3CDTF">2014-11-23T18:23:06Z</dcterms:modified>
  <cp:revision>8</cp:revision>
  <dc:subject/>
  <dc:title>Слайд 1</dc:title>
</cp:coreProperties>
</file>