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631-762E-4E38-84D1-BF884DBB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BC7-B17D-46FC-8C5E-AB4CE249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E54-5BCE-4531-8D64-559C25CC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7BC-1A0A-46F5-9401-44D208FE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556-CD94-4720-88F0-94E33C01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335-BC23-4707-A5A1-27091B28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E68-0960-4E90-A728-BE1A8C0F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1DE-5778-4F75-A826-641132A8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592-794E-46D3-B891-D0ECE58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896-02BA-4AA2-8AD7-83DAC74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D29-25AF-49A8-92EB-FB951AEC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E366-8C19-48E0-8BFC-FFFB2335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9F0C-EC42-4578-B5FB-42ACBE6F5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0_7f560_988a0154_L"/>
          <p:cNvPicPr/>
          <p:nvPr/>
        </p:nvPicPr>
        <p:blipFill>
          <a:blip r:embed="rId2"/>
          <a:stretch/>
        </p:blipFill>
        <p:spPr>
          <a:xfrm>
            <a:off x="2492280" y="2987640"/>
            <a:ext cx="2158920" cy="1800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4"/>
          <p:cNvSpPr/>
          <p:nvPr/>
        </p:nvSpPr>
        <p:spPr>
          <a:xfrm>
            <a:off x="620640" y="1042920"/>
            <a:ext cx="58327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Муниципальное 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6600"/>
                </a:solidFill>
                <a:latin typeface="Georgia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Литературно - художественны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a50021"/>
                </a:solidFill>
                <a:latin typeface="Arial"/>
              </a:rPr>
              <a:t>журнал №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«Родничок»</a:t>
            </a:r>
            <a:r>
              <a:rPr b="1" i="1" lang="ru-RU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2013-2014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0_a5fc0_66a0ae77_L"/>
          <p:cNvPicPr/>
          <p:nvPr/>
        </p:nvPicPr>
        <p:blipFill>
          <a:blip r:embed="rId3"/>
          <a:stretch/>
        </p:blipFill>
        <p:spPr>
          <a:xfrm>
            <a:off x="0" y="0"/>
            <a:ext cx="7316640" cy="118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0_a5fc0_66a0ae77_L"/>
          <p:cNvPicPr/>
          <p:nvPr/>
        </p:nvPicPr>
        <p:blipFill>
          <a:blip r:embed="rId4"/>
          <a:stretch/>
        </p:blipFill>
        <p:spPr>
          <a:xfrm>
            <a:off x="0" y="7956720"/>
            <a:ext cx="73166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1773360" y="2197440"/>
            <a:ext cx="401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Новый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он наст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год его все жд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ет там и 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и тут все ставят е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все игол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ают мишур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ождем еще по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о всем при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негурочку привод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песенки по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разда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отличный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м скажу я не 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, с Новым год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овым годом вас друз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413000" y="149544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hristmas_texture2626"/>
          <p:cNvPicPr/>
          <p:nvPr/>
        </p:nvPicPr>
        <p:blipFill>
          <a:blip r:embed="rId2"/>
          <a:srcRect l="0" t="0" r="6945" b="0"/>
          <a:stretch/>
        </p:blipFill>
        <p:spPr>
          <a:xfrm>
            <a:off x="216000" y="21600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628640" y="1692360"/>
            <a:ext cx="43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праздник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к нам вновь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желанья, поздравл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го нарядим ёл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выучим, сти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мся ко вст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 себя не подв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ерём бал нового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рядные при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ле ёлочки наря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повед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– волшебный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ются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 ты, дружок, скор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у напи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заветные желан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няет в полч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нам, ребята, 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ерить в чудес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557360" y="2124000"/>
            <a:ext cx="3908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идёт на празд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встречайте поско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он кладёт под ёл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райте побыст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 конфеты, там игру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для маленьки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,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подкрался к нам у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какой проказн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друзья мои спеш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ку наряж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обожаю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485720" y="2268360"/>
            <a:ext cx="4178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лучший праздник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под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Ёлочка сияет множеством ог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веселиться, радоваться с не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тучит в окош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лошадка у порож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ы, шишки ёло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йный запах от иго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ришёл, у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маева Соф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557360" y="1547640"/>
            <a:ext cx="38876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Дед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жи, что нам принё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Я принёс вам ёлоч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шуры коробо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то, и всё? - воскликнул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праздник и друзь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ех друзей я со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ы зав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 подарком не спе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мся от душ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на праздник всех зов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снег, мороз и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ё ледянки, гор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хочу всем пожел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скорей встреч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557360" y="1774080"/>
            <a:ext cx="3959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раздник любят вс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волшеб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украсим миш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арядим ё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ку с гривой 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ыставим на по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приходит Дед Мо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у мы очень р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есёт подарков во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и наряд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м улыб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плохое уво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ее, праздник, прихо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1698120" y="1258920"/>
            <a:ext cx="379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дедушка пр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арки принес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странный этот де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шубу тёплую одет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даёт подарки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на этом белом св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забы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ню громко напев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подарить хлопушк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книжку и игруш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целый в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х, зима, зима,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кругом ты заме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еревья, и дом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ьдом закована р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ороз играет с 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плет уши, щиплет но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в дверь к нам постуч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ый Дедушка Моро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1404000" y="1629720"/>
            <a:ext cx="4725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!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импиаду нам несё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рались у нашей ё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лисманы  в 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яц, барс и медвежон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любят зимний спор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ют всем поб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лимпийский Новый го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добрый праздник наста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рослые и дети ждут чуд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, скоро Новый год пр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хо падает снежок с неб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еланья пусть исполнятся у вс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адежды сбудутся,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 бой часов звучит счастливый с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 счастливы всегда и я, и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1628640" y="1995480"/>
            <a:ext cx="3959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самого утра метель метет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ж сугробы белые на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ет праздник, празд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год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ый счастья, чуда, свет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мнате сияет золотая ё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ёт подарков дет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лночь Дед Мороз придё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шкам принес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-много счастья, рад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413000" y="1619280"/>
            <a:ext cx="426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шем доме выросла ёл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ует нас она каждой иго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ушки на ёлке блестят и сверк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имание всех она привле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и учить рядом с ней не 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сь на ёлочку и бере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 чудеса закружат вокруг ёлки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ро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Дедушкой Морозом к н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ит Новый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мы встречаем в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ёю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ндаринов мы съеда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лограммов д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коладок и конфет, пряни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чен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готовим для друзей 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лечен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361069-blackangel"/>
          <p:cNvPicPr/>
          <p:nvPr/>
        </p:nvPicPr>
        <p:blipFill>
          <a:blip r:embed="rId1"/>
          <a:srcRect l="6394" t="4341" r="41685" b="0"/>
          <a:stretch/>
        </p:blipFill>
        <p:spPr>
          <a:xfrm>
            <a:off x="0" y="0"/>
            <a:ext cx="7121520" cy="9144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4"/>
          <p:cNvSpPr txBox="1"/>
          <p:nvPr/>
        </p:nvSpPr>
        <p:spPr>
          <a:xfrm>
            <a:off x="836640" y="826920"/>
            <a:ext cx="5256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latin typeface="Monotype Corsiva"/>
              <a:ea typeface="Monotype Corsiva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125360" y="1763640"/>
            <a:ext cx="5256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Добрые сказки Нов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кузов Кирилл «Год Лошад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 «Сосуль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Times New Roman"/>
              </a:rPr>
              <a:t>Новогодние ст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исеенко Яна, Волков Витал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урнайкина Виктория, Данилова Миле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арин Сергей, Буянкина Юл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лмаеав Софья, Гилева Анастас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арев Тимур, Борисов Дани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ландина Дарья, Сенгаева Верони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яскина Мария, Тимонькина Ар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ракевич Артур,  Яковлев Евг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ов Максим, 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Новый Год в кафе «Александ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кевич Артур, Щемерова Дарь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6"/>
          <p:cNvSpPr txBox="1"/>
          <p:nvPr/>
        </p:nvSpPr>
        <p:spPr>
          <a:xfrm>
            <a:off x="1916280" y="395280"/>
            <a:ext cx="439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Новый Год 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Georgia"/>
              </a:rPr>
              <a:t>в кафе "Александра"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Georgia"/>
              <a:ea typeface="Georgia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557360" y="3203640"/>
            <a:ext cx="48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самых любимых праздников многих людей, Новый год, мы с классом ходили отмечать в кафе. Мне очень понравило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веселились, общались с одноклассниками и ели разные вкусности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ым особенным  и впечатляющим для меня стал салют в конце праздника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загадывали самые заветные желания. Я тоже загадал. И очень надеюсь, что оно обязательно сбуде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еквич Ар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4"/>
          <p:cNvPicPr/>
          <p:nvPr/>
        </p:nvPicPr>
        <p:blipFill>
          <a:blip r:embed="rId2"/>
          <a:srcRect l="0" t="0" r="20477" b="24093"/>
          <a:stretch/>
        </p:blipFill>
        <p:spPr>
          <a:xfrm rot="675600">
            <a:off x="1989000" y="611280"/>
            <a:ext cx="3878280" cy="2530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5"/>
          <p:cNvPicPr/>
          <p:nvPr/>
        </p:nvPicPr>
        <p:blipFill>
          <a:blip r:embed="rId3"/>
          <a:srcRect l="0" t="0" r="20477" b="21911"/>
          <a:stretch/>
        </p:blipFill>
        <p:spPr>
          <a:xfrm rot="21066000">
            <a:off x="1412640" y="2987640"/>
            <a:ext cx="387828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6"/>
          <p:cNvPicPr/>
          <p:nvPr/>
        </p:nvPicPr>
        <p:blipFill>
          <a:blip r:embed="rId4"/>
          <a:srcRect l="0" t="0" r="21747" b="24816"/>
          <a:stretch/>
        </p:blipFill>
        <p:spPr>
          <a:xfrm>
            <a:off x="1989000" y="5724360"/>
            <a:ext cx="381636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628640" y="1116000"/>
            <a:ext cx="4899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м классом на Новый год мы ходили в кафе. Было любопытно, что ждёт нас там?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с нетерпением ждал, когда же наступит двадцать седьмое декабря. Наконец, этот день наступ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ребятами вошли в кафе «Александра». Нас встретила украшенная ёлка и накрытые столы. Здесь были и фрукты, и салат, и любимое моё картофельное пюре с котле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атем начались конкурсы. Я участвовал в конкурсе, где измерялась сила руки. Я занял второе место! Ещё интересно было ходить над бутылками, пытаясь не уро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танцевали и ели мороженое. Было так  весело и интересно, что я не заметил, как пролетели три ча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ю праздника мы получили подарки от Деда Мороза и вышли на улицу. Собравшись вместе, мы запустили в небо фейерверк и радостные побежали по дом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ся этот де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700280" y="1258920"/>
            <a:ext cx="489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 классом никогда не ходили в кафе.  Новогодний праздник мы решили в первый раз отметить в каф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почему-то волновалась. Но когда я зашла в кафе, моё волнение улетуч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играли, танцевали, пели песни и водили хоровод. Нам было очень вес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елились не только мы, но и наши родители, и наша учительница Наталья Владимировна. Было очень здоро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 мы запускали фонарики и сал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го Нового года у меня никогда не было! Я его запомню на всю жизн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2"/>
          <p:cNvPicPr/>
          <p:nvPr/>
        </p:nvPicPr>
        <p:blipFill>
          <a:blip r:embed="rId2"/>
          <a:srcRect l="0" t="0" r="52964" b="22285"/>
          <a:stretch/>
        </p:blipFill>
        <p:spPr>
          <a:xfrm>
            <a:off x="1484280" y="5292720"/>
            <a:ext cx="2293920" cy="2220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3"/>
          <p:cNvPicPr/>
          <p:nvPr/>
        </p:nvPicPr>
        <p:blipFill>
          <a:blip r:embed="rId3"/>
          <a:srcRect l="0" t="0" r="51273" b="21895"/>
          <a:stretch/>
        </p:blipFill>
        <p:spPr>
          <a:xfrm>
            <a:off x="3860640" y="5940360"/>
            <a:ext cx="2376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557360" y="1835280"/>
            <a:ext cx="5024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Новый год мы с классом ходили в кафе «Александ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 я вошёл внутрь, мне показалось, что я попал в ночной Нью-Йорк. В кафе было очень красиво! В зале стояла наряженная ёлка и звучала музы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ик начался. Мы с ребятами угощались разными вкусностями, играли, участвовали в конкурсах, танцевали. В конце праздника каждый получил пода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ое интересное было после выхода из кафе. Мы с родителями и нашей учительницей любовались салютом,  пускали небесные фонарики и загадывали желания. Было так красиво! Все веселились и радовалис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е очень понравилось на нашем праздник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…………………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depositphotos_14895807-Christmas-Framтe-with-Red-Ribbon"/>
          <p:cNvPicPr/>
          <p:nvPr/>
        </p:nvPicPr>
        <p:blipFill>
          <a:blip r:embed="rId1"/>
          <a:stretch/>
        </p:blipFill>
        <p:spPr>
          <a:xfrm>
            <a:off x="0" y="0"/>
            <a:ext cx="683568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1916280" y="2268360"/>
            <a:ext cx="453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Всех детей и взрослых мы от души поздравляем с новым 2014 го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усть этот год будет светлым, добрым, счастливым и радостны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20640" y="611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765000" y="3348000"/>
            <a:ext cx="5329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Добрые сказки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Нового Го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pic>
        <p:nvPicPr>
          <p:cNvPr id="52" name="Picture 7" descr="0_7f560_988a0154_L"/>
          <p:cNvPicPr/>
          <p:nvPr/>
        </p:nvPicPr>
        <p:blipFill>
          <a:blip r:embed="rId2"/>
          <a:stretch/>
        </p:blipFill>
        <p:spPr>
          <a:xfrm>
            <a:off x="1700280" y="5219640"/>
            <a:ext cx="3552840" cy="2990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765000" y="1187280"/>
            <a:ext cx="54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се мы считаем главным праздником им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овый год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— с его ожиданием чудес и ве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 исполнение жел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огда за окном кружат снежинки, а все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твердят о подарках к новогодним праздника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лей-не­волей начинаешь ожидать волшебства и верить в сказку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0" y="2651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dmoroz"/>
          <p:cNvPicPr/>
          <p:nvPr/>
        </p:nvPicPr>
        <p:blipFill>
          <a:blip r:embed="rId2"/>
          <a:stretch/>
        </p:blipFill>
        <p:spPr>
          <a:xfrm>
            <a:off x="3716280" y="6084720"/>
            <a:ext cx="2835360" cy="2664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8"/>
          <p:cNvSpPr txBox="1"/>
          <p:nvPr/>
        </p:nvSpPr>
        <p:spPr>
          <a:xfrm>
            <a:off x="1773360" y="826920"/>
            <a:ext cx="3571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Сказ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Georgia"/>
              </a:rPr>
              <a:t>«Год Лошади»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Georgia"/>
              <a:ea typeface="Georgia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65000" y="2050920"/>
            <a:ext cx="55645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рилл Тукузов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с трудом брел по окраине леса. На плечах у него лежал тяжелый мешок с подар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к же так получилось?! – грустно размышлял Дед Мороз. - Все шло своим чередом. Большие расписные сани, тройка сытых отдохнувших оленей. И вот те раз! Одна остановка в мордовском лесу – и ни саней, ни оле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верное, волки, - предположил Дед Моро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л бы он, что в этом мордовском лесу,  давно не было ни зайцев, ни медведей, ни волков. Да и лес, когда-то дремучий, изрядно поре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друг к хрусту шаг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а, добавили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чьи-то шаг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лянувшись, Д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оз увидел небольш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енского муж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логрейке, валенка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пке-уша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620640" y="971640"/>
            <a:ext cx="57610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Эй, мил человек, - обратил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жичок к Дед Морозу, 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идал ли ты моего конь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устил я его, а он, вид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рел в глушь да и потеря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мехнулся Дед Мор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идно и твоего конька вол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ли. У меня-то трех оленей съ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а, знаю я этих «волков»! Браконьеры это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го не щадят. Приходят в лес и хозяйничают тут. Животных убивают, огромные деревья валят и вывозят тоннами. Скоро ничего не останется. А ведь лес испокон веков кормил и укрывал нас, жителей ближних дере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х, ты, безобразие какое! – возмутился Дед Мороз. - Что же вы не изловите этих браконьеров да не накажите их?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т уж мужичок усмехну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ам без власти их не одол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бывать этому! – заволновался Дед Мороз.-Вот, я их заморожу, в ледышек превращ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х, хо, хо, - вздохнул мужичок. Пытались мы на них управу найти. Да воз и ныне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не бы только какой-нибудь транспорт найти, да до города добраться. Уж я бы нашел виновных и наказал, как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59c408178553"/>
          <p:cNvPicPr/>
          <p:nvPr/>
        </p:nvPicPr>
        <p:blipFill>
          <a:blip r:embed="rId2"/>
          <a:stretch/>
        </p:blipFill>
        <p:spPr>
          <a:xfrm>
            <a:off x="4221000" y="971640"/>
            <a:ext cx="2403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now_texture1960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20640" y="900000"/>
            <a:ext cx="561672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Глянь-ка, дедушка, а вон мой конек беж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ежал к ним молодой резвый конь вороной масти. Ткнулся мордой хозяину в плечо,  рад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ижу я, устал ты, старик. Бери моего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зет он тебя до города. Может и правда удастся тебе наказать браконь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е забудь вернуть мне моего  верного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пасибо! Виновных накажу, - коня обязательно верну, - сказал Дед Мороз и двинулся в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стя час он уже въезжал в гор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х, и досталось тем, кто безобразничал в лесу!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аялись браконьеры и  пообещали охранять  лес и еще новый посади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ножко упокоивш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 решил наз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упающий год год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шади. Име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родного и ве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ого, которо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ную минуту не подвед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гда придет 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107454178_4"/>
          <p:cNvPicPr/>
          <p:nvPr/>
        </p:nvPicPr>
        <p:blipFill>
          <a:blip r:embed="rId2"/>
          <a:stretch/>
        </p:blipFill>
        <p:spPr>
          <a:xfrm>
            <a:off x="3789360" y="5003640"/>
            <a:ext cx="33177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20640" y="2050920"/>
            <a:ext cx="583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ксим Же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ко-далеко, на севере, среди вечной мерзлоты, стоит деревенька. Непростая деревенька. В ней живут сосульки. Да-да, сосульки. Именно те сосульки, которые появляются на крыше домов зимой и ранней весной в тёплый солнечный де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ут сосульки в ледяных домах, спят на ледяных постелях, пьют ледяной чай и едят ледяное мороженое. Днём сосульки собираются вместе, водят хороводы  и поют песню. Какая это удивительная песня! Словно тысячи маленьких колокольчиков звучат одновременно в воздухе и переливаются на разные голос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же эти сосульки попадают к нам на крышу, спросите в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Дедушка Мороз собирает сосульки в большой мешок и по ночам украшает ими крыши наших домов.  Как сказочно красив наш город, украшенный сосулькам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звенят на ветру, переливаются в лучах солнца и… плач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2"/>
          <p:cNvSpPr txBox="1"/>
          <p:nvPr/>
        </p:nvSpPr>
        <p:spPr>
          <a:xfrm>
            <a:off x="1773360" y="971640"/>
            <a:ext cx="338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Сказка 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Georgia"/>
              </a:rPr>
              <a:t>«Сосульки»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1622"/>
          <p:cNvPicPr/>
          <p:nvPr/>
        </p:nvPicPr>
        <p:blipFill>
          <a:blip r:embed="rId1"/>
          <a:srcRect l="46379" t="3857" r="3195" b="986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593640" y="2474280"/>
            <a:ext cx="5931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чут, потому что они скучают по своей деревне и по своим друзьям. Но с каждой новой слезинкой сосулька становится всё больше и больше. И вот маленькая сосулька превращается в огромный жезл, который так и норовит оторваться от крыши и разлететься на тысячи мелких оскол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ульки очень красивы, но опасны! Так что, ребята, не стоит стоять под крышами домов зимой и ранней весн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ше отойти подальше и просто любоваться этим неповторимым созданием природы! И тогда сосульки обязательно споют  тебе свою удивительную ледяную песенк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hristmas_texture2626"/>
          <p:cNvPicPr/>
          <p:nvPr/>
        </p:nvPicPr>
        <p:blipFill>
          <a:blip r:embed="rId1"/>
          <a:srcRect l="0" t="0" r="6945" b="0"/>
          <a:stretch/>
        </p:blipFill>
        <p:spPr>
          <a:xfrm>
            <a:off x="0" y="0"/>
            <a:ext cx="6858000" cy="919152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700280" y="2124000"/>
            <a:ext cx="345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Georgia"/>
              </a:rPr>
              <a:t>Новогодние стих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Georgia"/>
              <a:ea typeface="Georgia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628640" y="2987640"/>
            <a:ext cx="3413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***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Год похож на сказ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д Мороз, Снегуроч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дут подарков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я, Света, Шур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т праздник всем друзь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желаю сча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обходят вас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ды и ненасть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сбудутся мечт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ости жела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лошадка в Новый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с не обижает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5T06:51:35Z</dcterms:created>
  <dc:creator>User</dc:creator>
  <dc:description/>
  <dc:language>en-US</dc:language>
  <cp:lastModifiedBy>Наталья</cp:lastModifiedBy>
  <dcterms:modified xsi:type="dcterms:W3CDTF">2014-11-23T18:23:06Z</dcterms:modified>
  <cp:revision>8</cp:revision>
  <dc:subject/>
  <dc:title>Слайд 1</dc:title>
</cp:coreProperties>
</file>