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9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225C-8BFB-4884-8DD7-787314888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4D4A-65A1-4BD2-B120-35FC36BC09D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D5A-B524-46E6-AB1D-CA1E524F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F0D-07BB-41DC-A97C-6D6AB67C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F03-8F89-4CBD-86F7-C41F6E61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B36-8A14-480A-9625-8619EB9B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3AAE-64B1-4CA2-B038-73D0BAE5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2DFA-6CB9-4221-B977-F1EF55C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6EF6-59D3-4D56-A206-4905F042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A810-9554-4FC2-9EBC-8F824085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D51B-34E7-4EF1-9DAC-2568C280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8581-624D-4150-ACA0-459EF8CA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9381-C6BB-4E1E-A2C5-8CED678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7E0D-75EB-4D44-A5F3-0DCF61E0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975-448C-44F9-9B3E-FA36AAF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FBA3-35F7-4D68-A9AC-3C06AB82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BFE6-A615-4774-BB2B-730DCB7C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2F9-0D91-4E50-9127-A19D1CED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E16-50C2-4745-B07D-0A569A12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77D-200F-49E6-8192-C0F333A3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E4F-D387-416E-8E2B-5C840D9A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0DB-F546-453F-A8C4-2AF409F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CDE-2410-4F4B-9AF3-5D0C6C43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25C-0108-468E-AF91-D73E73E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9C7-3F26-4F9B-B5A5-D794D316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A0C-3F86-44AC-A342-F97D9F4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67F4-31E7-48FB-BAD3-B5F2FFCBD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图片 14" descr="{DF512866-3CB9-4A0D-A54D-82A1C76D83BE}.png"/>
          <p:cNvPicPr/>
          <p:nvPr/>
        </p:nvPicPr>
        <p:blipFill>
          <a:blip r:embed="rId3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8"/>
          <p:cNvSpPr/>
          <p:nvPr/>
        </p:nvSpPr>
        <p:spPr>
          <a:xfrm>
            <a:off x="6429240" y="357120"/>
            <a:ext cx="2286000" cy="164304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9"/>
          <p:cNvSpPr/>
          <p:nvPr/>
        </p:nvSpPr>
        <p:spPr>
          <a:xfrm>
            <a:off x="5357880" y="3857760"/>
            <a:ext cx="1428840" cy="108900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12" descr="sb_06.png"/>
          <p:cNvPicPr/>
          <p:nvPr/>
        </p:nvPicPr>
        <p:blipFill>
          <a:blip r:embed="rId2"/>
          <a:stretch/>
        </p:blipFill>
        <p:spPr>
          <a:xfrm>
            <a:off x="7572240" y="4929120"/>
            <a:ext cx="1144800" cy="150192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15" descr="未标题-1_13.png"/>
          <p:cNvPicPr/>
          <p:nvPr/>
        </p:nvPicPr>
        <p:blipFill>
          <a:blip r:embed="rId3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D7A-3CE2-4501-B0F6-EAD37F1A5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6" descr="返校1-1.png"/>
          <p:cNvPicPr/>
          <p:nvPr/>
        </p:nvPicPr>
        <p:blipFill>
          <a:blip r:embed="rId3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14" descr="{DF512866-3CB9-4A0D-A54D-82A1C76D83BE}.png"/>
          <p:cNvPicPr/>
          <p:nvPr/>
        </p:nvPicPr>
        <p:blipFill>
          <a:blip r:embed="rId3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90;&#1088;&#1086;&#1083;&#1100;%20&#1079;&#1072;%20&#1074;&#1099;&#1087;&#1086;&#1083;&#1085;&#1077;&#1085;&#1080;&#1077;&#1084;%20&#1096;&#1082;&#1086;&#1083;&#1100;&#1085;&#1080;&#1082;&#1086;&#1084;%20&#1076;&#1086;&#1084;&#1072;&#1096;&#1085;&#1080;&#1093;%20&#1079;&#1072;&#1076;&#1072;&#1085;&#1080;&#1081;.doc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57360" y="2420640"/>
            <a:ext cx="5786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а тему 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ие домашнего задания - залог успешной учёбы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063680" y="5297040"/>
            <a:ext cx="5057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9900"/>
              </a:solidFill>
              <a:latin typeface="Segoe Script"/>
            </a:endParaRPr>
          </a:p>
        </p:txBody>
      </p:sp>
      <p:pic>
        <p:nvPicPr>
          <p:cNvPr id="487" name="Прямоугольник 7" descr=""/>
          <p:cNvPicPr/>
          <p:nvPr/>
        </p:nvPicPr>
        <p:blipFill>
          <a:blip r:embed="rId1"/>
          <a:stretch/>
        </p:blipFill>
        <p:spPr>
          <a:xfrm>
            <a:off x="-33480" y="-291960"/>
            <a:ext cx="2919600" cy="3998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"/>
          <p:cNvPicPr/>
          <p:nvPr/>
        </p:nvPicPr>
        <p:blipFill>
          <a:blip r:embed="rId2"/>
          <a:stretch/>
        </p:blipFill>
        <p:spPr>
          <a:xfrm>
            <a:off x="5857920" y="0"/>
            <a:ext cx="2786040" cy="2617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8240"/>
            <a:ext cx="8753760" cy="46213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4" descr="34.jpg"/>
          <p:cNvPicPr/>
          <p:nvPr/>
        </p:nvPicPr>
        <p:blipFill>
          <a:blip r:embed="rId2"/>
          <a:stretch/>
        </p:blipFill>
        <p:spPr>
          <a:xfrm>
            <a:off x="0" y="100008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7"/>
          <p:cNvSpPr/>
          <p:nvPr/>
        </p:nvSpPr>
        <p:spPr>
          <a:xfrm>
            <a:off x="1500120" y="10152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ормирование исследовательских  умений ученика (сопоставление, сравнение, предположение, построение гипотезы и т.д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Рисунок 4" descr="34.jpg"/>
          <p:cNvPicPr/>
          <p:nvPr/>
        </p:nvPicPr>
        <p:blipFill>
          <a:blip r:embed="rId1"/>
          <a:stretch/>
        </p:blipFill>
        <p:spPr>
          <a:xfrm>
            <a:off x="0" y="2000160"/>
            <a:ext cx="283356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4"/>
          <p:cNvSpPr/>
          <p:nvPr/>
        </p:nvSpPr>
        <p:spPr>
          <a:xfrm>
            <a:off x="785880" y="42876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се эти проблемы решаемы, необходимо только внимание и терпение взрос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tretch/>
        </p:blipFill>
        <p:spPr>
          <a:xfrm>
            <a:off x="2643120" y="2357280"/>
            <a:ext cx="5370480" cy="293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Placeholder 5" descr="1111.jpg"/>
          <p:cNvPicPr/>
          <p:nvPr/>
        </p:nvPicPr>
        <p:blipFill>
          <a:blip r:embed="rId1"/>
          <a:stretch/>
        </p:blipFill>
        <p:spPr>
          <a:xfrm>
            <a:off x="122400" y="407880"/>
            <a:ext cx="8332560" cy="489600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4" descr="34.jpg"/>
          <p:cNvPicPr/>
          <p:nvPr/>
        </p:nvPicPr>
        <p:blipFill>
          <a:blip r:embed="rId2"/>
          <a:stretch/>
        </p:blipFill>
        <p:spPr>
          <a:xfrm>
            <a:off x="7072200" y="364320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285840" y="734400"/>
            <a:ext cx="8143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Чаще тренировать его память, внимание  и мышления используя для этого развивающие игры. Разгадывайте кроссворды, головоломки, ш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учайте ребенка к режиму дня, тем самым, развивая его 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омогайте ему стремиться совершенствовать свои способности не только в учебе, но и в других делах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828720"/>
            <a:ext cx="8996400" cy="3627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7"/>
          <p:cNvSpPr/>
          <p:nvPr/>
        </p:nvSpPr>
        <p:spPr>
          <a:xfrm>
            <a:off x="714240" y="1428840"/>
            <a:ext cx="707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 работу  качественно и в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0200" y="428760"/>
            <a:ext cx="6886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Как помочь ребенку в подготовке домашнего задания?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34" name="Рисунок 5" descr="12.jpg"/>
          <p:cNvPicPr/>
          <p:nvPr/>
        </p:nvPicPr>
        <p:blipFill>
          <a:blip r:embed="rId2"/>
          <a:stretch/>
        </p:blipFill>
        <p:spPr>
          <a:xfrm>
            <a:off x="6786720" y="2643120"/>
            <a:ext cx="1595160" cy="33577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6" descr="61.jpg"/>
          <p:cNvPicPr/>
          <p:nvPr/>
        </p:nvPicPr>
        <p:blipFill>
          <a:blip r:embed="rId3"/>
          <a:stretch/>
        </p:blipFill>
        <p:spPr>
          <a:xfrm>
            <a:off x="3429000" y="2714760"/>
            <a:ext cx="2709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одолжительность подготовки домашних заданий, предусмотренная Уставом школы (в скобках указана оптимальная продолжительность с учетом психофизиологии возраста)</a:t>
            </a: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434960" y="2714760"/>
            <a:ext cx="74995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в 7 классе - </a:t>
            </a:r>
            <a:r>
              <a:rPr b="0" lang="ru-RU" sz="3200" spc="-1" strike="noStrike">
                <a:solidFill>
                  <a:srgbClr val="ff0000"/>
                </a:solidFill>
                <a:latin typeface="Segoe"/>
              </a:rPr>
              <a:t>до 2,5 часов 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"/>
              </a:rPr>
              <a:t>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Segoe"/>
              </a:rPr>
              <a:t>(2-2,5 часа); 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             </a:t>
            </a: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в 8 классе - 3 часа 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(2,5  часа);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в 9-11 классах - до 4 часов 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(3 часа). 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8680" cy="1305000"/>
          </a:xfrm>
          <a:prstGeom prst="rect">
            <a:avLst/>
          </a:prstGeom>
          <a:ln w="0">
            <a:noFill/>
          </a:ln>
        </p:spPr>
      </p:pic>
      <p:pic>
        <p:nvPicPr>
          <p:cNvPr id="539" name="Содержимое 2" descr=""/>
          <p:cNvPicPr/>
          <p:nvPr/>
        </p:nvPicPr>
        <p:blipFill>
          <a:blip r:embed="rId2"/>
          <a:stretch/>
        </p:blipFill>
        <p:spPr>
          <a:xfrm>
            <a:off x="334800" y="1200240"/>
            <a:ext cx="8607600" cy="464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0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  <a:ea typeface="SimSun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  <a:ea typeface="SimSun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Rectangle 3" descr=""/>
          <p:cNvPicPr/>
          <p:nvPr/>
        </p:nvPicPr>
        <p:blipFill>
          <a:blip r:embed="rId1"/>
          <a:stretch/>
        </p:blipFill>
        <p:spPr>
          <a:xfrm>
            <a:off x="23760" y="444600"/>
            <a:ext cx="9083880" cy="520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186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Рекомендации родителям по подготовке домашних заданий ребёнком: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147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egoe"/>
              </a:rPr>
              <a:t>Особую важность имеет строго установленное время начала занятий.</a:t>
            </a: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egoe"/>
              </a:rPr>
              <a:t>Необходимо постоянное место для занятий, где все необходимые предметы находятся под рукой.</a:t>
            </a: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egoe"/>
              </a:rPr>
              <a:t>Важное правило – начинать работу немедленно.</a:t>
            </a: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egoe"/>
              </a:rPr>
              <a:t>Наличие перерывов в работе.</a:t>
            </a: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egoe"/>
              </a:rPr>
              <a:t>У школьника должны быть другие обязанности.</a:t>
            </a: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egoe"/>
              </a:rPr>
              <a:t>Приучение ребёнка к правильному режиму должно сочетаться с вашей самодисциплиной, уважением к ребёнку, доброжелательностью, заинтересованностью, разумной требовательностью.</a:t>
            </a: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071720" y="428400"/>
            <a:ext cx="4643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  <a:ea typeface="SimSun"/>
            </a:endParaRPr>
          </a:p>
        </p:txBody>
      </p:sp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566640" y="-96840"/>
            <a:ext cx="8242560" cy="80316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3" descr=""/>
          <p:cNvPicPr/>
          <p:nvPr/>
        </p:nvPicPr>
        <p:blipFill>
          <a:blip r:embed="rId2"/>
          <a:stretch/>
        </p:blipFill>
        <p:spPr>
          <a:xfrm>
            <a:off x="328680" y="523800"/>
            <a:ext cx="8334360" cy="5877000"/>
          </a:xfrm>
          <a:prstGeom prst="rect">
            <a:avLst/>
          </a:prstGeom>
          <a:ln w="0">
            <a:noFill/>
          </a:ln>
        </p:spPr>
      </p:pic>
      <p:pic>
        <p:nvPicPr>
          <p:cNvPr id="547" name="13. А. ПЕТРОВ - ТАНЕЦ ВОСПОМИНАНИЙ 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353880"/>
            <a:ext cx="8747280" cy="53643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"/>
          <p:cNvSpPr/>
          <p:nvPr/>
        </p:nvSpPr>
        <p:spPr>
          <a:xfrm>
            <a:off x="357120" y="360"/>
            <a:ext cx="8429760" cy="57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Segoe"/>
              </a:rPr>
              <a:t>Занятия в школе могут только вдолбить в ребенка все прави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egoe"/>
              </a:rPr>
              <a:t>добытые чужим понимание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egoe"/>
              </a:rPr>
              <a:t>но способность правильно пользоваться 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egoe"/>
              </a:rPr>
              <a:t>разовьет только домашний самостоятельный тр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Segoe"/>
              </a:rPr>
              <a:t>Иммануил Кан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071720" y="428400"/>
            <a:ext cx="4643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  <a:ea typeface="SimSu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Оцените результаты, поставив себе: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-  2 балла за ответы № 1, 4, 6, 7, 9, 10, 1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- 1 балл за все осталь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7 – 8 баллов. Живете душа в душу. Ребенок любит и уважает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9 – 10 баллов. Вы непоследовательны в общении. Ребенок вас уважает, но не всегда открове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11 – 12 баллов. Необходимо быть к ребенку повнимательнее. Авторитет не заменяет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13 – 14 баллов. Идете по неверному пути. Существует недоверие между вами и ребенком. Уделяйте ему больше времени, уважайте его, прислушивайтесь к его м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8680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 собрания: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Показать  родителям значение учебной домашней  работы школьника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Обсудить проблемы подготовки домашних заданий учащимися класса, определить  возможные пути  решения  данной проблемы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Предложить  родителям рекомендации по контролю выполнения домашних заданий школьником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4.Дать рекомендации родителям по организации самообразования школьни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Д.И Писарев</a:t>
            </a: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96" name="Picture Placeholder 5" descr="111111.jpg"/>
          <p:cNvPicPr/>
          <p:nvPr/>
        </p:nvPicPr>
        <p:blipFill>
          <a:blip r:embed="rId1"/>
          <a:stretch/>
        </p:blipFill>
        <p:spPr>
          <a:xfrm>
            <a:off x="-219240" y="974880"/>
            <a:ext cx="9582480" cy="383508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4" descr="34.jpg"/>
          <p:cNvPicPr/>
          <p:nvPr/>
        </p:nvPicPr>
        <p:blipFill>
          <a:blip r:embed="rId2"/>
          <a:stretch/>
        </p:blipFill>
        <p:spPr>
          <a:xfrm>
            <a:off x="357120" y="-1000080"/>
            <a:ext cx="2214720" cy="327348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7"/>
          <p:cNvSpPr/>
          <p:nvPr/>
        </p:nvSpPr>
        <p:spPr>
          <a:xfrm>
            <a:off x="0" y="2009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составляется из мелких крупинок ежедневного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Placeholder 3" descr="111111.jpg"/>
          <p:cNvPicPr/>
          <p:nvPr/>
        </p:nvPicPr>
        <p:blipFill>
          <a:blip r:embed="rId1"/>
          <a:stretch/>
        </p:blipFill>
        <p:spPr>
          <a:xfrm>
            <a:off x="285840" y="857160"/>
            <a:ext cx="885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2" name="Рисунок 4" descr="34.jpg"/>
          <p:cNvPicPr/>
          <p:nvPr/>
        </p:nvPicPr>
        <p:blipFill>
          <a:blip r:embed="rId2"/>
          <a:stretch/>
        </p:blipFill>
        <p:spPr>
          <a:xfrm>
            <a:off x="0" y="2000160"/>
            <a:ext cx="2552760" cy="37735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 flipV="1" rot="10800000">
            <a:off x="571680" y="119772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наши дети хотят быть людьми, в самом деле, образованными, они должны приобретать образование самостоятельными занят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6"/>
          <p:cNvSpPr/>
          <p:nvPr/>
        </p:nvSpPr>
        <p:spPr>
          <a:xfrm>
            <a:off x="2643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Arial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69328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Placeholder 6" descr="111111.jpg"/>
          <p:cNvPicPr/>
          <p:nvPr/>
        </p:nvPicPr>
        <p:blipFill>
          <a:blip r:embed="rId1"/>
          <a:stretch/>
        </p:blipFill>
        <p:spPr>
          <a:xfrm>
            <a:off x="291960" y="512640"/>
            <a:ext cx="7632720" cy="967896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-429120" y="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08" name="Рисунок 13" descr="106.png"/>
          <p:cNvPicPr/>
          <p:nvPr/>
        </p:nvPicPr>
        <p:blipFill>
          <a:blip r:embed="rId2"/>
          <a:stretch/>
        </p:blipFill>
        <p:spPr>
          <a:xfrm>
            <a:off x="7786800" y="3643200"/>
            <a:ext cx="1643040" cy="17146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"/>
          <p:cNvSpPr/>
          <p:nvPr/>
        </p:nvSpPr>
        <p:spPr>
          <a:xfrm>
            <a:off x="642960" y="6634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Times New Roman"/>
              </a:rPr>
              <a:t>«Фактически постепенно должна стираться грань между классными, домашними заданиями с переходом к непрерывной, индивидуальной самостоятельной учебной деятельности школьни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57320" y="2130120"/>
            <a:ext cx="56005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285720" y="3571560"/>
            <a:ext cx="46292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Segoe Script"/>
            </a:endParaRPr>
          </a:p>
        </p:txBody>
      </p:sp>
      <p:pic>
        <p:nvPicPr>
          <p:cNvPr id="512" name="Picture Placeholder 2" descr="111111.jpg"/>
          <p:cNvPicPr/>
          <p:nvPr/>
        </p:nvPicPr>
        <p:blipFill>
          <a:blip r:embed="rId1"/>
          <a:stretch/>
        </p:blipFill>
        <p:spPr>
          <a:xfrm>
            <a:off x="2646360" y="384120"/>
            <a:ext cx="6607080" cy="35355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"/>
          <p:cNvSpPr/>
          <p:nvPr/>
        </p:nvSpPr>
        <p:spPr>
          <a:xfrm>
            <a:off x="2571840" y="10054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  <a:ea typeface="Calibri"/>
              </a:rPr>
              <a:t>Назначение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7" descr="14.jpg"/>
          <p:cNvPicPr/>
          <p:nvPr/>
        </p:nvPicPr>
        <p:blipFill>
          <a:blip r:embed="rId2"/>
          <a:srcRect l="9788" t="0" r="0" b="18157"/>
          <a:stretch/>
        </p:blipFill>
        <p:spPr>
          <a:xfrm rot="20953200">
            <a:off x="412920" y="487440"/>
            <a:ext cx="1527120" cy="150336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3" descr="6.jpg"/>
          <p:cNvPicPr/>
          <p:nvPr/>
        </p:nvPicPr>
        <p:blipFill>
          <a:blip r:embed="rId3"/>
          <a:stretch/>
        </p:blipFill>
        <p:spPr>
          <a:xfrm>
            <a:off x="4714920" y="2571840"/>
            <a:ext cx="383220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835200"/>
            <a:ext cx="8753760" cy="46209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4" descr="34.jpg"/>
          <p:cNvPicPr/>
          <p:nvPr/>
        </p:nvPicPr>
        <p:blipFill>
          <a:blip r:embed="rId2"/>
          <a:stretch/>
        </p:blipFill>
        <p:spPr>
          <a:xfrm>
            <a:off x="0" y="-107172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7"/>
          <p:cNvSpPr/>
          <p:nvPr/>
        </p:nvSpPr>
        <p:spPr>
          <a:xfrm>
            <a:off x="1785960" y="135864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Формирование умения добывать  необходимую информацию из различных  справочников, пособий, слов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9:53:55Z</dcterms:created>
  <dc:creator>Юлия Николаевна</dc:creator>
  <dc:description>Корпорация Майкрософт</dc:description>
  <cp:keywords>Фотоальбом</cp:keywords>
  <dc:language>en-US</dc:language>
  <cp:lastModifiedBy>Александр</cp:lastModifiedBy>
  <dcterms:modified xsi:type="dcterms:W3CDTF">2014-11-23T11:32:44Z</dcterms:modified>
  <cp:revision>101</cp:revision>
  <dc:subject>Фотоальбом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