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gif" ContentType="image/gi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2DE60-C166-4C4E-AD7A-069595414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283E5-E322-442B-8567-41EC9C48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D0639-AC23-4D03-8EE0-30683FB85E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E10F-973C-48FC-8D05-E09F45D226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37FB6-325D-4B0A-9E22-956652A035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AAB26-8E55-41CC-BE2D-818A4A60D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1D566-2214-4CED-947C-6DD9B1D7C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DC5E-A932-4D7A-9B97-78E243E94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2CB0D-CBAE-4ED4-9006-94965AE79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54B4-7073-4C28-9262-62633911E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9B0BC-2944-4EC9-9787-3F94BB508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4BE6F-4390-4C2E-B23E-5365E54E5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67DC3-FDFB-4E7C-A4B2-E061D47EA83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1970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5 класс  1 четверть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2195640" y="24919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f7f7f"/>
                </a:solidFill>
                <a:latin typeface="Times New Roman"/>
                <a:ea typeface="Times New Roman"/>
              </a:rPr>
              <a:t>тесты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684360" y="2060280"/>
            <a:ext cx="799128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5. Что является эпиграфом к произведениям фортепианного цикла «Времена года» П. И. Чайковского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картины русских живописц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строки из стихотворений русских поэт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комментарии об исполнении данного произведе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324000" y="1988640"/>
            <a:ext cx="8424720" cy="669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6. Кому принадлежат следующие строки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«В минуту жизни труд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Теснится ль в сердце грусть,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Одну молитву чудну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Твержу я наизусть…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. Ю. Лермонто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А. С. Пушкин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Ф. И. Тютчев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394920" y="1989000"/>
            <a:ext cx="849780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7. Кто написал музыку к песне «Маленький принц»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. И. Глинк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. Таривердие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Е. Крылатов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8. К первым литературным источникам, которые  дали  жизнь значительной части музыкального наследия, относятся…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ифы и легенды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тексты священных писаний: Библия и Евангелие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сказки, предания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611280" y="2060640"/>
            <a:ext cx="7921440" cy="364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2532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9. Как звали греческого бога -покровителя искусств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99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Зев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99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Аполлон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100000"/>
              </a:lnSpc>
              <a:spcBef>
                <a:spcPts val="799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Герме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62532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2843280" y="1397160"/>
          <a:ext cx="4776840" cy="4359240"/>
        </p:xfrm>
        <a:graphic>
          <a:graphicData uri="http://schemas.openxmlformats.org/drawingml/2006/table">
            <a:tbl>
              <a:tblPr/>
              <a:tblGrid>
                <a:gridCol w="2388960"/>
                <a:gridCol w="2387880"/>
              </a:tblGrid>
              <a:tr h="4359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2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3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4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5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6 b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7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8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9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0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1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3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4 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5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6 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7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8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9 b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Прямоугольник 3"/>
          <p:cNvSpPr/>
          <p:nvPr/>
        </p:nvSpPr>
        <p:spPr>
          <a:xfrm>
            <a:off x="468360" y="2133720"/>
            <a:ext cx="84247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67202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Кому принадлежит следующее высказывание: «слова иногда нуждаются в музыке, но музыка не нуждается  ни в чём»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А. де Сент-Экзюпер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Э. Григ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И. Гердер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116000" y="2060280"/>
            <a:ext cx="6400800" cy="38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2. Музыка – это искусство…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звук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красок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сло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3. Кто написал сказку «Соловей»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 </a:t>
            </a: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Г. Х. Андерсен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Братья Гримм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51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К. Чуковский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2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26560" y="1773000"/>
            <a:ext cx="7813800" cy="4724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4. К миру искусства принадлежат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живопись, литература, математи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узыка, литература, живопис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литература, музыка, природ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5. Учебное заведение, предназначенное для получения музыкального образования, - …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галере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консерватор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оперный театр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39640" y="2060640"/>
            <a:ext cx="81360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6. Кто написал картину «Опавшие листья»?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И. Левит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И. Брод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И. Айваз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7. Кто написал стихотворение «Я помню чудное мгновение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. И. Гли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Н. Рубцо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А. С. Пушки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394920" y="2133360"/>
            <a:ext cx="8497800" cy="439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65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8. Кто написал фортепианный цикл «Времена года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П. И. Чайков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Р. Шум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. И. Глинк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9. Кто считал, что все люди делятся на музыкантов и не музыкантов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Э. Гофма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Э. Григ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-36504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. П. Мусоргски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6504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95280" y="1915920"/>
            <a:ext cx="8424720" cy="439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253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0. Каким певческим голосом обладал Фёдор Иванович Шаляпин: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80000"/>
              </a:lnSpc>
              <a:spcBef>
                <a:spcPts val="726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баритон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80000"/>
              </a:lnSpc>
              <a:spcBef>
                <a:spcPts val="726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тенор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80000"/>
              </a:lnSpc>
              <a:spcBef>
                <a:spcPts val="726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бас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25320" indent="0">
              <a:lnSpc>
                <a:spcPct val="8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1. Кому принадлежат следующие слова: «Всё, что звучит в природе и есть музыка»?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80000"/>
              </a:lnSpc>
              <a:spcBef>
                <a:spcPts val="726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И. Гердер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80000"/>
              </a:lnSpc>
              <a:spcBef>
                <a:spcPts val="726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А. де Сент-Экзюпери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25320" indent="-625320">
              <a:lnSpc>
                <a:spcPct val="80000"/>
              </a:lnSpc>
              <a:spcBef>
                <a:spcPts val="726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Э. Григу</a:t>
            </a:r>
            <a:endParaRPr b="0" lang="en-US" sz="2900" spc="-1" strike="noStrike">
              <a:solidFill>
                <a:srgbClr val="000000"/>
              </a:solidFill>
              <a:latin typeface="Calibri"/>
            </a:endParaRPr>
          </a:p>
          <a:p>
            <a:pPr marL="62532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2532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marL="625320" indent="0" algn="ctr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394920" y="1915920"/>
            <a:ext cx="849780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2. Что в стихотворении  С. Я. Маршака «Гвоздь и подкова» явилось первопричиной, вызывающей цепь всех последующих бед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подков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лошад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гвозд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3. Кто написал сказку «Маленький принц»?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Братья Грим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А. де Сент-Экзюпе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8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Г. Х. Андерсе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1857240"/>
          </a:xfrm>
          <a:prstGeom prst="rect">
            <a:avLst/>
          </a:prstGeom>
          <a:blipFill rotWithShape="0">
            <a:blip r:embed="rId1"/>
            <a:stretch/>
          </a:blip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24000" y="2060280"/>
            <a:ext cx="8424720" cy="35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14. Кому  принадлежат следующие слова: «Чего ради нам ненавидеть друг друга? Мы все заодно, уносимые одной и той же планетой, мы команда одного корабля»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М. Таривердиев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А. Н. Толстой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-533520">
              <a:lnSpc>
                <a:spcPct val="100000"/>
              </a:lnSpc>
              <a:spcBef>
                <a:spcPts val="700"/>
              </a:spcBef>
              <a:buClr>
                <a:srgbClr val="672020"/>
              </a:buClr>
              <a:buFont typeface="Times New Roman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А. де Сент-Экзюпер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53352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72020"/>
                </a:solidFill>
                <a:latin typeface="Times New Roman"/>
                <a:ea typeface="Times New Roman"/>
              </a:rPr>
              <a:t> 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ё</dc:creator>
  <dc:description/>
  <dc:language>en-US</dc:language>
  <cp:lastModifiedBy>ё</cp:lastModifiedBy>
  <dcterms:modified xsi:type="dcterms:W3CDTF">2013-10-24T18:12:38Z</dcterms:modified>
  <cp:revision>11</cp:revision>
  <dc:subject/>
  <dc:title>Слайд 1</dc:title>
</cp:coreProperties>
</file>