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76252-F7A5-4B84-B111-9EDCFD8CA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0441-B0D6-4B97-A3E5-85494DFD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2247-BE40-47A9-AD7E-4D97D6810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4A7-1EA3-4ECA-B553-A9E59C5B8A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B7D2-4370-4C8E-992E-A0335245D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63A-4D96-4C66-BC5A-BDE9AFD7C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0595-370E-402E-B08F-E7DE26547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986-1D48-4AD3-A427-E72FFAFBD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B28-0D1D-4B2F-80A6-E2B736586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63A1-23C5-4119-BECE-A76A695D1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B63E-6FC6-4E58-B213-50AF494A9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9025-3DDD-44BF-ABE3-8D767617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CACFE-CE23-440C-B4C6-2DF84A651E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5 класс  1 четвер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5. Что является эпиграфом к произведениям фортепианного цикла «Времена года» П. И. Чайковско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артины русских живопис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троки из стихотворений русских поэ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мментарии об исполнении данного произ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6. Кому принадлежат следующие стро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«В минуту жизни тр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снится ль в сердце гру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дну молитву ч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вержу я наизуст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Ю. Лермонто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С. Пушк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Ф. И. Тютче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9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7. Кто написал музыку к песне «Маленький принц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Тариверди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Е. Крыл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8. К первым литературным источникам, которые  дали  жизнь значительной части музыкального наследия, относят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ифы и леген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ксты священных писаний: Библия и Евангел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казки, пре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11280" y="2060640"/>
            <a:ext cx="79214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9. Как звали греческого бога -покровителя искус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е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по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ерм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3280" y="1397160"/>
          <a:ext cx="4776840" cy="4359240"/>
        </p:xfrm>
        <a:graphic>
          <a:graphicData uri="http://schemas.openxmlformats.org/drawingml/2006/table">
            <a:tbl>
              <a:tblPr/>
              <a:tblGrid>
                <a:gridCol w="2388960"/>
                <a:gridCol w="2387880"/>
              </a:tblGrid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68360" y="213372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му принадлежит следующее высказывание: «слова иногда нуждаются в музыке, но музыка не нуждается  ни в чё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Герд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6000" y="206028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2. Музыка – это искусство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ву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рас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3. Кто написал сказку «Соловей»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. Х. Андерс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. Чуковс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1773000"/>
            <a:ext cx="78138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4. К миру искусства принадле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живопись, литература, мате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узыка, литература, живоп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литература, музыка, при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5. Учебное заведение, предназначенное для получения музыкального образования, -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алер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нсервато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перный теат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6. Кто написал картину «Опавшие листь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Леви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Брод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Айваз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7. Кто написал стихотворение «Я помню чудное мгновение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Н. Рубц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С. Пушк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8497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8. Кто написал фортепианный цикл «Времена года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П. И. Чай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Р. Шум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9. Кто считал, что все люди делятся на музыкантов и не музыка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офм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П. Мусорг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253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0. Каким певческим голосом обладал Фёдор Иванович Шаляпин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арит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н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а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1. Кому принадлежат следующие слова: «Всё, что звучит в природе и есть музыка»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Гердер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191592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2. Что в стихотворении  С. Я. Маршака «Гвоздь и подкова» явилось первопричиной, вызывающей цепь всех последующих бе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под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3. Кто написал сказку «Маленький принц»?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ратья Гри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. Х. Андерс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4247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4. Кому  принадлежат следующие слова: «Чего ради нам ненавидеть друг друга? Мы все заодно, уносимые одной и той же планетой, мы команда одного корабля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Тариверди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Н. Толс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ё</dc:creator>
  <dc:description/>
  <dc:language>en-US</dc:language>
  <cp:lastModifiedBy>ё</cp:lastModifiedBy>
  <dcterms:modified xsi:type="dcterms:W3CDTF">2013-10-24T18:12:38Z</dcterms:modified>
  <cp:revision>11</cp:revision>
  <dc:subject/>
  <dc:title>Слайд 1</dc:title>
</cp:coreProperties>
</file>