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10A4-AE03-44CF-B1B0-4178C5956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62C-20E2-4458-A237-AEDEFE5F1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346-721E-41D5-8937-31B6118389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DD4-8270-4F8A-AD89-78A93AC0C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90D-139A-4084-A865-AE906901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75A-492D-4627-A96E-DB8A9AA3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967-DEA6-4DFB-80E1-7732D718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B4E-1869-476E-A948-5702053A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D321-DD4E-4E58-8000-B9590743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01D0-DACC-4A3B-8467-7862F4A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44B1-2516-4FC0-BD99-BBE6C925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26BC-F7ED-48E6-B816-BCE86515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34EE-E747-4024-B1D6-2EEB0B24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C2A1-D4E2-42C1-866C-AD5BBEEA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F23-262F-4303-83BD-A0F0526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1B0-455B-482D-94F4-26CCD4B7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199E-4B3A-4452-98F4-096D287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A97-0B47-4026-8D12-B12DD8C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030C-5A82-4E13-9F99-E29ACEA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6008-A78D-449E-9703-B70BDDEF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B02A-C4B5-41B6-8110-5D8A7715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2A57-E3A7-4D77-BEEA-DBBCA876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5DBF-BF69-4150-8054-6E3C669A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39F2-7B71-41A7-AA92-9162123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4512-3B0A-4C71-BCF3-26689EB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3D18-11B6-4CFA-87FC-9303055E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EBF-CB54-47C0-9B48-97C04860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3C0EB-BC2C-4158-B4BE-3F4A2FD3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AAD9-23A4-460D-84D4-8DEC854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CC73-EC93-4EEB-9968-630DDE6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DE7B-9B22-4DAB-B630-D988081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CE0D-599C-4C16-BC9E-9B82F5DB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7FB7-75A3-4BEF-8B17-D9B71ED1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A853-8EA3-49DF-ABE0-6DD8AD8F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2425-1513-4FE4-B3C7-AAC2508C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73A4-D4C4-44AC-8C89-829BFC7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47603-9578-47AE-901C-CCB1162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32E-D8D6-4983-8679-96AF8A96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0A17-88D3-4B48-9AC9-708608C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AC94-2250-40A0-B2FD-A7FAA58D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AC26-FB61-48A5-848F-00B18C7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931F-5FD1-4B76-AB57-5DFED95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2AF74-864F-4DE3-9D77-8F9F148B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9080-0F7E-4301-95C2-0899E9C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1A16-0D88-4C0C-9B5B-F95B190F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29E5-7160-4DB1-A4C4-8958A6C0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A1993-F806-4CE0-812D-619CD2FF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8CF9-DBCD-4233-A46C-9254366A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27B-A376-4A9E-9DE2-3FC733B4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4DB3C-F505-4FAC-8925-505AAF07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862B-72DC-46A8-9977-695941E4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A22E-2EB1-4297-BEDF-3F6401A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686C6-21C5-4FC6-A074-566BF3D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816AF-9156-42B2-96B6-54CEF7BB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FDCD0-F90E-4E98-87D5-7FE4481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923B-DC2B-4188-A413-E67EDCD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65186-ADD7-42F8-897F-DF58C38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82AB-2019-429B-826A-FEAEF8FB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55E8-5247-451A-983F-DED1648D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F86-7FBD-48FC-A31D-8FE4BA7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81AC-C703-4288-B0F0-8EAAC17C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4C1-DDCA-48AE-98F1-6484756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29D-6F19-43EA-8AD6-FAA567F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5AD-2DC7-4DE8-A531-9DF88B4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5C24-E216-413B-B8A1-005CF12D21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A69C-A59D-4E8A-8D81-E256C76E19D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9235-D8F2-4DA1-B9B7-39A175BF07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0E7B-BA8E-4CD7-AAE3-09E848DD0F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521-F24E-4B13-8F4E-1E4B09EAF8C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Мои успехи и успехи обучающихся</a:t>
            </a:r>
            <a:r>
              <a:rPr b="0" lang="ru-RU" sz="2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5639040" cy="624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а базу компьютерных презентаций по развитию речи, математике, окружающему миру  для 1 и 2 классов. Имею свой сайт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Социальная сеть работников образования nsportal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сылка на мой сайт: Мой &lt;a href = "http://nsportal.ru/perevedenceva-mariya-viktorovna" &gt; Сайт учителя начальных классов. 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икации в социальной сети работников образования статьи" Уроки музыки в рамках введения ФГОС" (21.05.2013) Благодарность за активное участие в работе социальной сети работников образования 2013г. Сертификат о создании сайта в социальной сети работников образования 2013г. Сертификат о размещении электронного портфолио в социальной сети работников образования 2013г. Свидетельство о публикации в социальной сети работников образования 2013г. видеоматериала: Первый раз-в первый класс! (17.06.2013). Свидетельство о публикации в социальной сети работников образования 2013г презентации на тему "Организация  здоровьесберегающей среды в условиях сельской школы в рамках ФГОС"(04.06.2013).Имею грамоты: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РБ,  2006 год; Почетная грамота  Администрации муниципального района Благовещенский район РБ , 2011г.; Благодарственные письма    ОО МР Благовещенский район РБ  (2010г, 2011г.,2012г.);   Благодарственное письмо от учебно-методического объединения вузов РФ, 2013г.; Благодарственное письмо за  подготовку  призёра во Всероссийском  Турнире  по музыке «Gloria musica», 2012г.; Диплом МКУ Управление образования  муниципального района благовещенский район РБ за участие в районной конференции "Новые образовательные стандарты», 2013год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обучающиеся ежегодно принимают активное участие в различных мероприятиях и занимают призовые места: Международный Турнир первоклассников, 2013г., Пенкин Д. (1 кл.) – лауреат, Ябаева  М. (1 кл.) – гран-при; Международный конкурс "Золотое руно", 2011г.,  Какиев К.(4 кл.) – победитель в школе; Всероссийский турнир по музыке "GLORIA MUSICA " , 2012г. Салиева В.( 3 кл.) - призёр;  Всероссийский  конкурс «Эрудит», 2012г.-  Зинатуллин И,  Васимов А., Какиев К,  Кулешов К (4класс)- Гран-при; Всероссийский  Конкурс-игра по естествознанию «Человек и природа-2013г»,  Якимов М.(1 кл. )  1 место по школе, Пенкин. Д (1кл.)- 2 место по школе;  Всероссийская викторина  «Эрудит -2013»,  Якимов М. (1кл.)-13 место  по   Всероссийскому  рейтингу и 12 место  по региональному рейтингу; районный конкурс – фестиваль юных дарований « Весенние капели-2012г», Какиев К. (4 кл.) – победитель  в номинации «Творческая мастерская»; Районный тур  республиканского конкурса сочинений, посвященных Дню Республики и году укрепления межнационального согласия в РБ «Пою мою республику»,  2011г., и т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одержимое 17" descr="Изображение 225.jpg"/>
          <p:cNvPicPr/>
          <p:nvPr/>
        </p:nvPicPr>
        <p:blipFill>
          <a:blip r:embed="rId2"/>
          <a:stretch/>
        </p:blipFill>
        <p:spPr>
          <a:xfrm>
            <a:off x="4454640" y="167652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38088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6095880" y="304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Выступление в ГДК на праздновании Дня Уч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90720" y="1522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 районных конкурсах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39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28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 u="sng">
                <a:solidFill>
                  <a:srgbClr val="ff0000"/>
                </a:solidFill>
                <a:uFillTx/>
                <a:latin typeface="Constantia"/>
              </a:rPr>
              <a:t>Первое  место </a:t>
            </a:r>
            <a:r>
              <a:rPr b="1" lang="ru-RU" sz="500" spc="-1" strike="noStrike">
                <a:solidFill>
                  <a:srgbClr val="04617b"/>
                </a:solidFill>
                <a:latin typeface="Constantia"/>
              </a:rPr>
              <a:t>в районном конкурсе «Звонкие голоса-2010»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Благодарственное письмо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Содержимое 8" descr="P1020245.JPG"/>
          <p:cNvPicPr/>
          <p:nvPr/>
        </p:nvPicPr>
        <p:blipFill>
          <a:blip r:embed="rId1"/>
          <a:stretch/>
        </p:blipFill>
        <p:spPr>
          <a:xfrm>
            <a:off x="1035000" y="2514600"/>
            <a:ext cx="2884680" cy="384660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9" descr="P1050569.JPG"/>
          <p:cNvPicPr/>
          <p:nvPr/>
        </p:nvPicPr>
        <p:blipFill>
          <a:blip r:embed="rId2"/>
          <a:stretch/>
        </p:blipFill>
        <p:spPr>
          <a:xfrm>
            <a:off x="5224320" y="2514600"/>
            <a:ext cx="28828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етье место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районном  конкурс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Звонкие голоса-2010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7" descr="P1050570.JPG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10" descr="внук Кирюша 050.jpg"/>
          <p:cNvPicPr/>
          <p:nvPr/>
        </p:nvPicPr>
        <p:blipFill>
          <a:blip r:embed="rId2"/>
          <a:stretch/>
        </p:blipFill>
        <p:spPr>
          <a:xfrm>
            <a:off x="4648320" y="1523880"/>
            <a:ext cx="350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астие в школьных конкурсах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зображение 381.jpg"/>
          <p:cNvPicPr/>
          <p:nvPr/>
        </p:nvPicPr>
        <p:blipFill>
          <a:blip r:embed="rId1"/>
          <a:stretch/>
        </p:blipFill>
        <p:spPr>
          <a:xfrm>
            <a:off x="1143000" y="15238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6" descr="P1020361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70" name="Содержимое 8" descr="Изображение 307.jpg"/>
          <p:cNvPicPr/>
          <p:nvPr/>
        </p:nvPicPr>
        <p:blipFill>
          <a:blip r:embed="rId3"/>
          <a:stretch/>
        </p:blipFill>
        <p:spPr>
          <a:xfrm>
            <a:off x="936720" y="39243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7" descr="P1030005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8" descr=""/>
          <p:cNvPicPr/>
          <p:nvPr/>
        </p:nvPicPr>
        <p:blipFill>
          <a:blip r:embed="rId5"/>
          <a:stretch/>
        </p:blipFill>
        <p:spPr>
          <a:xfrm>
            <a:off x="987480" y="5479920"/>
            <a:ext cx="2908080" cy="536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9"/>
          <p:cNvSpPr/>
          <p:nvPr/>
        </p:nvSpPr>
        <p:spPr>
          <a:xfrm>
            <a:off x="25909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57200" y="1600200"/>
            <a:ext cx="1523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Районный тур  республиканского конкурса сочинений, посвященных Дню Республики и году укрепления межнационального согласия в РБ </a:t>
            </a: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«Пою мою республику»  </a:t>
            </a: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2011г. Зинатуллин  Ильдар, ученик 4 класса –грамот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410080" y="1828800"/>
            <a:ext cx="266724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1г. Первое место среди 1-11 классов</a:t>
            </a:r>
            <a:r>
              <a:rPr b="0" lang="ru-RU" sz="1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257800" y="39625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3г. Первое место среди 1-9 класс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астие в различных конкурсах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Содержимое 11" descr="uKdyNpPJwNs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12" descr="x_fc117df7.jpg"/>
          <p:cNvPicPr/>
          <p:nvPr/>
        </p:nvPicPr>
        <p:blipFill>
          <a:blip r:embed="rId2"/>
          <a:stretch/>
        </p:blipFill>
        <p:spPr>
          <a:xfrm>
            <a:off x="5181480" y="114300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13" descr="x_439f115b.jpg"/>
          <p:cNvPicPr/>
          <p:nvPr/>
        </p:nvPicPr>
        <p:blipFill>
          <a:blip r:embed="rId3"/>
          <a:stretch/>
        </p:blipFill>
        <p:spPr>
          <a:xfrm>
            <a:off x="457200" y="1143000"/>
            <a:ext cx="2362320" cy="278136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21" descr="P1050580.JPG"/>
          <p:cNvPicPr/>
          <p:nvPr/>
        </p:nvPicPr>
        <p:blipFill>
          <a:blip r:embed="rId4"/>
          <a:stretch/>
        </p:blipFill>
        <p:spPr>
          <a:xfrm>
            <a:off x="2895480" y="1143000"/>
            <a:ext cx="221004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5"/>
          <p:cNvSpPr/>
          <p:nvPr/>
        </p:nvSpPr>
        <p:spPr>
          <a:xfrm>
            <a:off x="1066680" y="3124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Участие  в районном семинаре-практикуме «Вокальная рабо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71040" y="5029200"/>
            <a:ext cx="49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Отборочный тур Республиканск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курса  молодых исполните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атриотической песни в ГДК.  Грамо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Содержимое 9" descr="100_0467.JPG"/>
          <p:cNvPicPr/>
          <p:nvPr/>
        </p:nvPicPr>
        <p:blipFill>
          <a:blip r:embed="rId1"/>
          <a:stretch/>
        </p:blipFill>
        <p:spPr>
          <a:xfrm>
            <a:off x="380880" y="3733920"/>
            <a:ext cx="3643560" cy="238284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6" descr="100_0425.JPG"/>
          <p:cNvPicPr/>
          <p:nvPr/>
        </p:nvPicPr>
        <p:blipFill>
          <a:blip r:embed="rId2"/>
          <a:stretch/>
        </p:blipFill>
        <p:spPr>
          <a:xfrm>
            <a:off x="5029200" y="3657600"/>
            <a:ext cx="3152880" cy="257184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11" descr="100_0441.JPG"/>
          <p:cNvPicPr/>
          <p:nvPr/>
        </p:nvPicPr>
        <p:blipFill>
          <a:blip r:embed="rId3"/>
          <a:stretch/>
        </p:blipFill>
        <p:spPr>
          <a:xfrm>
            <a:off x="457200" y="11430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сенний бал-маскарад в школ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12" descr="Изображение 312.jpg"/>
          <p:cNvPicPr/>
          <p:nvPr/>
        </p:nvPicPr>
        <p:blipFill>
          <a:blip r:embed="rId4"/>
          <a:stretch/>
        </p:blipFill>
        <p:spPr>
          <a:xfrm>
            <a:off x="4952880" y="1066680"/>
            <a:ext cx="3200400" cy="2438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914400" y="28954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Первое  место среди1-11 класс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3352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Луговая Диана  получила титул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«Мисс осень -2011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5486400" y="56386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ервое место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среди 1-11 классов. Ура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5105520" y="3124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Ведущие конкурса «Осенний бал--2010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49:15Z</dcterms:created>
  <dc:creator>User</dc:creator>
  <dc:description/>
  <dc:language>en-US</dc:language>
  <cp:lastModifiedBy>User</cp:lastModifiedBy>
  <dcterms:modified xsi:type="dcterms:W3CDTF">2014-12-06T18:00:53Z</dcterms:modified>
  <cp:revision>3</cp:revision>
  <dc:subject/>
  <dc:title>              Мои успехи и успехи обучающихся.</dc:title>
</cp:coreProperties>
</file>