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F88-8A1B-4FF4-AE85-0ABC737EA9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38CF-9711-4421-A4FE-64B2B42DFF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786-0D13-4E0F-BA27-FA049F7DF2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10DF-8CBB-4D38-925D-85D79398E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E3C-CCFE-4585-BE47-910EC36C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A22-9529-4B0C-ADB0-E938ACC7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552-218C-4A81-B766-52F3E5A7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68E-B9F7-42E7-BCA3-BF65F4F1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F830-150A-48FD-8F5D-7E6EF9FF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5B5-76B3-4B6C-BDE1-C3A152E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A825-DFD5-459F-BCA9-1BC1BF0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EE79-EF3D-4D1E-93A2-CDADD70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A891-ACDE-49D5-87D8-DEA0422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EB0-EA54-4419-B2CA-F45842B3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40AE-7630-431B-BAB8-CA1C5D9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5CD-9E3F-4F76-AE08-B82782E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B31-72D3-4C8D-9E08-BAAE0F2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507-D186-48AB-9F79-0595655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E19-9288-4EF8-B046-FCCADA27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932-1920-4645-B591-255D821C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9969-1FEE-4716-8711-49D2B432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91B6-B9B5-45DE-9AAE-EFE6349D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99F2-B831-47FC-AA51-B54BCC6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CCE6-AFF4-486B-9930-C5ED051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77CA-138E-4422-B21E-E6F9723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1232-9539-4DE1-B9BA-5D812E9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0CD-0BFF-47BC-866C-2FC506D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5A29-8876-4B3D-BC3E-D842889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ACE9-628D-4457-8747-A0A3C65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1434-F057-43F7-8779-69174B3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8B03-8177-450C-80A2-9D5C017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6E6B-AA1C-41D5-9C41-5DBE581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53F7-C888-47E3-8FF1-C9FFF0C4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7882-3EAF-4ABE-8F28-DD4A694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471C-0A83-4CF9-B5CB-D27D642F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EEA4-8509-4C85-91A0-5D27B8D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277D-A45C-4730-B766-EBD64F84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780-973C-40D3-8182-BBDBBCA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23AD-E207-4BB6-987E-44A6DC7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DF99-0322-409E-AB0C-A6DA6E77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F7BC-5FA8-493E-8DF5-202A390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20C3-8E26-4DC6-A823-CADBDA4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A62C-EBD3-4A0A-84D7-79614EA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E0EB-28D5-4CAB-85CF-CC7782C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A3BB-832E-4F08-B1A3-93CD2502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16F5-3E4B-475F-ACB0-E7922939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B07B-BAAE-499E-A974-06E1A160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AB14-4FE7-4538-9030-8E47F1F2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93E-8D75-493D-BDA8-733CF67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4AB7-0592-48CB-ACCB-3B4724C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FA0E-EB2B-4112-8576-AD79E8E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90DB-7AD0-4322-9C4A-C13B815A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9DD7-5CE1-40D1-A586-88A74450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8F58-1907-41B4-9DF0-912C597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4728-33AD-4E36-A46A-E4FF7F4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8040-8C18-4456-898B-51AEAC0B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F4A3-E24B-4CBA-83D2-D1E40F9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FDDA-5E4D-4328-937F-64350012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C08A-E2A9-4301-9683-BB25F424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E9B-7070-4DB4-BEA0-0B7EA7AE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4D7B-4617-438B-BCAA-A7EF7B5D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B57-E693-4A40-928C-CABD2C6C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5FC-6994-4F9B-8982-87DE67A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567-700A-4D2D-892B-FB98832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01A-6E1A-4F2F-B5C7-10471A6CC8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D858-1F57-4461-B47C-1B05DA6B9E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B08-17D2-4E1A-B7C4-71ED7F1698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3D6-22DE-449C-91AF-3ABF4E8335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D196-ED93-4690-9DBB-198A8FC438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Мои успехи и успехи обучающихся</a:t>
            </a:r>
            <a:r>
              <a:rPr b="0" lang="ru-RU" sz="2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5639040" cy="6248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а базу компьютерных презентаций по развитию речи, математике, окружающему миру  для 1 и 2 классов. Имею свой сайт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Социальная сеть работников образования nsportal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сылка на мой сайт: Мой &lt;a href = "http://nsportal.ru/perevedenceva-mariya-viktorovna" &gt; Сайт учителя начальных классов. 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икации в социальной сети работников образования статьи" Уроки музыки в рамках введения ФГОС" (21.05.2013) Благодарность за активное участие в работе социальной сети работников образования 2013г. Сертификат о создании сайта в социальной сети работников образования 2013г. Сертификат о размещении электронного портфолио в социальной сети работников образования 2013г. Свидетельство о публикации в социальной сети работников образования 2013г. видеоматериала: Первый раз-в первый класс! (17.06.2013). Свидетельство о публикации в социальной сети работников образования 2013г презентации на тему "Организация  здоровьесберегающей среды в условиях сельской школы в рамках ФГОС"(04.06.2013).Имею грамоты: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РБ,  2006 год; Почетная грамота  Администрации муниципального района Благовещенский район РБ , 2011г.; Благодарственные письма    ОО МР Благовещенский район РБ  (2010г, 2011г.,2012г.);   Благодарственное письмо от учебно-методического объединения вузов РФ, 2013г.; Благодарственное письмо за  подготовку  призёра во Всероссийском  Турнире  по музыке «Gloria musica», 2012г.; Диплом МКУ Управление образования  муниципального района благовещенский район РБ за участие в районной конференции "Новые образовательные стандарты», 2013год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обучающиеся ежегодно принимают активное участие в различных мероприятиях и занимают призовые места: Международный Турнир первоклассников, 2013г., Пенкин Д. (1 кл.) – лауреат, Ябаева  М. (1 кл.) – гран-при; Международный конкурс "Золотое руно", 2011г.,  Какиев К.(4 кл.) – победитель в школе; Всероссийский турнир по музыке "GLORIA MUSICA " , 2012г. Салиева В.( 3 кл.) - призёр;  Всероссийский  конкурс «Эрудит», 2012г.-  Зинатуллин И,  Васимов А., Какиев К,  Кулешов К (4класс)- Гран-при; Всероссийский  Конкурс-игра по естествознанию «Человек и природа-2013г»,  Якимов М.(1 кл. )  1 место по школе, Пенкин. Д (1кл.)- 2 место по школе;  Всероссийская викторина  «Эрудит -2013»,  Якимов М. (1кл.)-13 место  по   Всероссийскому  рейтингу и 12 место  по региональному рейтингу; районный конкурс – фестиваль юных дарований « Весенние капели-2012г», Какиев К. (4 кл.) – победитель  в номинации «Творческая мастерская»; Районный тур  республиканского конкурса сочинений, посвященных Дню Республики и году укрепления межнационального согласия в РБ «Пою мою республику»,  2011г., и т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17" descr="Изображение 225.jpg"/>
          <p:cNvPicPr/>
          <p:nvPr/>
        </p:nvPicPr>
        <p:blipFill>
          <a:blip r:embed="rId2"/>
          <a:stretch/>
        </p:blipFill>
        <p:spPr>
          <a:xfrm>
            <a:off x="4454640" y="167652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38088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609588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Выступление в ГДК на праздновании Дня Уч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90720" y="1522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районных конкурсах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39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28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 u="sng">
                <a:solidFill>
                  <a:srgbClr val="ff0000"/>
                </a:solidFill>
                <a:uFillTx/>
                <a:latin typeface="Constantia"/>
              </a:rPr>
              <a:t>Первое  место </a:t>
            </a:r>
            <a:r>
              <a:rPr b="1" lang="ru-RU" sz="500" spc="-1" strike="noStrike">
                <a:solidFill>
                  <a:srgbClr val="04617b"/>
                </a:solidFill>
                <a:latin typeface="Constantia"/>
              </a:rPr>
              <a:t>в районном конкурсе «Звонкие голоса-2010»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Благодарственное письмо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Содержимое 8" descr="P1020245.JPG"/>
          <p:cNvPicPr/>
          <p:nvPr/>
        </p:nvPicPr>
        <p:blipFill>
          <a:blip r:embed="rId1"/>
          <a:stretch/>
        </p:blipFill>
        <p:spPr>
          <a:xfrm>
            <a:off x="1035000" y="2514600"/>
            <a:ext cx="2884680" cy="384660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9" descr="P1050569.JPG"/>
          <p:cNvPicPr/>
          <p:nvPr/>
        </p:nvPicPr>
        <p:blipFill>
          <a:blip r:embed="rId2"/>
          <a:stretch/>
        </p:blipFill>
        <p:spPr>
          <a:xfrm>
            <a:off x="5224320" y="2514600"/>
            <a:ext cx="288288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етье место 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районном  конкурс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Звонкие голоса-2010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7" descr="P1050570.JPG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10" descr="внук Кирюша 050.jpg"/>
          <p:cNvPicPr/>
          <p:nvPr/>
        </p:nvPicPr>
        <p:blipFill>
          <a:blip r:embed="rId2"/>
          <a:stretch/>
        </p:blipFill>
        <p:spPr>
          <a:xfrm>
            <a:off x="4648320" y="152388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астие в школьных конкурсах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зображение 381.jpg"/>
          <p:cNvPicPr/>
          <p:nvPr/>
        </p:nvPicPr>
        <p:blipFill>
          <a:blip r:embed="rId1"/>
          <a:stretch/>
        </p:blipFill>
        <p:spPr>
          <a:xfrm>
            <a:off x="1143000" y="15238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6" descr="P102036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70" name="Содержимое 8" descr="Изображение 307.jpg"/>
          <p:cNvPicPr/>
          <p:nvPr/>
        </p:nvPicPr>
        <p:blipFill>
          <a:blip r:embed="rId3"/>
          <a:stretch/>
        </p:blipFill>
        <p:spPr>
          <a:xfrm>
            <a:off x="936720" y="39243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7" descr="P1030005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8" descr=""/>
          <p:cNvPicPr/>
          <p:nvPr/>
        </p:nvPicPr>
        <p:blipFill>
          <a:blip r:embed="rId5"/>
          <a:stretch/>
        </p:blipFill>
        <p:spPr>
          <a:xfrm>
            <a:off x="987480" y="5479920"/>
            <a:ext cx="2908080" cy="536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9"/>
          <p:cNvSpPr/>
          <p:nvPr/>
        </p:nvSpPr>
        <p:spPr>
          <a:xfrm>
            <a:off x="25909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57200" y="1600200"/>
            <a:ext cx="1523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Районный тур  республиканского конкурса сочинений, посвященных Дню Республики и году укрепления межнационального согласия в РБ </a:t>
            </a: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«Пою мою республику»  </a:t>
            </a: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2011г. Зинатуллин  Ильдар, ученик 4 класса –грамот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410080" y="1828800"/>
            <a:ext cx="26672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1г. Первое место среди 1-11 классов</a:t>
            </a:r>
            <a:r>
              <a:rPr b="0" lang="ru-RU" sz="1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257800" y="39625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Моя родословная-2013г. Первое место среди 1-9 класс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астие в различных конкурсах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Содержимое 11" descr="uKdyNpPJwNs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12" descr="x_fc117df7.jpg"/>
          <p:cNvPicPr/>
          <p:nvPr/>
        </p:nvPicPr>
        <p:blipFill>
          <a:blip r:embed="rId2"/>
          <a:stretch/>
        </p:blipFill>
        <p:spPr>
          <a:xfrm>
            <a:off x="5181480" y="114300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13" descr="x_439f115b.jpg"/>
          <p:cNvPicPr/>
          <p:nvPr/>
        </p:nvPicPr>
        <p:blipFill>
          <a:blip r:embed="rId3"/>
          <a:stretch/>
        </p:blipFill>
        <p:spPr>
          <a:xfrm>
            <a:off x="457200" y="1143000"/>
            <a:ext cx="2362320" cy="278136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21" descr="P1050580.JPG"/>
          <p:cNvPicPr/>
          <p:nvPr/>
        </p:nvPicPr>
        <p:blipFill>
          <a:blip r:embed="rId4"/>
          <a:stretch/>
        </p:blipFill>
        <p:spPr>
          <a:xfrm>
            <a:off x="2895480" y="1143000"/>
            <a:ext cx="221004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5"/>
          <p:cNvSpPr/>
          <p:nvPr/>
        </p:nvSpPr>
        <p:spPr>
          <a:xfrm>
            <a:off x="1066680" y="3124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Участие  в районном семинаре-практикуме «Вокальная рабо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71040" y="50292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Отборочный тур Республиканск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курса  молодых исполните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атриотической песни в ГДК.  Грамо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Содержимое 9" descr="100_0467.JPG"/>
          <p:cNvPicPr/>
          <p:nvPr/>
        </p:nvPicPr>
        <p:blipFill>
          <a:blip r:embed="rId1"/>
          <a:stretch/>
        </p:blipFill>
        <p:spPr>
          <a:xfrm>
            <a:off x="380880" y="3733920"/>
            <a:ext cx="3643560" cy="238284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6" descr="100_0425.JPG"/>
          <p:cNvPicPr/>
          <p:nvPr/>
        </p:nvPicPr>
        <p:blipFill>
          <a:blip r:embed="rId2"/>
          <a:stretch/>
        </p:blipFill>
        <p:spPr>
          <a:xfrm>
            <a:off x="5029200" y="3657600"/>
            <a:ext cx="3152880" cy="2571840"/>
          </a:xfrm>
          <a:prstGeom prst="rect">
            <a:avLst/>
          </a:prstGeom>
          <a:ln w="0">
            <a:noFill/>
          </a:ln>
        </p:spPr>
      </p:pic>
      <p:pic>
        <p:nvPicPr>
          <p:cNvPr id="286" name="Содержимое 11" descr="100_0441.JPG"/>
          <p:cNvPicPr/>
          <p:nvPr/>
        </p:nvPicPr>
        <p:blipFill>
          <a:blip r:embed="rId3"/>
          <a:stretch/>
        </p:blipFill>
        <p:spPr>
          <a:xfrm>
            <a:off x="457200" y="114300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сенний бал-маскарад в школ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12" descr="Изображение 312.jpg"/>
          <p:cNvPicPr/>
          <p:nvPr/>
        </p:nvPicPr>
        <p:blipFill>
          <a:blip r:embed="rId4"/>
          <a:stretch/>
        </p:blipFill>
        <p:spPr>
          <a:xfrm>
            <a:off x="4952880" y="1066680"/>
            <a:ext cx="3200400" cy="2438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914400" y="28954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Первое  место среди1-11 класс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3352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Луговая Диана  получила титул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«Мисс осень -2011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5486400" y="56386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ервое место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среди 1-11 классов. Ура!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5105520" y="3124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onstantia"/>
              </a:rPr>
              <a:t>Ведущие конкурса «Осенний бал--2010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49:15Z</dcterms:created>
  <dc:creator>User</dc:creator>
  <dc:description/>
  <dc:language>en-US</dc:language>
  <cp:lastModifiedBy>User</cp:lastModifiedBy>
  <dcterms:modified xsi:type="dcterms:W3CDTF">2014-12-06T18:00:53Z</dcterms:modified>
  <cp:revision>3</cp:revision>
  <dc:subject/>
  <dc:title>              Мои успехи и успехи обучающихся.</dc:title>
</cp:coreProperties>
</file>