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1CCF-C201-4437-827B-4628B0A51D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B5B5-E542-4F39-B271-A038862D1D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E077-894C-4ED6-85C1-9D4371B988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229A-EDB4-4A06-87D9-0CC70DFAA5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D07B-6563-4E17-B727-B94E28FA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29A-6D22-4B5A-92BD-2AFA9AB4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2E1-07D0-47D0-9811-673FDA42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C0D-76C0-42F0-9F43-1B8E05A1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6089-CAD8-4FEE-8C21-DA61F6CD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742E-CF38-4257-9E06-1B25B497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9B32-64DF-49C3-AEDA-0E381704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059C-695B-4D80-AD01-6C837B0C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A835-0F42-4B51-818F-366A078F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18AA-6DFA-490A-AA96-FDF08D2A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AC8A-9DB1-49BF-97B3-94F30F05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3D9-9A9E-432A-99EF-7EFB59A0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5F6C-9B9C-4523-98BA-BC079753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EAEF-C803-4692-8F4D-946A2DA7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AEBC-D477-49CD-A443-B28F08FD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71A1-AA83-44E7-9BE8-38BE12A3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D980-B176-4C4B-9C52-B7EAC7E4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592D8-90B9-4E99-A408-4CD7A3FE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F5374-2B9B-42E2-82F9-87C0D043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D3550-028B-4C71-82F7-85B785FA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AB664-A43A-43E2-998C-17A93622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6BDC0-DB06-409F-8126-2B3B7A41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DBB1-B825-4479-9F93-45E62444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4DEBA-830C-4B20-964D-BBCA2C7C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E3045-E3F2-4FE6-B580-E75DA077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EA163-8B6C-436F-B219-8FCF53B1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9F752-3E19-45BD-978B-9BB3C91D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013B4-060B-4475-9BD5-C32764DD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9B7DF-8FF0-443B-91B5-5EED440C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DD4F1-8454-47FC-99B9-C2985CD7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C5C23-1068-4AAC-A983-86FD278A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FB39B-C019-4BEA-8CE9-9D26BB4D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E60A3-AA5F-43BE-8A3C-88E3F0D7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25D-1B72-4E5E-B8D8-CBAABA27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B6652-C612-49A4-9F43-35EFABEE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17177-595E-4AB8-895A-1623B254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C90BC-32C6-4F2D-8B30-AB161415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039E3-1C03-45DB-86AD-422B6600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CC424-9BF9-45E2-B8B9-36E14E20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41437-75A8-4169-B517-207F0DC3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A34E6-CE1C-4FE8-A8D4-AF53E9E4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ACDC5-E50B-4B10-84C4-9CCB6AD9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EA7B3-5C51-4A0A-AED0-6C0D6B92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909E9-7300-42D8-882C-B7B56B66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000-382F-4867-A4EE-32547FB3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D3507-FE13-498D-AB70-4754F5A5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2318E-4879-4EFE-8CB3-BFD23E45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F5119-B754-4EA8-A944-3AE2FE29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E6511-C148-4F2C-80DD-BEB79BAC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39DE8-0283-4667-BD86-9BA59D7B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F3038-D2C8-40E3-A5BA-99FC19C4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09BE2-15C5-4B9E-A6FC-38E2C17C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FFBFB-1D65-457E-B06F-AFEB9F60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0D9BD-B212-4909-9095-BC3EC865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52513-F3DC-435B-8389-562B3242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2A49-BA6E-4BC6-8AF4-F0AD4A51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1BA88-5713-4454-A8E2-FC5E0E51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1F6-6B47-4164-8B5D-1824666D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5A88-5918-4971-A696-B79ED820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927E-B97C-4393-B42A-A2BF0B94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6316-1E48-4075-9A39-56D58083AE3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39A9-3FEB-433A-A7ED-94BE63DBA5F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9836-BC35-48BD-80C1-8680DCFD844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C742-8658-4DD5-BC05-97190650CAB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09FC-8BE8-41E7-8DCD-1229473CFC3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sportal.ru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411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Мои успехи и успехи обучающихся</a:t>
            </a:r>
            <a:r>
              <a:rPr b="0" lang="ru-RU" sz="23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456840"/>
            <a:ext cx="5639040" cy="62485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ла базу компьютерных презентаций по развитию речи, математике, окружающему миру  для 1 и 2 классов. Имею свой сайт </a:t>
            </a:r>
            <a:r>
              <a:rPr b="0" lang="ru-RU" sz="11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Социальная сеть работников образования nsportal.ru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Ссылка на мой сайт: Мой &lt;a href = "http://nsportal.ru/perevedenceva-mariya-viktorovna" &gt; Сайт учителя начальных классов. 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ликации в социальной сети работников образования статьи" Уроки музыки в рамках введения ФГОС" (21.05.2013) Благодарность за активное участие в работе социальной сети работников образования 2013г. Сертификат о создании сайта в социальной сети работников образования 2013г. Сертификат о размещении электронного портфолио в социальной сети работников образования 2013г. Свидетельство о публикации в социальной сети работников образования 2013г. видеоматериала: Первый раз-в первый класс! (17.06.2013). Свидетельство о публикации в социальной сети работников образования 2013г презентации на тему "Организация  здоровьесберегающей среды в условиях сельской школы в рамках ФГОС"(04.06.2013).Имею грамоты: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ая грамота Министерства Образования РБ,  2006 год; Почетная грамота  Администрации муниципального района Благовещенский район РБ , 2011г.; Благодарственные письма    ОО МР Благовещенский район РБ  (2010г, 2011г.,2012г.);   Благодарственное письмо от учебно-методического объединения вузов РФ, 2013г.; Благодарственное письмо за  подготовку  призёра во Всероссийском  Турнире  по музыке «Gloria musica», 2012г.; Диплом МКУ Управление образования  муниципального района благовещенский район РБ за участие в районной конференции "Новые образовательные стандарты», 2013год.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обучающиеся ежегодно принимают активное участие в различных мероприятиях и занимают призовые места: Международный Турнир первоклассников, 2013г., Пенкин Д. (1 кл.) – лауреат, Ябаева  М. (1 кл.) – гран-при; Международный конкурс "Золотое руно", 2011г.,  Какиев К.(4 кл.) – победитель в школе; Всероссийский турнир по музыке "GLORIA MUSICA " , 2012г. Салиева В.( 3 кл.) - призёр;  Всероссийский  конкурс «Эрудит», 2012г.-  Зинатуллин И,  Васимов А., Какиев К,  Кулешов К (4класс)- Гран-при; Всероссийский  Конкурс-игра по естествознанию «Человек и природа-2013г»,  Якимов М.(1 кл. )  1 место по школе, Пенкин. Д (1кл.)- 2 место по школе;  Всероссийская викторина  «Эрудит -2013»,  Якимов М. (1кл.)-13 место  по   Всероссийскому  рейтингу и 12 место  по региональному рейтингу; районный конкурс – фестиваль юных дарований « Весенние капели-2012г», Какиев К. (4 кл.) – победитель  в номинации «Творческая мастерская»; Районный тур  республиканского конкурса сочинений, посвященных Дню Республики и году укрепления межнационального согласия в РБ «Пою мою республику»,  2011г., и тд.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Содержимое 17" descr="Изображение 225.jpg"/>
          <p:cNvPicPr/>
          <p:nvPr/>
        </p:nvPicPr>
        <p:blipFill>
          <a:blip r:embed="rId2"/>
          <a:stretch/>
        </p:blipFill>
        <p:spPr>
          <a:xfrm>
            <a:off x="4454640" y="1676520"/>
            <a:ext cx="3352680" cy="4572000"/>
          </a:xfrm>
          <a:prstGeom prst="rect">
            <a:avLst/>
          </a:prstGeom>
          <a:ln w="0">
            <a:noFill/>
          </a:ln>
        </p:spPr>
      </p:pic>
      <p:sp>
        <p:nvSpPr>
          <p:cNvPr id="255" name="WordArt 3"/>
          <p:cNvSpPr txBox="1"/>
          <p:nvPr/>
        </p:nvSpPr>
        <p:spPr>
          <a:xfrm>
            <a:off x="38088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0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TextBox 19"/>
          <p:cNvSpPr/>
          <p:nvPr/>
        </p:nvSpPr>
        <p:spPr>
          <a:xfrm>
            <a:off x="6095880" y="3049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Выступление в ГДК на праздновании Дня Учител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4"/>
          <p:cNvSpPr txBox="1"/>
          <p:nvPr/>
        </p:nvSpPr>
        <p:spPr>
          <a:xfrm>
            <a:off x="457200" y="2286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WordArt 4"/>
          <p:cNvSpPr txBox="1"/>
          <p:nvPr/>
        </p:nvSpPr>
        <p:spPr>
          <a:xfrm>
            <a:off x="990720" y="152280"/>
            <a:ext cx="8001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частие в районных конкурсах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96396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28000"/>
          </a:bodyPr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 u="sng">
                <a:solidFill>
                  <a:srgbClr val="ff0000"/>
                </a:solidFill>
                <a:uFillTx/>
                <a:latin typeface="Constantia"/>
              </a:rPr>
              <a:t>Первое  место </a:t>
            </a:r>
            <a:r>
              <a:rPr b="1" lang="ru-RU" sz="500" spc="-1" strike="noStrike">
                <a:solidFill>
                  <a:srgbClr val="04617b"/>
                </a:solidFill>
                <a:latin typeface="Constantia"/>
              </a:rPr>
              <a:t>в районном конкурсе «Звонкие голоса-2010»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028840" y="137124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Благодарственное письмо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Содержимое 8" descr="P1020245.JPG"/>
          <p:cNvPicPr/>
          <p:nvPr/>
        </p:nvPicPr>
        <p:blipFill>
          <a:blip r:embed="rId1"/>
          <a:stretch/>
        </p:blipFill>
        <p:spPr>
          <a:xfrm>
            <a:off x="1035000" y="2514600"/>
            <a:ext cx="2884680" cy="3846600"/>
          </a:xfrm>
          <a:prstGeom prst="rect">
            <a:avLst/>
          </a:prstGeom>
          <a:ln w="0">
            <a:noFill/>
          </a:ln>
        </p:spPr>
      </p:pic>
      <p:pic>
        <p:nvPicPr>
          <p:cNvPr id="263" name="Содержимое 9" descr="P1050569.JPG"/>
          <p:cNvPicPr/>
          <p:nvPr/>
        </p:nvPicPr>
        <p:blipFill>
          <a:blip r:embed="rId2"/>
          <a:stretch/>
        </p:blipFill>
        <p:spPr>
          <a:xfrm>
            <a:off x="5224320" y="2514600"/>
            <a:ext cx="2882880" cy="38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ретье место 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районном  конкурсе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«Звонкие голоса-2010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Содержимое 7" descr="P1050570.JPG"/>
          <p:cNvPicPr/>
          <p:nvPr/>
        </p:nvPicPr>
        <p:blipFill>
          <a:blip r:embed="rId1"/>
          <a:stretch/>
        </p:blipFill>
        <p:spPr>
          <a:xfrm>
            <a:off x="533520" y="1600200"/>
            <a:ext cx="3657600" cy="4267080"/>
          </a:xfrm>
          <a:prstGeom prst="rect">
            <a:avLst/>
          </a:prstGeom>
          <a:ln w="0">
            <a:noFill/>
          </a:ln>
        </p:spPr>
      </p:pic>
      <p:pic>
        <p:nvPicPr>
          <p:cNvPr id="266" name="Содержимое 10" descr="внук Кирюша 050.jpg"/>
          <p:cNvPicPr/>
          <p:nvPr/>
        </p:nvPicPr>
        <p:blipFill>
          <a:blip r:embed="rId2"/>
          <a:stretch/>
        </p:blipFill>
        <p:spPr>
          <a:xfrm>
            <a:off x="4648320" y="1523880"/>
            <a:ext cx="350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Участие в школьных конкурсах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Содержимое 4" descr="Изображение 381.jpg"/>
          <p:cNvPicPr/>
          <p:nvPr/>
        </p:nvPicPr>
        <p:blipFill>
          <a:blip r:embed="rId1"/>
          <a:stretch/>
        </p:blipFill>
        <p:spPr>
          <a:xfrm>
            <a:off x="1143000" y="15238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69" name="Содержимое 6" descr="P1020361.JPG"/>
          <p:cNvPicPr/>
          <p:nvPr/>
        </p:nvPicPr>
        <p:blipFill>
          <a:blip r:embed="rId2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270" name="Содержимое 8" descr="Изображение 307.jpg"/>
          <p:cNvPicPr/>
          <p:nvPr/>
        </p:nvPicPr>
        <p:blipFill>
          <a:blip r:embed="rId3"/>
          <a:stretch/>
        </p:blipFill>
        <p:spPr>
          <a:xfrm>
            <a:off x="936720" y="3924360"/>
            <a:ext cx="3079800" cy="2171520"/>
          </a:xfrm>
          <a:prstGeom prst="rect">
            <a:avLst/>
          </a:prstGeom>
          <a:ln w="0">
            <a:noFill/>
          </a:ln>
        </p:spPr>
      </p:pic>
      <p:pic>
        <p:nvPicPr>
          <p:cNvPr id="271" name="Содержимое 7" descr="P1030005.JPG"/>
          <p:cNvPicPr/>
          <p:nvPr/>
        </p:nvPicPr>
        <p:blipFill>
          <a:blip r:embed="rId4"/>
          <a:stretch/>
        </p:blipFill>
        <p:spPr>
          <a:xfrm>
            <a:off x="5219640" y="392436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272" name="TextBox 8" descr=""/>
          <p:cNvPicPr/>
          <p:nvPr/>
        </p:nvPicPr>
        <p:blipFill>
          <a:blip r:embed="rId5"/>
          <a:stretch/>
        </p:blipFill>
        <p:spPr>
          <a:xfrm>
            <a:off x="987480" y="5479920"/>
            <a:ext cx="2908080" cy="5367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9"/>
          <p:cNvSpPr/>
          <p:nvPr/>
        </p:nvSpPr>
        <p:spPr>
          <a:xfrm>
            <a:off x="2590920" y="3276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457200" y="1600200"/>
            <a:ext cx="1523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Районный тур  республиканского конкурса сочинений, посвященных Дню Республики и году укрепления межнационального согласия в РБ </a:t>
            </a: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«Пою мою республику»  </a:t>
            </a: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2011г. Зинатуллин  Ильдар, ученик 4 класса –грамота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5410080" y="1828800"/>
            <a:ext cx="266724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Моя родословная-2011г. Первое место среди 1-11 классов</a:t>
            </a:r>
            <a:r>
              <a:rPr b="0" lang="ru-RU" sz="12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5257800" y="3962520"/>
            <a:ext cx="281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Моя родословная-2013г. Первое место среди 1-9 классов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частие в различных конкурсах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8" name="Содержимое 11" descr="uKdyNpPJwNs.jpg"/>
          <p:cNvPicPr/>
          <p:nvPr/>
        </p:nvPicPr>
        <p:blipFill>
          <a:blip r:embed="rId1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79" name="Содержимое 12" descr="x_fc117df7.jpg"/>
          <p:cNvPicPr/>
          <p:nvPr/>
        </p:nvPicPr>
        <p:blipFill>
          <a:blip r:embed="rId2"/>
          <a:stretch/>
        </p:blipFill>
        <p:spPr>
          <a:xfrm>
            <a:off x="5181480" y="1143000"/>
            <a:ext cx="2895840" cy="2743200"/>
          </a:xfrm>
          <a:prstGeom prst="rect">
            <a:avLst/>
          </a:prstGeom>
          <a:ln w="0">
            <a:noFill/>
          </a:ln>
        </p:spPr>
      </p:pic>
      <p:pic>
        <p:nvPicPr>
          <p:cNvPr id="280" name="Содержимое 13" descr="x_439f115b.jpg"/>
          <p:cNvPicPr/>
          <p:nvPr/>
        </p:nvPicPr>
        <p:blipFill>
          <a:blip r:embed="rId3"/>
          <a:stretch/>
        </p:blipFill>
        <p:spPr>
          <a:xfrm>
            <a:off x="457200" y="1143000"/>
            <a:ext cx="2362320" cy="2781360"/>
          </a:xfrm>
          <a:prstGeom prst="rect">
            <a:avLst/>
          </a:prstGeom>
          <a:ln w="0">
            <a:noFill/>
          </a:ln>
        </p:spPr>
      </p:pic>
      <p:pic>
        <p:nvPicPr>
          <p:cNvPr id="281" name="Содержимое 21" descr="P1050580.JPG"/>
          <p:cNvPicPr/>
          <p:nvPr/>
        </p:nvPicPr>
        <p:blipFill>
          <a:blip r:embed="rId4"/>
          <a:stretch/>
        </p:blipFill>
        <p:spPr>
          <a:xfrm>
            <a:off x="2895480" y="1143000"/>
            <a:ext cx="2210040" cy="28195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5"/>
          <p:cNvSpPr/>
          <p:nvPr/>
        </p:nvSpPr>
        <p:spPr>
          <a:xfrm>
            <a:off x="1066680" y="31240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Участие  в районном семинаре-практикуме «Вокальная работа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TextBox 22"/>
          <p:cNvSpPr/>
          <p:nvPr/>
        </p:nvSpPr>
        <p:spPr>
          <a:xfrm>
            <a:off x="4271040" y="5029200"/>
            <a:ext cx="496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Отборочный тур Республиканског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конкурса  молодых исполнителе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патриотической песни в ГДК.  Грамо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Содержимое 9" descr="100_0467.JPG"/>
          <p:cNvPicPr/>
          <p:nvPr/>
        </p:nvPicPr>
        <p:blipFill>
          <a:blip r:embed="rId1"/>
          <a:stretch/>
        </p:blipFill>
        <p:spPr>
          <a:xfrm>
            <a:off x="380880" y="3733920"/>
            <a:ext cx="3643560" cy="2382840"/>
          </a:xfrm>
          <a:prstGeom prst="rect">
            <a:avLst/>
          </a:prstGeom>
          <a:ln w="0">
            <a:noFill/>
          </a:ln>
        </p:spPr>
      </p:pic>
      <p:pic>
        <p:nvPicPr>
          <p:cNvPr id="285" name="Содержимое 6" descr="100_0425.JPG"/>
          <p:cNvPicPr/>
          <p:nvPr/>
        </p:nvPicPr>
        <p:blipFill>
          <a:blip r:embed="rId2"/>
          <a:stretch/>
        </p:blipFill>
        <p:spPr>
          <a:xfrm>
            <a:off x="5029200" y="3657600"/>
            <a:ext cx="3152880" cy="2571840"/>
          </a:xfrm>
          <a:prstGeom prst="rect">
            <a:avLst/>
          </a:prstGeom>
          <a:ln w="0">
            <a:noFill/>
          </a:ln>
        </p:spPr>
      </p:pic>
      <p:pic>
        <p:nvPicPr>
          <p:cNvPr id="286" name="Содержимое 11" descr="100_0441.JPG"/>
          <p:cNvPicPr/>
          <p:nvPr/>
        </p:nvPicPr>
        <p:blipFill>
          <a:blip r:embed="rId3"/>
          <a:stretch/>
        </p:blipFill>
        <p:spPr>
          <a:xfrm>
            <a:off x="457200" y="1143000"/>
            <a:ext cx="3429000" cy="23623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сенний бал-маскарад в школе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8" name="Содержимое 12" descr="Изображение 312.jpg"/>
          <p:cNvPicPr/>
          <p:nvPr/>
        </p:nvPicPr>
        <p:blipFill>
          <a:blip r:embed="rId4"/>
          <a:stretch/>
        </p:blipFill>
        <p:spPr>
          <a:xfrm>
            <a:off x="4952880" y="1066680"/>
            <a:ext cx="3200400" cy="24386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3"/>
          <p:cNvSpPr/>
          <p:nvPr/>
        </p:nvSpPr>
        <p:spPr>
          <a:xfrm>
            <a:off x="914400" y="289548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Первое  место среди1-11 классов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TextBox 15"/>
          <p:cNvSpPr/>
          <p:nvPr/>
        </p:nvSpPr>
        <p:spPr>
          <a:xfrm>
            <a:off x="533520" y="5638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Луговая Диана  получила титул 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«Мисс осень -2011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TextBox 16"/>
          <p:cNvSpPr/>
          <p:nvPr/>
        </p:nvSpPr>
        <p:spPr>
          <a:xfrm>
            <a:off x="5486400" y="5638680"/>
            <a:ext cx="27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Первое место </a:t>
            </a: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среди 1-11 классов. Ура!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Box 17"/>
          <p:cNvSpPr/>
          <p:nvPr/>
        </p:nvSpPr>
        <p:spPr>
          <a:xfrm>
            <a:off x="5105520" y="3124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onstantia"/>
              </a:rPr>
              <a:t>Ведущие конкурса «Осенний бал--2010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6T17:49:15Z</dcterms:created>
  <dc:creator>User</dc:creator>
  <dc:description/>
  <dc:language>en-US</dc:language>
  <cp:lastModifiedBy>User</cp:lastModifiedBy>
  <dcterms:modified xsi:type="dcterms:W3CDTF">2014-12-06T18:00:53Z</dcterms:modified>
  <cp:revision>3</cp:revision>
  <dc:subject/>
  <dc:title>              Мои успехи и успехи обучающихся.</dc:title>
</cp:coreProperties>
</file>