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D6A9-7DA7-4108-8448-E445F1047A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BC85-E478-4BF3-85E1-39CF0CAA3F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C1C-B86A-40C3-8EBF-A7225017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3A5-E545-4EBA-AE28-ACA9140B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410-B2C6-4A52-A7A4-EA01A506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D3E-F37E-4E99-A9D3-285727BE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5A7-3814-423D-99D0-989B7097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D5F-FC90-4FBF-B8B7-86142908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582-E598-4747-A647-14AD51A0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0F0-6D5D-47EA-8C12-658F5D37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A05-A430-4BCD-A52C-21D0C348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BEE-2A6F-476C-95A8-FF55B9D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89C-E92B-4825-821E-1447BBEF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A7A-67F5-4B73-99C8-0F015159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32F7-BF0A-41D7-8457-C408E7C23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438280" y="990360"/>
            <a:ext cx="6553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3 января по 8 января 201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а прошла курсы повышения квалификации в Институте развития образования по теме:"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ализация требований Федеральных государственных образовательных стандартов 2 поколения в системе начального общего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№9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 по музыке с 1-7 классы по теме: «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нокультурное образование школьников на уроках музыки» апрель 2011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валификации по Основам религиозных культур и светской этики.2013год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кирский институт развития образования с 25.02.13г-02.03.13г. Тема «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сновы религиозных культур и светской этик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12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прохождении дистанционного обучения по курс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" Личностно-ориентированный урок« №18135. 2013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танционные курсы повышения квалификации  в ИРО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 теме:«РЕАЛИЗАЦИЯ ДУХОВНО -НРАВСТВЕННОГО РАЗВИТИЯ И ВОСПИТАНИЯ ЛИЧНОСТИ В ОУ В УСЛОВИЯХ ФГОС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НОЯБРЯ-12 ДЕКАБРЯ 2013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т  за участие в республиканском обучающем  семинаре  по теме "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етодика эффективного использования интерактивной доски  в образовательной деятельности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07.11по 09.11.201                                                                                        3года.Регистрационный номер №509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8" descr="CIMG1940.JPG"/>
          <p:cNvPicPr/>
          <p:nvPr/>
        </p:nvPicPr>
        <p:blipFill>
          <a:blip r:embed="rId1"/>
          <a:stretch/>
        </p:blipFill>
        <p:spPr>
          <a:xfrm>
            <a:off x="304920" y="990720"/>
            <a:ext cx="20574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ПОВЫШЕНИЕ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380880" y="6095880"/>
            <a:ext cx="8467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КВАЛИФИКАЦИИ</a:t>
            </a:r>
            <a:endParaRPr b="1" lang="en-US" sz="7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34:07Z</dcterms:created>
  <dc:creator>User</dc:creator>
  <dc:description/>
  <dc:language>en-US</dc:language>
  <cp:lastModifiedBy>User</cp:lastModifiedBy>
  <dcterms:modified xsi:type="dcterms:W3CDTF">2014-12-06T17:34:44Z</dcterms:modified>
  <cp:revision>1</cp:revision>
  <dc:subject/>
  <dc:title>Слайд 1</dc:title>
</cp:coreProperties>
</file>