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9638-2627-44C7-8D75-E17665729C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A362-A966-4866-81A9-9018791EF3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620-1D34-4BD8-ACC9-1D6A21B5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309-3AD9-4923-A910-1FF11679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095-FA9C-4FF7-99EB-44A2E0F8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DB7-9E55-49E8-A23B-F6F63D45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482-C029-401A-9269-7A817DDF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D75-8ACE-479F-9738-28F27F00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0BB-3AD3-4AD9-8F3C-082D8441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54C-49B5-47C5-BECC-59CA3198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6AAE-61C4-48FB-8DCD-A5D3A0FD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0C6-2F86-4071-BE81-A95997C6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7DF1-60C1-4093-A4D5-031428E2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1A5-115C-4201-BC8A-AC8FD966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1C7F-8590-41D5-8480-8FE67DF75D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438280" y="990360"/>
            <a:ext cx="6553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3 января по 8 января 201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а прошла курсы повышения квалификации в Институте развития образования по теме:"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ализация требований Федеральных государственных образовательных стандартов 2 поколения в системе начального общего образ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№95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ы повышения квалификации по музыке с 1-7 классы по теме: «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нокультурное образование школьников на уроках музыки» апрель 2011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ы повышени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валификации по Основам религиозных культур и светской этики.2013год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шкирский институт развития образования с 25.02.13г-02.03.13г. Тема «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сновы религиозных культур и светской этики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12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ьство о прохождении дистанционного обучения по курсу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" Личностно-ориентированный урок« №18135. 2013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танционные курсы повышения квалификации  в ИРО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 теме:«РЕАЛИЗАЦИЯ ДУХОВНО -НРАВСТВЕННОГО РАЗВИТИЯ И ВОСПИТАНИЯ ЛИЧНОСТИ В ОУ В УСЛОВИЯХ ФГОС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 НОЯБРЯ-12 ДЕКАБРЯ 2013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т  за участие в республиканском обучающем  семинаре  по теме "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етодика эффективного использования интерактивной доски  в образовательной деятельности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07.11по 09.11.201                                                                                        3года.Регистрационный номер №509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8" descr="CIMG1940.JPG"/>
          <p:cNvPicPr/>
          <p:nvPr/>
        </p:nvPicPr>
        <p:blipFill>
          <a:blip r:embed="rId1"/>
          <a:stretch/>
        </p:blipFill>
        <p:spPr>
          <a:xfrm>
            <a:off x="304920" y="990720"/>
            <a:ext cx="205740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457200" y="22860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ПОВЫШЕНИЕ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380880" y="6095880"/>
            <a:ext cx="8467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КВАЛИФИКАЦИИ</a:t>
            </a:r>
            <a:endParaRPr b="1" lang="en-US" sz="72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7:34:07Z</dcterms:created>
  <dc:creator>User</dc:creator>
  <dc:description/>
  <dc:language>en-US</dc:language>
  <cp:lastModifiedBy>User</cp:lastModifiedBy>
  <dcterms:modified xsi:type="dcterms:W3CDTF">2014-12-06T17:34:44Z</dcterms:modified>
  <cp:revision>1</cp:revision>
  <dc:subject/>
  <dc:title>Слайд 1</dc:title>
</cp:coreProperties>
</file>