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A61-955F-445A-8497-2CFF8935C0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55BD-0E2D-49FA-AA92-B63F7C968D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009-482D-4F6B-8EBB-112FDD4A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13F-D6EC-4BF6-8982-84FBF954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B36-FFA6-4E7C-B066-3E619BE8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176-A962-41D5-A90E-7562769E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2C1-0E9D-46BE-BA78-E884501F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BDA-3C3C-43CE-AA32-BD011B2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F37-3251-44E0-8FBC-BA49CB63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109-E46D-46D9-ABCC-685E895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725-1D2C-4FE3-B3EE-285916B0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050-57E9-44AF-90B3-23E0EDCC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B8E-3509-48BF-96A0-CA61D93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2F0-D47E-4235-9925-25AD1B75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A8BE-6673-47B6-8C1F-B4054699B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438280" y="990360"/>
            <a:ext cx="6553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3 января по 8 января 201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а прошла курсы повышения квалификации в Институте развития образования по теме:"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ализация требований Федеральных государственных образовательных стандартов 2 поколения в системе начального общего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№9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 по музыке с 1-7 классы по теме: «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нокультурное образование школьников на уроках музыки» апрель 2011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валификации по Основам религиозных культур и светской этики.2013год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кирский институт развития образования с 25.02.13г-02.03.13г. Тема «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сновы религиозных культур и светской этик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12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прохождении дистанционного обучения по курс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" Личностно-ориентированный урок« №18135. 2013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танционные курсы повышения квалификации  в ИРО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 теме:«РЕАЛИЗАЦИЯ ДУХОВНО -НРАВСТВЕННОГО РАЗВИТИЯ И ВОСПИТАНИЯ ЛИЧНОСТИ В ОУ В УСЛОВИЯХ ФГОС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НОЯБРЯ-12 ДЕКАБРЯ 2013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т  за участие в республиканском обучающем  семинаре  по теме "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етодика эффективного использования интерактивной доски  в образовательной деятельности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07.11по 09.11.201                                                                                        3года.Регистрационный номер №509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8" descr="CIMG1940.JPG"/>
          <p:cNvPicPr/>
          <p:nvPr/>
        </p:nvPicPr>
        <p:blipFill>
          <a:blip r:embed="rId1"/>
          <a:stretch/>
        </p:blipFill>
        <p:spPr>
          <a:xfrm>
            <a:off x="304920" y="990720"/>
            <a:ext cx="20574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ПОВЫШЕНИЕ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380880" y="6095880"/>
            <a:ext cx="8467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КВАЛИФИКАЦИИ</a:t>
            </a:r>
            <a:endParaRPr b="1" lang="en-US" sz="7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34:07Z</dcterms:created>
  <dc:creator>User</dc:creator>
  <dc:description/>
  <dc:language>en-US</dc:language>
  <cp:lastModifiedBy>User</cp:lastModifiedBy>
  <dcterms:modified xsi:type="dcterms:W3CDTF">2014-12-06T17:34:44Z</dcterms:modified>
  <cp:revision>1</cp:revision>
  <dc:subject/>
  <dc:title>Слайд 1</dc:title>
</cp:coreProperties>
</file>