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F3AC-95BA-43C1-AA6E-4DF3913596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BE48-27C2-4DDC-B520-67FBF16B48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3A48-CF75-4487-9C54-21A75B0161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8EB0-99BC-4B83-8A74-EF5782C06A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5EFF-107D-45AE-8DE4-276E19A273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EA55-EEA9-4BFA-A7EA-D1632EE1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756C-633C-4BC3-9BA6-FCA9F55F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70BF-F449-4269-A8D3-B46987F5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6953-827E-43AD-BBAC-EE338823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3A78-9BEF-4503-A694-AFD1978C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B9C0-C8D3-44B6-8AB2-822E045B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AC40-7CAB-49A8-A18D-61366201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B9A6-862A-4C30-9058-91D605A3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BD53-6FD7-420F-BB41-CC956081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7B88-38C3-45D9-8988-F9021FA2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2B1F-42F8-469D-826B-714EBAAE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E667-6EA0-421A-9A04-C9D9ECCF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1C1F-3AA6-48E0-BFBB-089E4236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B148-1A9C-44BB-BDA3-F2FB7722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F93D-1FBC-4C32-9F98-E69512B1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EA70-A160-407B-8341-FBDC53B3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2E26-DD58-4F66-9C02-74CC5837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5F5C-49AE-4A65-BE8B-E69A8309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E31E-CB7C-4383-B306-4084FDE4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0C26-7EEC-485B-B729-765E844A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1087-421B-49B9-BF94-08D60D69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5970-8DAD-4144-AA04-1A7BB08C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DBBB-49EC-4F04-A12C-E5DCAD2F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DCC1-90AB-42ED-80D7-ACD0D817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3B61-049C-4053-99C6-6682A9B184B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D333-5E35-45F2-95A1-A0BD1B535F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2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6"/>
          <p:cNvSpPr txBox="1"/>
          <p:nvPr/>
        </p:nvSpPr>
        <p:spPr>
          <a:xfrm>
            <a:off x="1447920" y="4876920"/>
            <a:ext cx="72388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 </a:t>
            </a: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380880" y="4419720"/>
            <a:ext cx="5867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 </a:t>
            </a: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                   </a:t>
            </a: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457200" y="2286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33"/>
                    </a:gs>
                    <a:gs pos="100000">
                      <a:srgbClr val="3366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 </a:t>
            </a: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33"/>
                  </a:gs>
                  <a:gs pos="100000">
                    <a:srgbClr val="3366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92" name="Содержимое 8" descr="CIMG2165.JPG"/>
          <p:cNvPicPr/>
          <p:nvPr/>
        </p:nvPicPr>
        <p:blipFill>
          <a:blip r:embed="rId12"/>
          <a:stretch/>
        </p:blipFill>
        <p:spPr>
          <a:xfrm>
            <a:off x="914400" y="152568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6" descr="CIMG2169.JPG"/>
          <p:cNvPicPr/>
          <p:nvPr/>
        </p:nvPicPr>
        <p:blipFill>
          <a:blip r:embed="rId13"/>
          <a:stretch/>
        </p:blipFill>
        <p:spPr>
          <a:xfrm>
            <a:off x="5122800" y="1371600"/>
            <a:ext cx="3251160" cy="2438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049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я методическая 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437920" y="990360"/>
            <a:ext cx="5791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«Здоровьесберегающие  технолог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а уроках и во внеурочное врем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105160" y="1599840"/>
            <a:ext cx="33526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17" descr="P1050542.JPG"/>
          <p:cNvPicPr/>
          <p:nvPr/>
        </p:nvPicPr>
        <p:blipFill>
          <a:blip r:embed="rId14"/>
          <a:stretch/>
        </p:blipFill>
        <p:spPr>
          <a:xfrm>
            <a:off x="457200" y="4419720"/>
            <a:ext cx="3505320" cy="205740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18" descr="P1050550.JPG"/>
          <p:cNvPicPr/>
          <p:nvPr/>
        </p:nvPicPr>
        <p:blipFill>
          <a:blip r:embed="rId15"/>
          <a:stretch/>
        </p:blipFill>
        <p:spPr>
          <a:xfrm>
            <a:off x="4648320" y="4038480"/>
            <a:ext cx="4076640" cy="2438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16"/>
          <p:cNvSpPr/>
          <p:nvPr/>
        </p:nvSpPr>
        <p:spPr>
          <a:xfrm>
            <a:off x="457200" y="6094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457200" y="1295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29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1f497d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:</a:t>
            </a:r>
            <a:endParaRPr b="0" lang="en-US" sz="1800" spc="1" strike="noStrike">
              <a:ln w="28440">
                <a:solidFill>
                  <a:srgbClr val="1f497d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0" y="609480"/>
            <a:ext cx="914400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Спорт     ребятам   очень    нужен  ,</a:t>
            </a:r>
            <a:endParaRPr b="0" lang="en-US" sz="20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00"/>
                  </a:gs>
                  <a:gs pos="100000">
                    <a:srgbClr val="ff33cc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ы    со   спортом  крепко дружим .  </a:t>
            </a:r>
            <a:endParaRPr b="0" lang="en-US" sz="20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00"/>
                  </a:gs>
                  <a:gs pos="100000">
                    <a:srgbClr val="ff33cc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0" y="5886360"/>
            <a:ext cx="91440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орт  -   помощник  ,  спорт  -  здоровье , </a:t>
            </a:r>
            <a:endParaRPr b="0" lang="en-US" sz="20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00"/>
                  </a:gs>
                  <a:gs pos="100000">
                    <a:srgbClr val="ff33cc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орт  - игра ."  </a:t>
            </a:r>
            <a:endParaRPr b="0" lang="en-US" sz="20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00"/>
                  </a:gs>
                  <a:gs pos="100000">
                    <a:srgbClr val="ff33cc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Содержимое 9" descr="CIMG2480.JPG"/>
          <p:cNvPicPr/>
          <p:nvPr/>
        </p:nvPicPr>
        <p:blipFill>
          <a:blip r:embed="rId1"/>
          <a:stretch/>
        </p:blipFill>
        <p:spPr>
          <a:xfrm>
            <a:off x="384120" y="2523960"/>
            <a:ext cx="4297320" cy="332280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9" descr="CIMG2382.JPG"/>
          <p:cNvPicPr/>
          <p:nvPr/>
        </p:nvPicPr>
        <p:blipFill>
          <a:blip r:embed="rId2"/>
          <a:stretch/>
        </p:blipFill>
        <p:spPr>
          <a:xfrm>
            <a:off x="4800600" y="2590920"/>
            <a:ext cx="38098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7" descr="CIMG2399.JPG"/>
          <p:cNvPicPr/>
          <p:nvPr/>
        </p:nvPicPr>
        <p:blipFill>
          <a:blip r:embed="rId1"/>
          <a:stretch/>
        </p:blipFill>
        <p:spPr>
          <a:xfrm>
            <a:off x="57240" y="1454040"/>
            <a:ext cx="4591080" cy="344340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6" descr="CIMG2229.JPG"/>
          <p:cNvPicPr/>
          <p:nvPr/>
        </p:nvPicPr>
        <p:blipFill>
          <a:blip r:embed="rId2"/>
          <a:stretch/>
        </p:blipFill>
        <p:spPr>
          <a:xfrm>
            <a:off x="4876920" y="1569960"/>
            <a:ext cx="4244760" cy="3184560"/>
          </a:xfrm>
          <a:prstGeom prst="rect">
            <a:avLst/>
          </a:prstGeom>
          <a:ln w="0">
            <a:noFill/>
          </a:ln>
        </p:spPr>
      </p:pic>
      <p:pic>
        <p:nvPicPr>
          <p:cNvPr id="107" name="WordArt 2" descr=""/>
          <p:cNvPicPr/>
          <p:nvPr/>
        </p:nvPicPr>
        <p:blipFill>
          <a:blip r:embed="rId3"/>
          <a:stretch/>
        </p:blipFill>
        <p:spPr>
          <a:xfrm>
            <a:off x="523800" y="219240"/>
            <a:ext cx="8278920" cy="811080"/>
          </a:xfrm>
          <a:prstGeom prst="rect">
            <a:avLst/>
          </a:prstGeom>
          <a:ln w="0">
            <a:noFill/>
          </a:ln>
        </p:spPr>
      </p:pic>
      <p:sp>
        <p:nvSpPr>
          <p:cNvPr id="108" name="WordArt 2"/>
          <p:cNvSpPr txBox="1"/>
          <p:nvPr/>
        </p:nvSpPr>
        <p:spPr>
          <a:xfrm>
            <a:off x="380880" y="5867280"/>
            <a:ext cx="8534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ffff00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ffff00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изовые места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ffff00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9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036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29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Урок технологи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4720" y="1447920"/>
            <a:ext cx="4041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Работа в группа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13" descr="1686ee7457fe4cb1872e4e6056d133fd.jpg"/>
          <p:cNvPicPr/>
          <p:nvPr/>
        </p:nvPicPr>
        <p:blipFill>
          <a:blip r:embed="rId2"/>
          <a:stretch/>
        </p:blipFill>
        <p:spPr>
          <a:xfrm>
            <a:off x="5029200" y="1905120"/>
            <a:ext cx="3736800" cy="3962160"/>
          </a:xfrm>
          <a:prstGeom prst="rect">
            <a:avLst/>
          </a:prstGeom>
          <a:ln w="0">
            <a:noFill/>
          </a:ln>
        </p:spPr>
      </p:pic>
      <p:sp>
        <p:nvSpPr>
          <p:cNvPr id="114" name="WordArt 6"/>
          <p:cNvSpPr txBox="1"/>
          <p:nvPr/>
        </p:nvSpPr>
        <p:spPr>
          <a:xfrm>
            <a:off x="457200" y="2286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Constantia"/>
              </a:rPr>
              <a:t> </a:t>
            </a: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Constantia"/>
              <a:ea typeface="Constantia"/>
            </a:endParaRPr>
          </a:p>
        </p:txBody>
      </p:sp>
      <p:pic>
        <p:nvPicPr>
          <p:cNvPr id="115" name="Содержимое 8" descr="CIMG2165.JPG"/>
          <p:cNvPicPr/>
          <p:nvPr/>
        </p:nvPicPr>
        <p:blipFill>
          <a:blip r:embed="rId3"/>
          <a:stretch/>
        </p:blipFill>
        <p:spPr>
          <a:xfrm>
            <a:off x="457200" y="1981080"/>
            <a:ext cx="4038480" cy="398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C 0.012 -0.02585 0.033 -0.06319 0.058 -0.06319 C 0.095 -0.06319 0.125 -0.02441 0.125 0.02441 C 0.125 0.04021 0.122 0.05457 0.116 0.0675 C 0.117 0.0675 0 0.26137 0 0.2628 C 0 0.26137 -0.117 0.0675 -0.116 0.0675 C -0.122 0.05457 -0.125 0.04021 -0.125 0.02441 C -0.125 -0.02441 -0.095 -0.06319 -0.057 -0.06319 C -0.033 -0.06319 -0.012 -0.02585 0 0 Z">
                                      <p:cBhvr>
                                        <p:cTn id="49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6T17:34:07Z</dcterms:created>
  <dc:creator>User</dc:creator>
  <dc:description/>
  <dc:language>en-US</dc:language>
  <cp:lastModifiedBy>User</cp:lastModifiedBy>
  <dcterms:modified xsi:type="dcterms:W3CDTF">2014-12-06T17:44:17Z</dcterms:modified>
  <cp:revision>2</cp:revision>
  <dc:subject/>
  <dc:title>Слайд 1</dc:title>
</cp:coreProperties>
</file>