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2023-34E3-44F0-9B88-1246496E8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59F-6B19-4135-81DE-C0D1143390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729E-4259-407A-95C7-3886E454D9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5DB6-30B7-4504-BCCF-E72F130EFA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C0B7-B27F-442A-8D38-2EAD9EA03A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6CB-7570-4975-B03E-E195FDAC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624-4285-4B80-8759-0BF99B4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912-F1A8-4490-9ADE-4F22F3D6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5D8-0254-4674-9120-5511B829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75BC-0E90-4A81-A2EE-87A0441B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FB16-A53D-4698-848D-3FAB6D5A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2CCD-2C2A-4417-B0C9-CBE03A76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6355-789B-4C2A-9A90-B1D2F5A6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113E-AA13-48DD-95ED-C89C74F1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B96D-08FF-4CC7-860D-B12BF4A2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4FD9-BE85-4C32-BA27-E2B85C5B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886-BB53-4BAA-A0E3-410C9A9E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38D6-8F06-4479-BF53-A56A078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A755-6038-48DD-B991-447720A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112E-F298-4F14-B12D-3FEE5B86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65EB-927D-4561-88D7-60E8DA04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D947-CA8A-412B-80C4-ED651341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CF6-B96A-47BC-A6A0-79FAB4F6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AB2-842E-44F1-8271-2159E8CA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7D2-6123-422D-A835-9F7DC2C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DA4-3A24-474C-8054-E7721FA4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61D-591A-40FA-A291-80D9C09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CCA-F5D6-4E1E-B3D7-93A058E0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C7A-C35C-40D4-B5B2-C5D9901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93A0-6702-455D-92E6-38481C9C16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172C-D724-4EC3-B44C-2E6B3E52A0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2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6"/>
          <p:cNvSpPr txBox="1"/>
          <p:nvPr/>
        </p:nvSpPr>
        <p:spPr>
          <a:xfrm>
            <a:off x="1447920" y="4876920"/>
            <a:ext cx="7238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4419720"/>
            <a:ext cx="5867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                 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33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33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92" name="Содержимое 8" descr="CIMG2165.JPG"/>
          <p:cNvPicPr/>
          <p:nvPr/>
        </p:nvPicPr>
        <p:blipFill>
          <a:blip r:embed="rId12"/>
          <a:stretch/>
        </p:blipFill>
        <p:spPr>
          <a:xfrm>
            <a:off x="914400" y="1525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6" descr="CIMG2169.JPG"/>
          <p:cNvPicPr/>
          <p:nvPr/>
        </p:nvPicPr>
        <p:blipFill>
          <a:blip r:embed="rId13"/>
          <a:stretch/>
        </p:blipFill>
        <p:spPr>
          <a:xfrm>
            <a:off x="5122800" y="13716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я методическая 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37920" y="9903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Здоровьесберегающие  техн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 уроках и во внеурочное врем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05160" y="1599840"/>
            <a:ext cx="33526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17" descr="P1050542.JPG"/>
          <p:cNvPicPr/>
          <p:nvPr/>
        </p:nvPicPr>
        <p:blipFill>
          <a:blip r:embed="rId14"/>
          <a:stretch/>
        </p:blipFill>
        <p:spPr>
          <a:xfrm>
            <a:off x="457200" y="4419720"/>
            <a:ext cx="350532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18" descr="P1050550.JPG"/>
          <p:cNvPicPr/>
          <p:nvPr/>
        </p:nvPicPr>
        <p:blipFill>
          <a:blip r:embed="rId15"/>
          <a:stretch/>
        </p:blipFill>
        <p:spPr>
          <a:xfrm>
            <a:off x="4648320" y="4038480"/>
            <a:ext cx="407664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457200" y="6094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29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1f497d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28440">
                <a:solidFill>
                  <a:srgbClr val="1f497d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0" y="609480"/>
            <a:ext cx="91440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порт     ребятам   очень    нужен  ,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   со   спортом  крепко дружим . 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0" y="5886360"/>
            <a:ext cx="9144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рт  -   помощник  ,  спорт  -  здоровье ,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рт  - игра ." 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Содержимое 9" descr="CIMG2480.JPG"/>
          <p:cNvPicPr/>
          <p:nvPr/>
        </p:nvPicPr>
        <p:blipFill>
          <a:blip r:embed="rId1"/>
          <a:stretch/>
        </p:blipFill>
        <p:spPr>
          <a:xfrm>
            <a:off x="384120" y="2523960"/>
            <a:ext cx="4297320" cy="332280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9" descr="CIMG2382.JPG"/>
          <p:cNvPicPr/>
          <p:nvPr/>
        </p:nvPicPr>
        <p:blipFill>
          <a:blip r:embed="rId2"/>
          <a:stretch/>
        </p:blipFill>
        <p:spPr>
          <a:xfrm>
            <a:off x="4800600" y="259092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7" descr="CIMG2399.JPG"/>
          <p:cNvPicPr/>
          <p:nvPr/>
        </p:nvPicPr>
        <p:blipFill>
          <a:blip r:embed="rId1"/>
          <a:stretch/>
        </p:blipFill>
        <p:spPr>
          <a:xfrm>
            <a:off x="57240" y="1454040"/>
            <a:ext cx="4591080" cy="344340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6" descr="CIMG2229.JPG"/>
          <p:cNvPicPr/>
          <p:nvPr/>
        </p:nvPicPr>
        <p:blipFill>
          <a:blip r:embed="rId2"/>
          <a:stretch/>
        </p:blipFill>
        <p:spPr>
          <a:xfrm>
            <a:off x="4876920" y="1569960"/>
            <a:ext cx="4244760" cy="31845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2" descr=""/>
          <p:cNvPicPr/>
          <p:nvPr/>
        </p:nvPicPr>
        <p:blipFill>
          <a:blip r:embed="rId3"/>
          <a:stretch/>
        </p:blipFill>
        <p:spPr>
          <a:xfrm>
            <a:off x="523800" y="219240"/>
            <a:ext cx="8278920" cy="811080"/>
          </a:xfrm>
          <a:prstGeom prst="rect">
            <a:avLst/>
          </a:prstGeom>
          <a:ln w="0">
            <a:noFill/>
          </a:ln>
        </p:spPr>
      </p:pic>
      <p:sp>
        <p:nvSpPr>
          <p:cNvPr id="108" name="WordArt 2"/>
          <p:cNvSpPr txBox="1"/>
          <p:nvPr/>
        </p:nvSpPr>
        <p:spPr>
          <a:xfrm>
            <a:off x="380880" y="5867280"/>
            <a:ext cx="853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ffff00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ffff00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зовые места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ffff00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36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Урок технолог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4720" y="144792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бота в групп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13" descr="1686ee7457fe4cb1872e4e6056d133fd.jpg"/>
          <p:cNvPicPr/>
          <p:nvPr/>
        </p:nvPicPr>
        <p:blipFill>
          <a:blip r:embed="rId2"/>
          <a:stretch/>
        </p:blipFill>
        <p:spPr>
          <a:xfrm>
            <a:off x="5029200" y="1905120"/>
            <a:ext cx="3736800" cy="396216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onstantia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onstantia"/>
              <a:ea typeface="Constantia"/>
            </a:endParaRPr>
          </a:p>
        </p:txBody>
      </p:sp>
      <p:pic>
        <p:nvPicPr>
          <p:cNvPr id="115" name="Содержимое 8" descr="CIMG2165.JPG"/>
          <p:cNvPicPr/>
          <p:nvPr/>
        </p:nvPicPr>
        <p:blipFill>
          <a:blip r:embed="rId3"/>
          <a:stretch/>
        </p:blipFill>
        <p:spPr>
          <a:xfrm>
            <a:off x="457200" y="1981080"/>
            <a:ext cx="4038480" cy="398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C 0.012 -0.02585 0.033 -0.06319 0.058 -0.06319 C 0.095 -0.06319 0.125 -0.02441 0.125 0.02441 C 0.125 0.04021 0.122 0.05457 0.116 0.0675 C 0.117 0.0675 0 0.26137 0 0.2628 C 0 0.26137 -0.117 0.0675 -0.116 0.0675 C -0.122 0.05457 -0.125 0.04021 -0.125 0.02441 C -0.125 -0.02441 -0.095 -0.06319 -0.057 -0.06319 C -0.033 -0.06319 -0.012 -0.02585 0 0 Z">
                                      <p:cBhvr>
                                        <p:cTn id="4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34:07Z</dcterms:created>
  <dc:creator>User</dc:creator>
  <dc:description/>
  <dc:language>en-US</dc:language>
  <cp:lastModifiedBy>User</cp:lastModifiedBy>
  <dcterms:modified xsi:type="dcterms:W3CDTF">2014-12-06T17:44:17Z</dcterms:modified>
  <cp:revision>2</cp:revision>
  <dc:subject/>
  <dc:title>Слайд 1</dc:title>
</cp:coreProperties>
</file>