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3D77-9BA2-4965-B128-505BFCB1DA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C3FE-9D9E-43F4-8841-0D5D07F99E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1FD9-0A95-4D6B-8E19-0C93195507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E19A-1540-4D37-9641-7C9BB125D5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8945-A2F7-4E20-8DC8-B089766D67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916-86B3-446F-A2F4-48AB7EA5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CD0-1AE1-4978-8711-EDD07AE7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925-02E1-4868-B22C-9981E96E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6C3-3858-4086-ACB7-0275C12E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FEBA-0595-4172-BB0E-A54D460E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00D5-9B38-4A93-B7C3-60C768AA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B801-378E-411D-A5DD-0117E238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BBEC-557A-4630-A933-D0A9C324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FC0D-A040-48F9-8444-61112525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DE03-3CD4-44F8-B200-363CAF42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DC36-7F52-4D40-8E75-BC27AAAD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F06-3741-4EEC-907A-B8E70EC7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430F-25AF-4692-B6F5-FAA8ACD7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1067-3C3C-48F4-A8EE-32A71A12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748F-3E8D-44AB-9281-D2B2CF63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DBA5-3700-411B-8314-88AF7539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A7F0-C642-41DD-A71E-C0C92149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548-397A-4A5C-9CE0-3DF52442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456-286C-49BB-9F3D-98E0EC5B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F94-950D-4595-BF8B-41512369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60D-8467-4650-ABC0-314AA0C9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DF08-3E6E-439E-B63F-7D53E2A3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71AF-BD47-4DBD-9B90-09D21904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31F5-2E31-42C5-9FEE-1EC9C091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AFBA-137C-401D-8166-15ECB8AE16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7F66-4460-45A0-BC5C-1851CD0AE0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2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6"/>
          <p:cNvSpPr txBox="1"/>
          <p:nvPr/>
        </p:nvSpPr>
        <p:spPr>
          <a:xfrm>
            <a:off x="1447920" y="4876920"/>
            <a:ext cx="72388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 </a:t>
            </a: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380880" y="4419720"/>
            <a:ext cx="5867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 </a:t>
            </a: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                   </a:t>
            </a: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457200" y="2286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33"/>
                    </a:gs>
                    <a:gs pos="100000">
                      <a:srgbClr val="3366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 </a:t>
            </a: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33"/>
                  </a:gs>
                  <a:gs pos="100000">
                    <a:srgbClr val="3366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92" name="Содержимое 8" descr="CIMG2165.JPG"/>
          <p:cNvPicPr/>
          <p:nvPr/>
        </p:nvPicPr>
        <p:blipFill>
          <a:blip r:embed="rId12"/>
          <a:stretch/>
        </p:blipFill>
        <p:spPr>
          <a:xfrm>
            <a:off x="914400" y="152568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6" descr="CIMG2169.JPG"/>
          <p:cNvPicPr/>
          <p:nvPr/>
        </p:nvPicPr>
        <p:blipFill>
          <a:blip r:embed="rId13"/>
          <a:stretch/>
        </p:blipFill>
        <p:spPr>
          <a:xfrm>
            <a:off x="5122800" y="1371600"/>
            <a:ext cx="3251160" cy="2438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049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я методическая 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437920" y="990360"/>
            <a:ext cx="5791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«Здоровьесберегающие  технолог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а уроках и во внеурочное врем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105160" y="1599840"/>
            <a:ext cx="33526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17" descr="P1050542.JPG"/>
          <p:cNvPicPr/>
          <p:nvPr/>
        </p:nvPicPr>
        <p:blipFill>
          <a:blip r:embed="rId14"/>
          <a:stretch/>
        </p:blipFill>
        <p:spPr>
          <a:xfrm>
            <a:off x="457200" y="4419720"/>
            <a:ext cx="3505320" cy="205740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18" descr="P1050550.JPG"/>
          <p:cNvPicPr/>
          <p:nvPr/>
        </p:nvPicPr>
        <p:blipFill>
          <a:blip r:embed="rId15"/>
          <a:stretch/>
        </p:blipFill>
        <p:spPr>
          <a:xfrm>
            <a:off x="4648320" y="4038480"/>
            <a:ext cx="4076640" cy="2438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16"/>
          <p:cNvSpPr/>
          <p:nvPr/>
        </p:nvSpPr>
        <p:spPr>
          <a:xfrm>
            <a:off x="457200" y="6094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457200" y="1295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29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1f497d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:</a:t>
            </a:r>
            <a:endParaRPr b="0" lang="en-US" sz="1800" spc="1" strike="noStrike">
              <a:ln w="28440">
                <a:solidFill>
                  <a:srgbClr val="1f497d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0" y="609480"/>
            <a:ext cx="914400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Спорт     ребятам   очень    нужен  ,</a:t>
            </a:r>
            <a:endParaRPr b="0" lang="en-US" sz="20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ы    со   спортом  крепко дружим .  </a:t>
            </a:r>
            <a:endParaRPr b="0" lang="en-US" sz="20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0" y="5886360"/>
            <a:ext cx="91440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орт  -   помощник  ,  спорт  -  здоровье , </a:t>
            </a:r>
            <a:endParaRPr b="0" lang="en-US" sz="20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орт  - игра ."  </a:t>
            </a:r>
            <a:endParaRPr b="0" lang="en-US" sz="20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Содержимое 9" descr="CIMG2480.JPG"/>
          <p:cNvPicPr/>
          <p:nvPr/>
        </p:nvPicPr>
        <p:blipFill>
          <a:blip r:embed="rId1"/>
          <a:stretch/>
        </p:blipFill>
        <p:spPr>
          <a:xfrm>
            <a:off x="384120" y="2523960"/>
            <a:ext cx="4297320" cy="332280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9" descr="CIMG2382.JPG"/>
          <p:cNvPicPr/>
          <p:nvPr/>
        </p:nvPicPr>
        <p:blipFill>
          <a:blip r:embed="rId2"/>
          <a:stretch/>
        </p:blipFill>
        <p:spPr>
          <a:xfrm>
            <a:off x="4800600" y="2590920"/>
            <a:ext cx="38098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7" descr="CIMG2399.JPG"/>
          <p:cNvPicPr/>
          <p:nvPr/>
        </p:nvPicPr>
        <p:blipFill>
          <a:blip r:embed="rId1"/>
          <a:stretch/>
        </p:blipFill>
        <p:spPr>
          <a:xfrm>
            <a:off x="57240" y="1454040"/>
            <a:ext cx="4591080" cy="344340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6" descr="CIMG2229.JPG"/>
          <p:cNvPicPr/>
          <p:nvPr/>
        </p:nvPicPr>
        <p:blipFill>
          <a:blip r:embed="rId2"/>
          <a:stretch/>
        </p:blipFill>
        <p:spPr>
          <a:xfrm>
            <a:off x="4876920" y="1569960"/>
            <a:ext cx="4244760" cy="3184560"/>
          </a:xfrm>
          <a:prstGeom prst="rect">
            <a:avLst/>
          </a:prstGeom>
          <a:ln w="0">
            <a:noFill/>
          </a:ln>
        </p:spPr>
      </p:pic>
      <p:pic>
        <p:nvPicPr>
          <p:cNvPr id="107" name="WordArt 2" descr=""/>
          <p:cNvPicPr/>
          <p:nvPr/>
        </p:nvPicPr>
        <p:blipFill>
          <a:blip r:embed="rId3"/>
          <a:stretch/>
        </p:blipFill>
        <p:spPr>
          <a:xfrm>
            <a:off x="523800" y="219240"/>
            <a:ext cx="8278920" cy="811080"/>
          </a:xfrm>
          <a:prstGeom prst="rect">
            <a:avLst/>
          </a:prstGeom>
          <a:ln w="0">
            <a:noFill/>
          </a:ln>
        </p:spPr>
      </p:pic>
      <p:sp>
        <p:nvSpPr>
          <p:cNvPr id="108" name="WordArt 2"/>
          <p:cNvSpPr txBox="1"/>
          <p:nvPr/>
        </p:nvSpPr>
        <p:spPr>
          <a:xfrm>
            <a:off x="380880" y="5867280"/>
            <a:ext cx="8534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ffff00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ffff00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изовые места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ffff00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9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036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29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Урок технологи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4720" y="1447920"/>
            <a:ext cx="4041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абота в группа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13" descr="1686ee7457fe4cb1872e4e6056d133fd.jpg"/>
          <p:cNvPicPr/>
          <p:nvPr/>
        </p:nvPicPr>
        <p:blipFill>
          <a:blip r:embed="rId2"/>
          <a:stretch/>
        </p:blipFill>
        <p:spPr>
          <a:xfrm>
            <a:off x="5029200" y="1905120"/>
            <a:ext cx="3736800" cy="396216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>
            <a:off x="457200" y="2286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Constantia"/>
              </a:rPr>
              <a:t> </a:t>
            </a: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Constantia"/>
              <a:ea typeface="Constantia"/>
            </a:endParaRPr>
          </a:p>
        </p:txBody>
      </p:sp>
      <p:pic>
        <p:nvPicPr>
          <p:cNvPr id="115" name="Содержимое 8" descr="CIMG2165.JPG"/>
          <p:cNvPicPr/>
          <p:nvPr/>
        </p:nvPicPr>
        <p:blipFill>
          <a:blip r:embed="rId3"/>
          <a:stretch/>
        </p:blipFill>
        <p:spPr>
          <a:xfrm>
            <a:off x="457200" y="1981080"/>
            <a:ext cx="4038480" cy="398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C 0.012 -0.02585 0.033 -0.06319 0.058 -0.06319 C 0.095 -0.06319 0.125 -0.02441 0.125 0.02441 C 0.125 0.04021 0.122 0.05457 0.116 0.0675 C 0.117 0.0675 0 0.26137 0 0.2628 C 0 0.26137 -0.117 0.0675 -0.116 0.0675 C -0.122 0.05457 -0.125 0.04021 -0.125 0.02441 C -0.125 -0.02441 -0.095 -0.06319 -0.057 -0.06319 C -0.033 -0.06319 -0.012 -0.02585 0 0 Z">
                                      <p:cBhvr>
                                        <p:cTn id="49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6T17:34:07Z</dcterms:created>
  <dc:creator>User</dc:creator>
  <dc:description/>
  <dc:language>en-US</dc:language>
  <cp:lastModifiedBy>User</cp:lastModifiedBy>
  <dcterms:modified xsi:type="dcterms:W3CDTF">2014-12-06T17:44:17Z</dcterms:modified>
  <cp:revision>2</cp:revision>
  <dc:subject/>
  <dc:title>Слайд 1</dc:title>
</cp:coreProperties>
</file>