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5E5-CB7B-4E16-A212-2FE3C342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B53-9F94-4034-9EE6-C0574F0A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ABF-17B0-4EC4-B72E-8F70D9FB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52D-4B56-4A7A-97D1-8F290830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A7F0-1BC9-4583-868A-C35E6912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0E80-9529-4B00-A41E-27EC44BF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690E-0A4D-4F2F-BE03-E7891CE5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E598-29E6-4587-B112-0C20E25A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D716-085C-4CDB-8996-FBC8C4C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B38D-AAD7-48A0-AA8F-DACE94F5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89C3-708F-4BB6-BFDF-C744EFFE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80E-A9CC-4F64-93A4-A26FE4BA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4E4E-C48E-4707-8DCE-10674A7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5F2-BBBC-4F36-8304-949CDB37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544-065C-4EC2-9045-1EDA59B6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AF04-A4AB-455E-9C70-F8AFCAACB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32BE-A2DA-42D4-9BB3-333D8A41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991-8918-4D8F-91BC-8573138B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416-450B-46BB-983C-0172EF8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4B56-5445-455B-9E36-0B8280E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D35-3F9D-47E4-AB9E-7823AA28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BF1-C162-46D5-BAD6-2B95E16C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62D3-DA67-4E01-808F-46995C37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641-37A8-4128-AC99-2BC0DF3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9499-E3F6-4476-A61B-0A18373AF8D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69E8-22F0-48DF-B30E-23989942370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Структура программы на языке Паскал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ы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(а,b,.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а,b,..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список выводимых констант, переменных, выражени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(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ообщени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на экран выводится сообщ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пример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2*2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- выводит на экран: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RITE(‘2*2=’, 2*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водит на экран: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*2=4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присваи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менна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=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ыраж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=2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=5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y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x+z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:=y+z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ограмма, вычисляющая произведение чисе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iz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a,b,с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 integer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Begin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Введите три целых числа '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a,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:=a*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WriteL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'Их произведение равно '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;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ткомпилиров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набранную программу и исправи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шибк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, 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пусти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данную программу на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полнение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проверить правильность её работы для чисел -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, 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д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ктура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718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головок программ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дел описан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ело программы (раздел операторов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45200" y="1599840"/>
            <a:ext cx="3597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PROGRAM им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Const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=3.1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x, y: intege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головок программ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Program имя программы;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имени программы не должно быть пробел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мя не должно начинаться с циф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ит только из латинских букв, цифр и символа “_” (подчеркиван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льзя использовать зарезервированные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почему не работают программы с приведенными ниже заголовкам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ma Juk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 Begin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gram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школа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Определите, какие из приведенных ниже имен и почему нельзя использовать в заголовке програм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znev_Petr_11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7_1f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-C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tr Ivanov 10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b_Ivanov_Pet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fa/Be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12.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исани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раздел описаний констан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Con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=3.14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Va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 раздел описаний переменных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 x: integer; y: real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b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мет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процед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un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дел описаний фун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ses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раздел описаний моду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аздел оператор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инается со слова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ом записываю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ера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команды) язы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ними оператор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Readl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будет ожидать нажатия клавиши Enter в окне выполнения программы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вершается словом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End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сле которого ставится точ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GI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2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….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-1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ператор n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l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316080" y="5949000"/>
            <a:ext cx="88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!!! Операторы в языке Pascal отделяются друг от друг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ы (команд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31640" y="1585800"/>
            <a:ext cx="8208360" cy="4463640"/>
            <a:chOff x="431640" y="1585800"/>
            <a:chExt cx="8208360" cy="4463640"/>
          </a:xfrm>
        </p:grpSpPr>
        <p:cxnSp>
          <p:nvCxnSpPr>
            <p:cNvPr id="403" name="_s15387"/>
            <p:cNvCxnSpPr>
              <a:stCxn id="404" idx="3"/>
              <a:endCxn id="405" idx="2"/>
            </p:cNvCxnSpPr>
            <p:nvPr/>
          </p:nvCxnSpPr>
          <p:spPr>
            <a:xfrm flipV="1">
              <a:off x="707616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15385"/>
            <p:cNvCxnSpPr>
              <a:stCxn id="407" idx="3"/>
              <a:endCxn id="405" idx="2"/>
            </p:cNvCxnSpPr>
            <p:nvPr/>
          </p:nvCxnSpPr>
          <p:spPr>
            <a:xfrm flipV="1">
              <a:off x="7076160" y="317952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8" name="_s15383"/>
            <p:cNvCxnSpPr>
              <a:stCxn id="409" idx="3"/>
              <a:endCxn id="405" idx="2"/>
            </p:cNvCxnSpPr>
            <p:nvPr/>
          </p:nvCxnSpPr>
          <p:spPr>
            <a:xfrm flipV="1">
              <a:off x="7076160" y="3179520"/>
              <a:ext cx="391320" cy="635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0" name="_s15379"/>
            <p:cNvCxnSpPr>
              <a:stCxn id="411" idx="1"/>
              <a:endCxn id="412" idx="2"/>
            </p:cNvCxnSpPr>
            <p:nvPr/>
          </p:nvCxnSpPr>
          <p:spPr>
            <a:xfrm rot="10800000">
              <a:off x="1603440" y="3179160"/>
              <a:ext cx="391320" cy="2551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3" name="_s15377"/>
            <p:cNvCxnSpPr>
              <a:stCxn id="414" idx="1"/>
              <a:endCxn id="412" idx="2"/>
            </p:cNvCxnSpPr>
            <p:nvPr/>
          </p:nvCxnSpPr>
          <p:spPr>
            <a:xfrm rot="10800000">
              <a:off x="1603440" y="3179160"/>
              <a:ext cx="391320" cy="1594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5" name="_s15375"/>
            <p:cNvCxnSpPr>
              <a:stCxn id="416" idx="1"/>
              <a:endCxn id="412" idx="2"/>
            </p:cNvCxnSpPr>
            <p:nvPr/>
          </p:nvCxnSpPr>
          <p:spPr>
            <a:xfrm rot="10800000">
              <a:off x="1603440" y="3179160"/>
              <a:ext cx="391320" cy="6382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15372"/>
            <p:cNvCxnSpPr>
              <a:stCxn id="405" idx="0"/>
              <a:endCxn id="418" idx="2"/>
            </p:cNvCxnSpPr>
            <p:nvPr/>
          </p:nvCxnSpPr>
          <p:spPr>
            <a:xfrm flipV="1" rot="16200000">
              <a:off x="5842080" y="916200"/>
              <a:ext cx="319320" cy="293184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9" name="_s15371"/>
            <p:cNvCxnSpPr>
              <a:stCxn id="412" idx="0"/>
              <a:endCxn id="418" idx="2"/>
            </p:cNvCxnSpPr>
            <p:nvPr/>
          </p:nvCxnSpPr>
          <p:spPr>
            <a:xfrm flipH="1" flipV="1" rot="5400000">
              <a:off x="2910600" y="916200"/>
              <a:ext cx="319320" cy="2932560"/>
            </a:xfrm>
            <a:prstGeom prst="bentConnector3">
              <a:avLst>
                <a:gd name="adj1" fmla="val 357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8" name="_s15367"/>
            <p:cNvSpPr/>
            <p:nvPr/>
          </p:nvSpPr>
          <p:spPr>
            <a:xfrm>
              <a:off x="3363480" y="158580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Операторы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_s15368"/>
            <p:cNvSpPr/>
            <p:nvPr/>
          </p:nvSpPr>
          <p:spPr>
            <a:xfrm>
              <a:off x="43164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Простые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15369"/>
            <p:cNvSpPr/>
            <p:nvPr/>
          </p:nvSpPr>
          <p:spPr>
            <a:xfrm>
              <a:off x="6294960" y="254232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Составные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_s15374"/>
            <p:cNvSpPr/>
            <p:nvPr/>
          </p:nvSpPr>
          <p:spPr>
            <a:xfrm>
              <a:off x="1995120" y="349884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_s15376"/>
            <p:cNvSpPr/>
            <p:nvPr/>
          </p:nvSpPr>
          <p:spPr>
            <a:xfrm>
              <a:off x="1995120" y="445536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вод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_s15378"/>
            <p:cNvSpPr/>
            <p:nvPr/>
          </p:nvSpPr>
          <p:spPr>
            <a:xfrm>
              <a:off x="1995120" y="5411880"/>
              <a:ext cx="2345040" cy="6375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присваива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_s15382"/>
            <p:cNvSpPr/>
            <p:nvPr/>
          </p:nvSpPr>
          <p:spPr>
            <a:xfrm>
              <a:off x="4731480" y="349884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Условный операто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_s15384"/>
            <p:cNvSpPr/>
            <p:nvPr/>
          </p:nvSpPr>
          <p:spPr>
            <a:xfrm>
              <a:off x="4731480" y="4455360"/>
              <a:ext cx="234504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выбо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_s15386"/>
            <p:cNvSpPr/>
            <p:nvPr/>
          </p:nvSpPr>
          <p:spPr>
            <a:xfrm>
              <a:off x="4734360" y="5411880"/>
              <a:ext cx="2342160" cy="63540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Оператор цикл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ператор в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ви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(а,b,..,)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где а,b,... - имена вводимых переменных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READLN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применяется, когда исполнение программы желательно задержать до нажатия клавиши EN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0:31:22Z</dcterms:created>
  <dc:creator>Вера</dc:creator>
  <dc:description/>
  <dc:language>en-US</dc:language>
  <cp:lastModifiedBy>Вера</cp:lastModifiedBy>
  <dcterms:modified xsi:type="dcterms:W3CDTF">2010-11-23T10:17:57Z</dcterms:modified>
  <cp:revision>22</cp:revision>
  <dc:subject/>
  <dc:title>Структура программы на языке Паскаль</dc:title>
</cp:coreProperties>
</file>