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AA7D-4CD7-4C1B-90FF-442D342A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89D3-4679-4D88-909C-B2219974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A28-329A-4BDE-9B95-FB6CC3BB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829-AE04-4827-B52D-B128A11F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75A9-EB29-4AB1-A8FE-E31D274B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B34C-2081-4A80-B2D4-661D3617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E173-2E58-43F4-8CA1-20FAA749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C102-3A28-4C7F-AEE0-058C97E2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17E5-6199-4972-8F85-51BEE9C0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9043-9FDB-4F44-8E27-D6C9C3ED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1436-3495-4919-8B1F-89454F1F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CBDF-9195-4C35-BEBD-FEBDE24D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D25D-D7B7-462C-B04D-9FB00899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E5FE-8F2F-47C4-8C85-B8FC282D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CD72-0778-4F17-A43B-F16F722F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87E8-C870-42D2-9AAC-1641C25F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354E-0497-4ED5-B6CE-3C1AAEE4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513-9CE8-406C-B7A6-09C89CA8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FB4-50B6-4895-95D4-571EF991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073D-CAFA-44FF-A419-5E878590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CDD8-F23D-4351-80C0-627857D7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F21-999B-4A8E-B08E-540E5052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D041-0434-4A75-B4BC-96DC2B3D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9632-A5E9-4746-8E56-0B61E0FD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1AEC-A61F-4D0E-BDA6-0E2F0E897CE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5016-5DD2-49FA-8911-F5436FDC096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Структура программы на языке Паскал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ператор выво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ет вид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WRITE(а,b,...)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WRITELN(а,b,..)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где а,b,... - список выводимых констант, переменных, выражени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WRITELN(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общени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)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на экран выводится сообщ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пример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RITE(2*2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выводит на экран: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RITE(‘2*2=’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ыводит на экран: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2*2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RITE(‘2*2=’, 2*2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водит на экран: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2*2=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ператор присваив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менна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=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ыраж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=2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=5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:=x+y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:=x+z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:=y+z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рограмма, вычисляющая произведение чисе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Progra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iz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Va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a,b,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p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integer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Begin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WriteL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'Введите три целых числа ');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ReadL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a,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=a*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WriteL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'Их произведение равно '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;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ReadL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компилирова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набранную программу и исправить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шибк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пусти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данную программу на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ыполнен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 проверить правильность её работы для чисел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, 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пусти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данную программу на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ыполнен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 проверить правильность её работы для чисел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, 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пусти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данную программу на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ыполнен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 проверить правильность её работы для чисел -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, 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д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руктура програм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7181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головок програм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дел описан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ло программы (раздел операторов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45200" y="1599840"/>
            <a:ext cx="3597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PROGRAM им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Const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=3.14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x, y: integer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BEGIN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ератор 1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ератор 2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.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ератор n-1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ератор n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Readl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EN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головок програм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Program имя программы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имени программы не должно быть пробел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я не должно начинаться с циф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оит только из латинских букв, цифр и символа “_” (подчеркиван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льзя использовать зарезервированные сл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Определите, почему не работают программы с приведенными ниже заголовкам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gramma Juk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gram Begin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gram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школа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Определите, какие из приведенных ниже имен и почему нельзя использовать в заголовке программ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eznev_Petr_1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7_1f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g-C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r Ivanov 10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b_Ivanov_Pet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f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fa/Be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12.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здел описан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Const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раздел описаний конст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Cons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=3.14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Va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 раздел описаний переменных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 x: integer; y: real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b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дел описаний мет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ced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дел описаний процеду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un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дел описаний функ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e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раздел описаний моду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здел оператор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чинается со слова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том записываются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ператор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команды) язы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 ними оператор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Readl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будет ожидать нажатия клавиши Enter в окне выполнения программы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вершается словом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End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осле которого ставится точ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GI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ератор 1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ератор 2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.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ератор n-1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ератор n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l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316080" y="5949000"/>
            <a:ext cx="88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!!! Операторы в языке Pascal отделяются друг от друг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ператоры (команды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31640" y="1585800"/>
            <a:ext cx="8208360" cy="4463640"/>
            <a:chOff x="431640" y="1585800"/>
            <a:chExt cx="8208360" cy="4463640"/>
          </a:xfrm>
        </p:grpSpPr>
        <p:cxnSp>
          <p:nvCxnSpPr>
            <p:cNvPr id="403" name="_s15387"/>
            <p:cNvCxnSpPr>
              <a:stCxn id="404" idx="3"/>
              <a:endCxn id="405" idx="2"/>
            </p:cNvCxnSpPr>
            <p:nvPr/>
          </p:nvCxnSpPr>
          <p:spPr>
            <a:xfrm flipV="1">
              <a:off x="7076160" y="3179160"/>
              <a:ext cx="391320" cy="2551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6" name="_s15385"/>
            <p:cNvCxnSpPr>
              <a:stCxn id="407" idx="3"/>
              <a:endCxn id="405" idx="2"/>
            </p:cNvCxnSpPr>
            <p:nvPr/>
          </p:nvCxnSpPr>
          <p:spPr>
            <a:xfrm flipV="1">
              <a:off x="7076160" y="3179520"/>
              <a:ext cx="391320" cy="1594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8" name="_s15383"/>
            <p:cNvCxnSpPr>
              <a:stCxn id="409" idx="3"/>
              <a:endCxn id="405" idx="2"/>
            </p:cNvCxnSpPr>
            <p:nvPr/>
          </p:nvCxnSpPr>
          <p:spPr>
            <a:xfrm flipV="1">
              <a:off x="7076160" y="3179520"/>
              <a:ext cx="391320" cy="635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0" name="_s15379"/>
            <p:cNvCxnSpPr>
              <a:stCxn id="411" idx="1"/>
              <a:endCxn id="412" idx="2"/>
            </p:cNvCxnSpPr>
            <p:nvPr/>
          </p:nvCxnSpPr>
          <p:spPr>
            <a:xfrm rot="10800000">
              <a:off x="1603440" y="3179160"/>
              <a:ext cx="391320" cy="2551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3" name="_s15377"/>
            <p:cNvCxnSpPr>
              <a:stCxn id="414" idx="1"/>
              <a:endCxn id="412" idx="2"/>
            </p:cNvCxnSpPr>
            <p:nvPr/>
          </p:nvCxnSpPr>
          <p:spPr>
            <a:xfrm rot="10800000">
              <a:off x="1603440" y="3179160"/>
              <a:ext cx="391320" cy="1594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5" name="_s15375"/>
            <p:cNvCxnSpPr>
              <a:stCxn id="416" idx="1"/>
              <a:endCxn id="412" idx="2"/>
            </p:cNvCxnSpPr>
            <p:nvPr/>
          </p:nvCxnSpPr>
          <p:spPr>
            <a:xfrm rot="10800000">
              <a:off x="1603440" y="3179160"/>
              <a:ext cx="391320" cy="638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7" name="_s15372"/>
            <p:cNvCxnSpPr>
              <a:stCxn id="405" idx="0"/>
              <a:endCxn id="418" idx="2"/>
            </p:cNvCxnSpPr>
            <p:nvPr/>
          </p:nvCxnSpPr>
          <p:spPr>
            <a:xfrm flipV="1" rot="16200000">
              <a:off x="5842080" y="916200"/>
              <a:ext cx="319320" cy="2931840"/>
            </a:xfrm>
            <a:prstGeom prst="bentConnector3">
              <a:avLst>
                <a:gd name="adj1" fmla="val 357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9" name="_s15371"/>
            <p:cNvCxnSpPr>
              <a:stCxn id="412" idx="0"/>
              <a:endCxn id="418" idx="2"/>
            </p:cNvCxnSpPr>
            <p:nvPr/>
          </p:nvCxnSpPr>
          <p:spPr>
            <a:xfrm flipH="1" flipV="1" rot="5400000">
              <a:off x="2910600" y="916200"/>
              <a:ext cx="319320" cy="2932560"/>
            </a:xfrm>
            <a:prstGeom prst="bentConnector3">
              <a:avLst>
                <a:gd name="adj1" fmla="val 357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18" name="_s15367"/>
            <p:cNvSpPr/>
            <p:nvPr/>
          </p:nvSpPr>
          <p:spPr>
            <a:xfrm>
              <a:off x="3363480" y="1585800"/>
              <a:ext cx="2345040" cy="6375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Операторы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_s15368"/>
            <p:cNvSpPr/>
            <p:nvPr/>
          </p:nvSpPr>
          <p:spPr>
            <a:xfrm>
              <a:off x="431640" y="2542320"/>
              <a:ext cx="2345040" cy="6375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Простые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_s15369"/>
            <p:cNvSpPr/>
            <p:nvPr/>
          </p:nvSpPr>
          <p:spPr>
            <a:xfrm>
              <a:off x="6294960" y="2542320"/>
              <a:ext cx="2345040" cy="6375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Составные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_s15374"/>
            <p:cNvSpPr/>
            <p:nvPr/>
          </p:nvSpPr>
          <p:spPr>
            <a:xfrm>
              <a:off x="1995120" y="3498840"/>
              <a:ext cx="2345040" cy="6375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Оператор вво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_s15376"/>
            <p:cNvSpPr/>
            <p:nvPr/>
          </p:nvSpPr>
          <p:spPr>
            <a:xfrm>
              <a:off x="1995120" y="4455360"/>
              <a:ext cx="2345040" cy="6375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Оператор выво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_s15378"/>
            <p:cNvSpPr/>
            <p:nvPr/>
          </p:nvSpPr>
          <p:spPr>
            <a:xfrm>
              <a:off x="1995120" y="5411880"/>
              <a:ext cx="2345040" cy="6375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Оператор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присваив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_s15382"/>
            <p:cNvSpPr/>
            <p:nvPr/>
          </p:nvSpPr>
          <p:spPr>
            <a:xfrm>
              <a:off x="4731480" y="3498840"/>
              <a:ext cx="2345040" cy="63540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Условный оператор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_s15384"/>
            <p:cNvSpPr/>
            <p:nvPr/>
          </p:nvSpPr>
          <p:spPr>
            <a:xfrm>
              <a:off x="4731480" y="4455360"/>
              <a:ext cx="2345040" cy="63540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Оператор выбор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_s15386"/>
            <p:cNvSpPr/>
            <p:nvPr/>
          </p:nvSpPr>
          <p:spPr>
            <a:xfrm>
              <a:off x="4734360" y="5411880"/>
              <a:ext cx="2342160" cy="63540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Оператор цикл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ператор вво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ет вид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READLN(а,b,..,)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где а,b,... - имена вводимых переменных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READLN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применяется, когда исполнение программы желательно задержать до нажатия клавиши EN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0:31:22Z</dcterms:created>
  <dc:creator>Вера</dc:creator>
  <dc:description/>
  <dc:language>en-US</dc:language>
  <cp:lastModifiedBy>Вера</cp:lastModifiedBy>
  <dcterms:modified xsi:type="dcterms:W3CDTF">2010-11-23T10:17:57Z</dcterms:modified>
  <cp:revision>22</cp:revision>
  <dc:subject/>
  <dc:title>Структура программы на языке Паскаль</dc:title>
</cp:coreProperties>
</file>