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C8A-6757-4842-B14E-3A0FC9E0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07C-7DDC-463E-8B4A-B45335B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074-EDB5-4310-86AC-2CF8287B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FBA-06EF-4A3A-BA29-313877C8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D6E2-4E45-4B15-B7B7-9E8FBC4D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14D-24CC-4EBA-B6A0-5B0A3B2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8558-B7BC-4606-B5C8-D04F850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8C21-0EDA-40DF-89B9-0FFB9A9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267-3F34-4C21-87D9-91CA9C45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25E3-6375-46FA-B1F6-E4E7F259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7DBB-73D1-4A71-AC2C-2890F24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A03-EAE9-46FB-AFA1-D772B4AA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0B4B-FD7E-4B28-A402-035F4B1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6E99-F3A3-42BB-BE4F-82A867B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9C2-32BC-4B05-8374-257A825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772A-B67E-4F09-B035-DE97323D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875D-E399-4740-A78C-EDB8C620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E09-4B1F-4CED-988B-CD21BFB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7F2-B577-4344-80EE-1CAA27D9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2F6-3199-4665-9CE6-696E15E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7E2-B1FA-49DE-96FE-C4DC27F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571-B784-45EA-B9F4-7595FEB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BB7-3F7F-4916-93F8-7D0E6C6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F33-157E-4D97-A7E9-DE45E8F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672-3A7E-4140-9FCD-EA785A33F1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CB7-6C07-4A14-A9A4-41B566238D0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труктура программы на языке Паскал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ы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(а,b,.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а,b,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список выводимых констант, переменных, выражен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общ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 экран выводится сооб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пример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2*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выводит на экран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, 2*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присваи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мен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ра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=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5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z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y+z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ограмма, вычисляющая произведение чисе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iz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a,b,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integer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Begin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Введите три целых числа '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a,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=a*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Их произведение равно '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омпилиров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набранную программу и исправи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шиб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,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ктура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718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оловок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дел опис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ло программы (раздел операторов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45200" y="1599840"/>
            <a:ext cx="3597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PROGRAM им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Const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=3.1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x, y: intege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головок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Program имя программы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ени программы не должно быть пробе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не должно начинаться с циф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ит только из латинских букв, цифр и символа “_” (подчерки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использовать зарезервированные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почему не работают программы с приведенными ниже заголовка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ma Juk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Begin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школ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какие из приведенных ниже имен и почему нельзя использовать в заголовке програм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znev_Petr_1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7_1f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-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r Ivanov 10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b_Ivanov_Pet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/B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12.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иса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раздел описаний конст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=3.14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 раздел описаний переменных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 x: integer; y: real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м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процед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фун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раздел описаний моду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ерат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ется со слов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 записываю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ера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команды) язы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ними оператор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будет ожидать нажатия клавиши Enter в окне выполнения программы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ершается слово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сле которого ставится точ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16080" y="5949000"/>
            <a:ext cx="88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!!! Операторы в языке Pascal отделяются друг от друг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ы (команд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1640" y="1585800"/>
            <a:ext cx="8208360" cy="4463640"/>
            <a:chOff x="431640" y="1585800"/>
            <a:chExt cx="8208360" cy="4463640"/>
          </a:xfrm>
        </p:grpSpPr>
        <p:cxnSp>
          <p:nvCxnSpPr>
            <p:cNvPr id="403" name="_s15387"/>
            <p:cNvCxnSpPr>
              <a:stCxn id="404" idx="3"/>
              <a:endCxn id="405" idx="2"/>
            </p:cNvCxnSpPr>
            <p:nvPr/>
          </p:nvCxnSpPr>
          <p:spPr>
            <a:xfrm flipV="1">
              <a:off x="707616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15385"/>
            <p:cNvCxnSpPr>
              <a:stCxn id="407" idx="3"/>
              <a:endCxn id="405" idx="2"/>
            </p:cNvCxnSpPr>
            <p:nvPr/>
          </p:nvCxnSpPr>
          <p:spPr>
            <a:xfrm flipV="1">
              <a:off x="7076160" y="317952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8" name="_s15383"/>
            <p:cNvCxnSpPr>
              <a:stCxn id="409" idx="3"/>
              <a:endCxn id="405" idx="2"/>
            </p:cNvCxnSpPr>
            <p:nvPr/>
          </p:nvCxnSpPr>
          <p:spPr>
            <a:xfrm flipV="1">
              <a:off x="7076160" y="3179520"/>
              <a:ext cx="391320" cy="63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0" name="_s15379"/>
            <p:cNvCxnSpPr>
              <a:stCxn id="411" idx="1"/>
              <a:endCxn id="412" idx="2"/>
            </p:cNvCxnSpPr>
            <p:nvPr/>
          </p:nvCxnSpPr>
          <p:spPr>
            <a:xfrm rot="10800000">
              <a:off x="160344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5377"/>
            <p:cNvCxnSpPr>
              <a:stCxn id="414" idx="1"/>
              <a:endCxn id="412" idx="2"/>
            </p:cNvCxnSpPr>
            <p:nvPr/>
          </p:nvCxnSpPr>
          <p:spPr>
            <a:xfrm rot="10800000">
              <a:off x="1603440" y="317916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5" name="_s15375"/>
            <p:cNvCxnSpPr>
              <a:stCxn id="416" idx="1"/>
              <a:endCxn id="412" idx="2"/>
            </p:cNvCxnSpPr>
            <p:nvPr/>
          </p:nvCxnSpPr>
          <p:spPr>
            <a:xfrm rot="10800000">
              <a:off x="1603440" y="3179160"/>
              <a:ext cx="391320" cy="63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15372"/>
            <p:cNvCxnSpPr>
              <a:stCxn id="405" idx="0"/>
              <a:endCxn id="418" idx="2"/>
            </p:cNvCxnSpPr>
            <p:nvPr/>
          </p:nvCxnSpPr>
          <p:spPr>
            <a:xfrm flipV="1" rot="16200000">
              <a:off x="5842080" y="916200"/>
              <a:ext cx="319320" cy="293184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9" name="_s15371"/>
            <p:cNvCxnSpPr>
              <a:stCxn id="412" idx="0"/>
              <a:endCxn id="418" idx="2"/>
            </p:cNvCxnSpPr>
            <p:nvPr/>
          </p:nvCxnSpPr>
          <p:spPr>
            <a:xfrm flipH="1" flipV="1" rot="5400000">
              <a:off x="2910600" y="916200"/>
              <a:ext cx="319320" cy="293256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8" name="_s15367"/>
            <p:cNvSpPr/>
            <p:nvPr/>
          </p:nvSpPr>
          <p:spPr>
            <a:xfrm>
              <a:off x="3363480" y="158580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Оператор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5368"/>
            <p:cNvSpPr/>
            <p:nvPr/>
          </p:nvSpPr>
          <p:spPr>
            <a:xfrm>
              <a:off x="43164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Прост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15369"/>
            <p:cNvSpPr/>
            <p:nvPr/>
          </p:nvSpPr>
          <p:spPr>
            <a:xfrm>
              <a:off x="629496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остав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5374"/>
            <p:cNvSpPr/>
            <p:nvPr/>
          </p:nvSpPr>
          <p:spPr>
            <a:xfrm>
              <a:off x="1995120" y="349884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5376"/>
            <p:cNvSpPr/>
            <p:nvPr/>
          </p:nvSpPr>
          <p:spPr>
            <a:xfrm>
              <a:off x="1995120" y="445536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_s15378"/>
            <p:cNvSpPr/>
            <p:nvPr/>
          </p:nvSpPr>
          <p:spPr>
            <a:xfrm>
              <a:off x="1995120" y="541188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исваи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_s15382"/>
            <p:cNvSpPr/>
            <p:nvPr/>
          </p:nvSpPr>
          <p:spPr>
            <a:xfrm>
              <a:off x="4731480" y="349884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ный операто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15384"/>
            <p:cNvSpPr/>
            <p:nvPr/>
          </p:nvSpPr>
          <p:spPr>
            <a:xfrm>
              <a:off x="4731480" y="445536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б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_s15386"/>
            <p:cNvSpPr/>
            <p:nvPr/>
          </p:nvSpPr>
          <p:spPr>
            <a:xfrm>
              <a:off x="4734360" y="5411880"/>
              <a:ext cx="234216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цик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(а,b,..,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имена вводимых переменны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применяется, когда исполнение программы желательно задержать до нажатия клавиши EN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1:22Z</dcterms:created>
  <dc:creator>Вера</dc:creator>
  <dc:description/>
  <dc:language>en-US</dc:language>
  <cp:lastModifiedBy>Вера</cp:lastModifiedBy>
  <dcterms:modified xsi:type="dcterms:W3CDTF">2010-11-23T10:17:57Z</dcterms:modified>
  <cp:revision>22</cp:revision>
  <dc:subject/>
  <dc:title>Структура программы на языке Паскаль</dc:title>
</cp:coreProperties>
</file>