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454-C4F3-4050-BC80-ED66B86491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8CFA-2B37-41E8-A850-0742FE502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75E-D2C4-43F9-837E-6638ADE9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7C9-7140-430B-93BC-1B5F056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B2C-2947-4B42-8361-8184E456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8AE-8F4B-4E7E-B97C-D6691EB3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8D52-8DDB-4D90-A812-B0B023A8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610-E946-4C13-AC4A-9E6FA07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640-96B3-42E1-8B6E-57CB1F24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1AC-7E5B-4BA9-B45E-C155523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35A3-AA49-47E8-9E1F-C794C67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051D-2439-452A-A4D7-D928842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A4A2-C9EA-4B27-A460-DDBE6FBC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DBB-EACC-4121-B9F3-B5B139B2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6302-08F0-488F-8EA3-B6C38EC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286-5CB5-4BC6-B5B7-CA8BA06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2E07-A229-4D05-824C-FA7B899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6727-85AF-4D99-B2F2-A0DCBF54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E8CE-31BC-4391-B680-7CC78D4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DFA-CCC4-4499-B548-A6227F73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05C-E28D-47B7-BFC7-FC6DFAE9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F0B1-6CA3-4536-9337-833E0C4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015-701C-45FB-A947-AA02110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46D-A70D-484D-B664-F5EC24E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DE8-BF26-4486-8A3E-E89C0DB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A99-F898-439C-8FD6-C9DF990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44B5-82D3-4F49-8655-2FD7DFE3C80E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42F-6476-4BB9-836C-D8B8D6D5CA97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9;&#1091;&#1073;&#1085;&#1072;&#1103;%20&#1097;&#1077;&#1090;&#1082;&#1072;&amp;img_url=http%3A%2F%2Fi.bambiniya.ru%2Fpics%2Fproduct%2F200%2F99288.jpg&amp;pos=2&amp;uinfo=sw-845-sh-408-fw-765-fh-448-pd-1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89;&#1086;&#1089;&#1085;&#1086;&#1074;&#1099;&#1077;%20&#1096;&#1080;&#1096;&#1082;&#1080;&amp;img_url=http%3A%2F%2Fbbcont.ru%2Fuploads%2Fimages%2Fdefault%2Fthumb%2Fbiznes_po_prodazhe_shishek.jpeg&amp;pos=37&amp;uinfo=sw-845-sh-408-fw-765-fh-448-pd-1&amp;rpt=simage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yandex.ru/yandsearch?text=&#1078;&#1077;&#1083;&#1091;&#1076;&#1080;&amp;img_url=http%3A%2F%2Fwww.kak-sdelat.su%2Fuploads%2Fposts%2F2011-10%2F1317498108_osennie-podelki-iz-zheludey-svoimi-rukami.jpg&amp;pos=20&amp;uinfo=sw-845-sh-408-fw-765-fh-448-pd-1&amp;rpt=simage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72;&#1089;&#1089;&#1072;&#1078;&#1085;&#1099;&#1081;%20&#1084;&#1103;&#1095;&#1080;&#1082;%20&#1089;%20&#1096;&#1080;&#1087;&#1072;&#1084;&#1080;&amp;img_url=http%3A%2F%2Fpishikrasivo.ru%2Fsites%2Fdefault%2Ffiles%2F1_5.jpg&amp;pos=0&amp;uinfo=sw-1007-sh-483-fw-782-fh-448-pd-1&amp;rpt=simage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95;&#1077;&#1090;&#1082;&#1080;%20&#1073;&#1091;&#1089;&#1099;&amp;img_url=http%3A%2F%2Fcs1.livemaster.ru%2Ffoto%2F400%2F4%2F9%2F4%2F2004384.jpg&amp;pos=43&amp;uinfo=sw-845-sh-408-fw-765-fh-448-pd-1&amp;rpt=simage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yandex.ru/yandsearch?p=1&amp;text=&#1095;&#1077;&#1090;&#1082;&#1080;%20&#1073;&#1091;&#1089;&#1099;&amp;img_url=http%3A%2F%2Fimg0.liveinternet.ru%2Fimages%2Fattach%2Fc%2F2%2F69%2F206%2F69206997_12.jpg&amp;pos=46&amp;uinfo=sw-845-sh-408-fw-765-fh-448-pd-1&amp;rpt=simage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633240" y="1036800"/>
            <a:ext cx="7877520" cy="1584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Учитель-логопед: Лещёва В.Г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02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ДОУ Выездновский детский сад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Система работ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16280"/>
            <a:ext cx="230508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1916280"/>
            <a:ext cx="251928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96000" y="191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869000"/>
            <a:ext cx="2736720" cy="1584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42100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242100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165000">
            <a:off x="2153520" y="3802320"/>
            <a:ext cx="1295640" cy="287280"/>
          </a:xfrm>
          <a:prstGeom prst="rightArrow">
            <a:avLst>
              <a:gd name="adj1" fmla="val 50000"/>
              <a:gd name="adj2" fmla="val 1127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463640" y="382572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7673400">
            <a:off x="5973480" y="3966840"/>
            <a:ext cx="1151280" cy="287280"/>
          </a:xfrm>
          <a:prstGeom prst="rightArrow">
            <a:avLst>
              <a:gd name="adj1" fmla="val 50000"/>
              <a:gd name="adj2" fmla="val 1001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Самомассаж ладоней и подушечек пальцев зубной щеткой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808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51664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Щетка у каждого 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природным материалом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1300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348000" y="4149720"/>
            <a:ext cx="3168720" cy="2054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27280" y="184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9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новые ш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у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877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6021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«Чудо-пальчик»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Самомассаж ладоней и подушечек пальцев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532764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ладоней о край стола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56000" y="2133720"/>
            <a:ext cx="4503600" cy="375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уговичный массаж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427640" cy="285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4716360" cy="242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мячом с шипами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rcRect l="-10449" t="0" r="0" b="-14764"/>
          <a:stretch/>
        </p:blipFill>
        <p:spPr>
          <a:xfrm>
            <a:off x="4067280" y="1916280"/>
            <a:ext cx="457344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0000" y="2276640"/>
            <a:ext cx="250200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Чётки, бус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Перебирание четок и бус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941640"/>
            <a:ext cx="3851280" cy="291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61040" y="2205000"/>
            <a:ext cx="388296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48:45Z</dcterms:created>
  <dc:creator/>
  <dc:description/>
  <dc:language>en-US</dc:language>
  <cp:lastModifiedBy/>
  <dcterms:modified xsi:type="dcterms:W3CDTF">2014-12-15T10:56:48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1049</vt:lpwstr>
  </property>
</Properties>
</file>