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5E8C-43C6-40F4-92BA-4AA00499FB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BDE3-622C-4170-9CD2-D9A6A80A2B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EC0-1E7F-4436-A2B0-67F416FF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DE8-3127-46F9-A25B-2D9661F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7BC-CB94-43EA-AEA4-D0BD580B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C2F-38F4-43BC-B6FA-92ECA807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EC7-8501-4171-9ED9-AD338FA6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B71B-DE06-4044-A2EE-10B754D6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3AA7-F911-40AF-A235-A9BB54B2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915-57F8-41FE-8DBB-0DA31792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DA58-7FA2-4A3A-B617-792E4F7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1806-1D17-4AC8-BDE2-37EE1E56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FEF8-CF1F-4DEA-A066-B268F51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19A-622E-4A94-8A8F-3C8EB694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CC05-E765-4F27-8898-57A28CC4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5D07-B969-4502-B352-2F06583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EF66-C917-43CF-953F-1611C20B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2BA3-31A4-4B02-AD20-E6FDA861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6B21-BC20-4C8F-87E3-0C27ABA8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A27-8E39-4D2C-9B33-90CE52EA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9DC-624E-4046-9A97-3C545D2F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3E2-D684-4BD5-8BC8-0F2FDC99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843-3D32-4A66-A374-1296A474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E1C-FA23-4C8B-94A7-E68EFA08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924-CE46-4D44-A520-F10427A3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474-93A1-462D-A0E2-0D92FF8D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81D-1B04-42A4-BD7D-27CE500A38C7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8095-9737-4A3C-A5F3-43A918882057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9;&#1091;&#1073;&#1085;&#1072;&#1103;%20&#1097;&#1077;&#1090;&#1082;&#1072;&amp;img_url=http%3A%2F%2Fi.bambiniya.ru%2Fpics%2Fproduct%2F200%2F99288.jpg&amp;pos=2&amp;uinfo=sw-845-sh-408-fw-765-fh-448-pd-1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89;&#1086;&#1089;&#1085;&#1086;&#1074;&#1099;&#1077;%20&#1096;&#1080;&#1096;&#1082;&#1080;&amp;img_url=http%3A%2F%2Fbbcont.ru%2Fuploads%2Fimages%2Fdefault%2Fthumb%2Fbiznes_po_prodazhe_shishek.jpeg&amp;pos=37&amp;uinfo=sw-845-sh-408-fw-765-fh-448-pd-1&amp;rpt=simage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images.yandex.ru/yandsearch?text=&#1078;&#1077;&#1083;&#1091;&#1076;&#1080;&amp;img_url=http%3A%2F%2Fwww.kak-sdelat.su%2Fuploads%2Fposts%2F2011-10%2F1317498108_osennie-podelki-iz-zheludey-svoimi-rukami.jpg&amp;pos=20&amp;uinfo=sw-845-sh-408-fw-765-fh-448-pd-1&amp;rpt=simage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84;&#1072;&#1089;&#1089;&#1072;&#1078;&#1085;&#1099;&#1081;%20&#1084;&#1103;&#1095;&#1080;&#1082;%20&#1089;%20&#1096;&#1080;&#1087;&#1072;&#1084;&#1080;&amp;img_url=http%3A%2F%2Fpishikrasivo.ru%2Fsites%2Fdefault%2Ffiles%2F1_5.jpg&amp;pos=0&amp;uinfo=sw-1007-sh-483-fw-782-fh-448-pd-1&amp;rpt=simage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1&amp;text=&#1095;&#1077;&#1090;&#1082;&#1080;%20&#1073;&#1091;&#1089;&#1099;&amp;img_url=http%3A%2F%2Fcs1.livemaster.ru%2Ffoto%2F400%2F4%2F9%2F4%2F2004384.jpg&amp;pos=43&amp;uinfo=sw-845-sh-408-fw-765-fh-448-pd-1&amp;rpt=simage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yandex.ru/yandsearch?p=1&amp;text=&#1095;&#1077;&#1090;&#1082;&#1080;%20&#1073;&#1091;&#1089;&#1099;&amp;img_url=http%3A%2F%2Fimg0.liveinternet.ru%2Fimages%2Fattach%2Fc%2F2%2F69%2F206%2F69206997_12.jpg&amp;pos=46&amp;uinfo=sw-845-sh-408-fw-765-fh-448-pd-1&amp;rpt=simage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633240" y="1036800"/>
            <a:ext cx="7877520" cy="1584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71320" y="307188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Учитель-логопед: Лещёва В.Г.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021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ДОУ Выездновский детский сад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Arial"/>
              </a:rPr>
              <a:t>Система работы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16280"/>
            <a:ext cx="230508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48000" y="1916280"/>
            <a:ext cx="251928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СПИТ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96000" y="1916280"/>
            <a:ext cx="244800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4869000"/>
            <a:ext cx="2736720" cy="1584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Б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42100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242100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3165000">
            <a:off x="2153520" y="3802320"/>
            <a:ext cx="1295640" cy="287280"/>
          </a:xfrm>
          <a:prstGeom prst="rightArrow">
            <a:avLst>
              <a:gd name="adj1" fmla="val 50000"/>
              <a:gd name="adj2" fmla="val 1127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4463640" y="382572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7673400">
            <a:off x="5973480" y="3966840"/>
            <a:ext cx="1151280" cy="287280"/>
          </a:xfrm>
          <a:prstGeom prst="rightArrow">
            <a:avLst>
              <a:gd name="adj1" fmla="val 50000"/>
              <a:gd name="adj2" fmla="val 1001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a"/>
                </a:solidFill>
                <a:latin typeface="Tahoma"/>
              </a:rPr>
              <a:t>Самомассаж ладоней и подушечек пальцев зубной щеткой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808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516640"/>
            <a:ext cx="47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Щетка у каждого индивиду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Самомассаж природным материалом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413000"/>
            <a:ext cx="2592360" cy="20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1413000"/>
            <a:ext cx="3168720" cy="2112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0" y="400536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348000" y="4149720"/>
            <a:ext cx="3168720" cy="2054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627280" y="184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9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новые ш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у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877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602136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ецкие оре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«Чудо-пальчик»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Самомассаж ладоней и подушечек пальцев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5327640" cy="298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Самомассаж ладоней о край стола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56000" y="2133720"/>
            <a:ext cx="4503600" cy="375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Пуговичный массаж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427640" cy="2855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4716360" cy="242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Самомассаж мячом с шипами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rcRect l="-10449" t="0" r="0" b="-14764"/>
          <a:stretch/>
        </p:blipFill>
        <p:spPr>
          <a:xfrm>
            <a:off x="4067280" y="1916280"/>
            <a:ext cx="457344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0000" y="2276640"/>
            <a:ext cx="2502000" cy="42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Чётки, бусы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483226"/>
                </a:solidFill>
                <a:latin typeface="Times New Roman"/>
              </a:rPr>
              <a:t>Перебирание четок и бус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941640"/>
            <a:ext cx="3851280" cy="291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61040" y="2205000"/>
            <a:ext cx="388296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48:45Z</dcterms:created>
  <dc:creator/>
  <dc:description/>
  <dc:language>en-US</dc:language>
  <cp:lastModifiedBy/>
  <dcterms:modified xsi:type="dcterms:W3CDTF">2014-12-15T10:56:48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1049</vt:lpwstr>
  </property>
</Properties>
</file>