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99F-895C-408A-97EB-41498BF4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365-1090-4C5E-BB5A-741BE664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F9C-9E63-45CC-BD5A-C0DDDAF8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12B-2440-4B38-A751-7F5DC6F7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F92-D558-4DE6-A631-87E11DEE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011-F406-42A6-8563-0B126B5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ED7-CA59-41BB-9956-E0533413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5A1-9874-4574-B505-ACE71F2B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BD9-2650-4C28-AC02-F4FA3337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33D-6A25-4186-842D-CAE75D37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A50-AE5C-47B6-A020-9E32CC4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62F-2BA0-4B9A-8E6F-6745D58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407D-857A-4B92-8D20-469F9200604E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101;&#1089;&#1087;&#1072;&#1085;&#1076;&#1077;&#1088;&amp;img_url=http%3A%2F%2Fbudo-market.ru%2Fimages%2Fcatalog%2Fekspander_kolco_15kg.jpg&amp;pos=6&amp;uinfo=sw-845-sh-408-fw-765-fh-448-pd-1&amp;rpt=simage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2;&#1083;&#1091;&#1073;&#1086;&#1082;&amp;img_url=http%3A%2F%2Fcs416929.userapi.com%2Fg44613747%2Fa_a4a43404.jpg&amp;pos=7&amp;uinfo=sw-1007-sh-483-fw-782-fh-448-pd-1&amp;rpt=simage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92;&#1086;&#1090;&#1086;&#1087;&#1083;&#1077;&#1085;&#1082;&#1072;&amp;img_url=http%3A%2F%2Fwww.printmarket.ru%2Ffile%2F5cefada9%2Fkm_pm_cont_film.jpg&amp;pos=3&amp;uinfo=sw-845-sh-408-fw-765-fh-448-pd-1&amp;rpt=simage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3&amp;text=&#1075;&#1091;&#1073;&#1082;&#1072;%20&#1076;&#1083;&#1103;%20&#1084;&#1099;&#1090;&#1100;&#1103;%20&#1087;&#1086;&#1089;&#1091;&#1076;&#1099;&amp;img_url=http%3A%2F%2Fimg.board.tut.ua%2F100%2F3%2F37%2F377%2F3_7773702.jpg&amp;pos=110&amp;uinfo=sw-1007-sh-483-fw-782-fh-448-pd-1&amp;rpt=simage" TargetMode="External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7;&#1086;&#1083;&#1086;&#1074;&#1080;&#1082;%20&#1076;&#1083;&#1103;%20&#1086;&#1073;&#1091;&#1074;&#1080;%20&#1090;&#1088;&#1072;&#1074;&#1082;&#1072;&amp;pos=16&amp;uinfo=sw-845-sh-408-fw-765-fh-448-pd-1&amp;rpt=simage&amp;img_url=http%3A%2F%2Fwww.almin.ru%2Fupload%2Fiblock%2F8c6%2Fpl-rs01.jpg" TargetMode="External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4;&#1072;&#1089;&#1089;&#1072;&#1078;%20&#1084;&#1072;&#1088;&#1073;&#1083;&#1089;&amp;img_url=http%3A%2F%2Fshop.gumballs.ru%2Fuploads%2Fd2259bfa19867362134a7dace88c5746.jpg&amp;pos=1&amp;uinfo=sw-1007-sh-353-fw-782-fh-448-pd-1&amp;rpt=simage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psearch&amp;text=&#1087;&#1088;&#1080;&#1084;&#1077;&#1085;&#1077;&#1085;&#1080;&#1077;%20&#1089;&#1091;%20&#1076;&#1078;&#1086;&#1082;%20&#1074;%20&#1083;&#1086;&#1075;&#1086;&#1087;&#1077;&#1076;&#1080;&#1080;&amp;noreask=1&amp;pos=0&amp;rpt=simage&amp;lr=11080&amp;uinfo=sw-1007-sh-353-fw-782-fh-448-pd-1&amp;img_url=http%3A%2F%2Fwww.zdorovienam.ru%2F8.jpg" TargetMode="External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9;&#1091;-&#1076;&#1078;&#1086;&#1082;%20&#1090;&#1077;&#1088;&#1072;&#1087;&#1080;&#1103;%20&#1082;&#1086;&#1083;&#1100;&#1094;&#1072;&amp;pos=27&amp;uinfo=sw-1007-sh-483-fw-782-fh-448-pd-1&amp;rpt=simage&amp;img_url=http%3A%2F%2Fwww.sc-diabeton.ru%2Ff%2Fstore%2F4%2F484%2F0%2F160x160.jpg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4;&#1086;&#1088;&#1089;&#1082;&#1080;&#1077;%20&#1082;&#1072;&#1084;&#1091;&#1096;&#1082;&#1080;&amp;img_url=http%3A%2F%2Fimg-fotki.yandex.ru%2Fget%2F4814%2F27075786.0%2F0_6e72b_b1b6951c_XL&amp;pos=0&amp;uinfo=sw-845-sh-408-fw-765-fh-448-pd-1&amp;rpt=simage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88;&#1080;&#1089;&#1086;&#1074;&#1072;&#1085;&#1080;&#1077;%20&#1076;&#1077;&#1090;&#1077;&#1081;%20&#1087;&#1077;&#1089;&#1082;&#1086;&#1084;&amp;noreask=1&amp;pos=20&amp;rpt=simage&amp;lr=47&amp;uinfo=sw-959-sh-423-fw-765-fh-448-pd-1&amp;img_url=http%3A%2F%2Fejka.ru%2Fuploads%2Fimages%2F5%2F8%2F7%2Fa%2F3%2F6e135bca5d.jpg" TargetMode="External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87;&#1088;&#1086;&#1073;&#1082;&#1080;%20&#1080;%20&#1087;&#1091;&#1075;&#1086;&#1074;&#1080;&#1094;&#1099;&amp;img_url=http%3A%2F%2Fwww.iinuu.lv%2Fuserfiles%2Fimages%2Fgalerija%2F583%2F129398306172.jpg&amp;pos=40&amp;uinfo=sw-845-sh-408-fw-765-fh-448-pd-1&amp;rpt=simage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yandex.ru/yandsearch?text=&#1087;&#1088;&#1086;&#1073;&#1082;&#1080;%20&#1086;&#1090;%20&#1073;&#1091;&#1090;&#1099;&#1083;&#1086;&#1082;&amp;img_url=http%3A%2F%2Fimages.tiu.ru%2F678946_w200_h200_astikovyhbutylok221225411f.jpg&amp;pos=15&amp;uinfo=sw-845-sh-408-fw-765-fh-448-pd-1&amp;rpt=simage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uinfo=sw-1007-sh-483-fw-782-fh-448-pd-1&amp;p=8&amp;text=&#1084;&#1077;&#1083;&#1082;&#1080;&#1077;%20&#1080;&#1075;&#1088;&#1091;&#1096;&#1082;&#1080;%20&#1082;&#1080;&#1085;&#1076;&#1077;&#1088;%20&#1089;&#1102;&#1088;&#1087;&#1088;&#1080;&#1079;&amp;noreask=1&amp;pos=243&amp;rpt=simage&amp;lr=47&amp;img_url=http%3A%2F%2Fimg02.darudar.org%2Fs600%2F00%2F00%2F89%2Fd9%2F89d912ff35bb25825db0f1672867391e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img_url=http%3A%2F%2Fscalemodels.ru%2Fimages%2F2012%2F09%2F1347382557_skrepka.gif&amp;uinfo=sw-845-sh-408-fw-765-fh-448-pd-1&amp;p=1&amp;text=&#1089;&#1082;&#1088;&#1077;&#1087;&#1082;&#1080;%20&#1082;&#1072;&#1085;&#1094;&#1077;&#1083;&#1103;&#1088;&#1089;&#1082;&#1080;&#1077;&amp;noreask=1&amp;pos=38&amp;rpt=simage&amp;lr=47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94;&#1074;&#1077;&#1090;&#1085;&#1072;&#1103;%20&#1074;&#1077;&#1088;&#1077;&#1074;&#1086;&#1095;&#1082;&#1072;%20&#1079;&#1072;&#1074;&#1103;&#1079;&#1099;&#1074;&#1072;&#1077;&#1084;%20&#1091;&#1079;&#1083;&#1099;&amp;pos=0&amp;uinfo=sw-959-sh-423-fw-765-fh-448-pd-1&amp;rpt=simage&amp;img_url=http%3A%2F%2Fwww.yg-market.ru%2Fpublished%2Fpublicdata%2FWWWYGMARKETRUTEST%2Fattachments%2FSC%2Fproducts_pictures%2FIgrushka_d_sobak_Kanatik_cvetnoj_2_uzla_0007_31sm_24sht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5;&#1086;&#1089;&#1086;&#1074;&#1086;&#1081;%20&#1087;&#1083;&#1072;&#1090;&#1086;&#1082;&amp;img_url=http%3A%2F%2Fvyshyvka.com.ua%2Fimg%2Fwool_place%2Flarge_platok1.jpg&amp;pos=0&amp;uinfo=sw-845-sh-408-fw-765-fh-448-pd-1&amp;rpt=simag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91;&#1087;&#1088;&#1072;&#1078;&#1085;&#1077;&#1085;&#1080;&#1103;%20&#1080;%20&#1080;&#1075;&#1088;&#1099;%20&#1089;%20%20&#1073;&#1077;&#1083;&#1100;&#1077;&#1074;&#1099;&#1084;&#1080;%20&#1087;&#1088;&#1080;&#1097;&#1077;&#1087;&#1082;&#1072;&#1084;&#1080;&amp;img_url=http%3A%2F%2Fcs411520.userapi.com%2Fv411520648%2F273b%2FoviKjf1ES3M.jpg&amp;pos=44&amp;uinfo=sw-1007-sh-483-fw-782-fh-448-pd-1&amp;rpt=simage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Карандаш, ручк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42" name="Text Placeholder 2" descr=""/>
          <p:cNvPicPr/>
          <p:nvPr/>
        </p:nvPicPr>
        <p:blipFill>
          <a:blip r:embed="rId2"/>
          <a:stretch/>
        </p:blipFill>
        <p:spPr>
          <a:xfrm>
            <a:off x="0" y="413064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1413000"/>
            <a:ext cx="8893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масса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ащение карандаша большим и указательными пальц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держивание карандаша каждым согнутым пальц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тание между ладон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1010800">
            <a:off x="6227640" y="3951000"/>
            <a:ext cx="2521080" cy="2906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Эспандер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       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Сжимание и разжимание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2610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Бумаг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Обрывание и смятие бумаги разной     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                   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плотности и  фактуры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716400">
            <a:off x="4211280" y="2781360"/>
            <a:ext cx="462132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 rot="20760000">
            <a:off x="826560" y="2565000"/>
            <a:ext cx="2484720" cy="350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Пальчиковая гимнастик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34244" r="0" b="0"/>
          <a:stretch/>
        </p:blipFill>
        <p:spPr>
          <a:xfrm>
            <a:off x="324000" y="2421000"/>
            <a:ext cx="853272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hoto-0007"/>
          <p:cNvPicPr/>
          <p:nvPr/>
        </p:nvPicPr>
        <p:blipFill>
          <a:blip r:embed="rId3"/>
          <a:stretch/>
        </p:blipFill>
        <p:spPr>
          <a:xfrm>
            <a:off x="785880" y="114300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hoto-0008"/>
          <p:cNvPicPr/>
          <p:nvPr/>
        </p:nvPicPr>
        <p:blipFill>
          <a:blip r:embed="rId4"/>
          <a:stretch/>
        </p:blipFill>
        <p:spPr>
          <a:xfrm>
            <a:off x="3059280" y="3716280"/>
            <a:ext cx="3240000" cy="2852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hoto-0004"/>
          <p:cNvPicPr/>
          <p:nvPr/>
        </p:nvPicPr>
        <p:blipFill>
          <a:blip r:embed="rId5"/>
          <a:stretch/>
        </p:blipFill>
        <p:spPr>
          <a:xfrm>
            <a:off x="5148360" y="1125360"/>
            <a:ext cx="3240000" cy="25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Нанизывание бусин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89" name="" descr="игры для развития мелкой моторики"/>
          <p:cNvPicPr/>
          <p:nvPr/>
        </p:nvPicPr>
        <p:blipFill>
          <a:blip r:embed="rId2"/>
          <a:stretch/>
        </p:blipFill>
        <p:spPr>
          <a:xfrm>
            <a:off x="0" y="1484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03880" y="4292640"/>
            <a:ext cx="4740120" cy="256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Клубки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Сматывание и разматывание шерстяной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                     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нитки                                 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168800"/>
            <a:ext cx="4284720" cy="268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62200">
            <a:off x="4716000" y="3068280"/>
            <a:ext cx="414036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Фотопленка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кручивание фотопленки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2349360"/>
            <a:ext cx="5113080" cy="426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Губки поролоновы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500280"/>
            <a:ext cx="3492360" cy="2878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 rot="1257000">
            <a:off x="4114800" y="2204640"/>
            <a:ext cx="5029200" cy="212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Пуговицы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Застегивание, расстегивание</a:t>
            </a: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067280" cy="3530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076720" y="2708280"/>
            <a:ext cx="3708360" cy="369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Рисование в воздух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 rot="20872800">
            <a:off x="1278000" y="1368000"/>
            <a:ext cx="1901880" cy="5445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 rot="592200">
            <a:off x="3614400" y="2021040"/>
            <a:ext cx="5040360" cy="250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Photo-0074"/>
          <p:cNvPicPr/>
          <p:nvPr/>
        </p:nvPicPr>
        <p:blipFill>
          <a:blip r:embed="rId2"/>
          <a:stretch/>
        </p:blipFill>
        <p:spPr>
          <a:xfrm>
            <a:off x="0" y="2349360"/>
            <a:ext cx="4572000" cy="3324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7628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Выкладывание узоров и фигу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из спичек и счетных пал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643280" y="3432240"/>
            <a:ext cx="4500720" cy="342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Массажный коврик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483000"/>
            <a:ext cx="3995640" cy="337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003640" y="2060640"/>
            <a:ext cx="3097440" cy="407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Марблс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15" name="Text Placeholder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237200"/>
            <a:ext cx="3492360" cy="262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25360"/>
            <a:ext cx="88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саж ладонных поверхносте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енными, металлическими или стеклянными разноцветными шариками «марблс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«стрелять», направлять в специальные желобки и лунки –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ст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кладывание фигур и уз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ертеть в ру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щелкать по ним паль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996000">
            <a:off x="5239800" y="2890800"/>
            <a:ext cx="324036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«Капитошки»</a:t>
            </a:r>
            <a:br>
              <a:rPr sz="4000"/>
            </a:b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Воздушные шары наполнены крупами, крахмалом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у-Джок терап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22" name="Text Placeholder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2492280"/>
            <a:ext cx="3786120" cy="4365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25360"/>
            <a:ext cx="94680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800" spc="-1" strike="noStrike">
                <a:solidFill>
                  <a:srgbClr val="00339a"/>
                </a:solidFill>
                <a:latin typeface="Times New Roman"/>
              </a:rPr>
              <a:t>Су – кисть              Джок – ст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жнокорейский  профессор Пак Чже Ву выявил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троении кисти и стопы проявляется удивительное подобие строению человеческого 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у-Джок массажер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1916280"/>
            <a:ext cx="4753080" cy="442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3384360" cy="3300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5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a"/>
                </a:solidFill>
                <a:latin typeface="Times New Roman"/>
              </a:rPr>
              <a:t>Достоинства СУ – Джок терапии:</a:t>
            </a:r>
            <a:endParaRPr b="1" lang="en-US" sz="32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Высокая эффективность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Абсолютная безопасность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Доступность для каждого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3226"/>
                </a:solidFill>
                <a:latin typeface="Times New Roman"/>
              </a:rPr>
              <a:t>Простота применени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Нетрадиционная техника рисования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Песком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Крупой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Камушками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a"/>
                </a:solidFill>
                <a:latin typeface="Franklin Gothic Medium"/>
              </a:rPr>
              <a:t>Рисовать можно следующим способом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Кулачком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Ладонью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Ребром большого пальца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Мизинцами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Одновременно использовать несколько пальцев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Симметрично двумя руками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Times New Roman"/>
              </a:rPr>
              <a:t>Насыпание из кулачка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вивает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елкую моторику рук;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художественно-эстетический вкус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память, воображение, внимание;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тактильное восприятие: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творческий потенциал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ребует анализа и гибкости мышления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ормирует плавность, ритмичность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покаивает детей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Выкладывание из морских камушек и ракушек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91240" y="1484280"/>
            <a:ext cx="4352760" cy="326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3713040"/>
            <a:ext cx="4716360" cy="314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Работы детей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21000"/>
            <a:ext cx="3114720" cy="4437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манка.jpg"/>
          <p:cNvPicPr/>
          <p:nvPr/>
        </p:nvPicPr>
        <p:blipFill>
          <a:blip r:embed="rId4"/>
          <a:stretch/>
        </p:blipFill>
        <p:spPr>
          <a:xfrm>
            <a:off x="4140360" y="1268280"/>
            <a:ext cx="3960720" cy="26402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Гречка.jpg"/>
          <p:cNvPicPr/>
          <p:nvPr/>
        </p:nvPicPr>
        <p:blipFill>
          <a:blip r:embed="rId5"/>
          <a:stretch/>
        </p:blipFill>
        <p:spPr>
          <a:xfrm>
            <a:off x="5580000" y="4257720"/>
            <a:ext cx="3564000" cy="260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Выкладывание из пробок и пуговицы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00280"/>
            <a:ext cx="3419640" cy="301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3730680"/>
            <a:ext cx="4284360" cy="2793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Игры с мелкими игрушками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     </a:t>
            </a:r>
            <a:r>
              <a:rPr b="1" lang="en-US" sz="3200" spc="-1" strike="noStrike">
                <a:solidFill>
                  <a:srgbClr val="483226"/>
                </a:solidFill>
                <a:latin typeface="Franklin Gothic Book"/>
              </a:rPr>
              <a:t>Игрушки из Киндер Сюрпризов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44640"/>
            <a:ext cx="4284720" cy="242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148360" y="3500280"/>
            <a:ext cx="3995640" cy="303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                        </a:t>
            </a: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Скрепки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83226"/>
                </a:solidFill>
                <a:latin typeface="Franklin Gothic Book"/>
              </a:rPr>
              <a:t>Нанизывание скрепок, образуя лесенку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мастерим мы лесенку,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сенку - чудесенку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на ней достанем мы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до звезд и до луны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16360" cy="286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Arial"/>
              </a:rPr>
              <a:t>Игры с веревочкой, 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Завязывание и 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развязывание узлов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179880"/>
            <a:ext cx="4968720" cy="367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Игры с носовым платком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Ребенок комкает платок, начиная с угла,    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так, чтобы он весь уместился в кулачке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46480"/>
            <a:ext cx="2987640" cy="290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154400" y="2403360"/>
            <a:ext cx="4989600" cy="445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Игры с бельевыми прищепками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133720"/>
            <a:ext cx="6192720" cy="39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48:45Z</dcterms:created>
  <dc:creator/>
  <dc:description/>
  <dc:language>en-US</dc:language>
  <cp:lastModifiedBy/>
  <dcterms:modified xsi:type="dcterms:W3CDTF">2014-12-15T10:54:1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1049</vt:lpwstr>
  </property>
</Properties>
</file>