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0319-41A0-41C3-AC9F-93F9D03A1A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A9F1-EA2B-4709-9AA8-FBBCC34505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1FFC-0DB8-493A-AC5B-DC50DCEBB6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B063-A98C-4774-9C28-501F648052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7C4-4508-4178-916B-E44C2D8F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C26B-0609-4D4A-BD91-BA6037CF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3566-2C1B-41EE-B0FE-8BE68688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FA1-D315-472C-9536-80359D10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2CFB-9BF6-4C82-962D-D9DD9449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F7A5-F589-4E92-8364-1EF3ACD7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49DD-0410-4180-BF1D-60919F68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F14C-A07B-4A94-A442-6AA716CE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5B70-47E2-4C37-A1CD-4D3ADDED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6529-0B08-41D7-9788-3B44D007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ACDE-EE3F-4A76-80C5-FE2081AC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C90-89CA-4E4E-9FB4-49429D48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A8E6-A197-4120-B4C8-2B391DE3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0597-7FE1-463A-BF9F-33DCB666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FE3E-44B8-4A45-85FE-4100652B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950C-A721-4146-AA92-05B0C7F3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FC7B-76C8-44EF-8B2D-04A02362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23D10-39B9-4C8F-98D3-0963577D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A380D-275C-4CBF-A99C-846DEF3B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97BF6-6495-4C85-92C3-062EA27C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7D325-CDF8-4D5A-B071-44C78821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75278-6AE8-47EA-9800-367872EA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6AAD-8635-4C37-ADAB-9C1D6AE6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E37CD-D212-406B-A7E4-8450F316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E014C-3A41-447E-8910-2BB81C6A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2BD24-8664-45FC-B05B-2ECDC3F9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EEA44-0D9A-49C2-A171-6E47B664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56099-B650-4DF2-A01E-E628F72D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867A5-FCE2-494F-A32A-D873B8B1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424A6-0AE0-45B2-9408-9536B2D5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3B36E-7DF7-4BCF-841C-8854A6F1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48D00-606B-4A63-93E8-FFD66448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429C8-4669-413D-A067-36C584F8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7AB-CB99-4D03-8FB5-3EC013F0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9BD0C-5723-4132-A1A3-110A08F7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A34BF-CAFC-4958-9A7D-2D87F383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F3264-A251-473C-ABA0-CA76A524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10A2E-264B-44DE-A11A-AE3F6292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9CE23-A101-41A3-8084-30DC497F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C3828-4BF5-43A3-9EBA-F6C732E3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D79A1-2255-45DF-B50D-D73DF050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A0F90-4D74-41A4-90C0-DDF387FA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87CBE-0A98-43F0-B35F-36C7CC59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0CD50-20AD-4266-B689-8F7B52D4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9A6D-2269-4A55-8147-616D7D48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976A4-65D1-467A-9819-20096CFA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FEE48-38ED-4E56-A032-2036DB20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78DCA-F411-445E-B24E-095E60FB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45F5C-0D75-4BBF-9FF7-BA592AF4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DD81D-8D0B-4F3A-B23E-389F20B6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F499D-BA13-4B5A-8DB7-2AB3C2D7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9A2A2-E426-4559-81A4-3D3BFA59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5CE5E-4A99-4E3D-9117-4DAD65AA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6B5A9-E01C-4B92-B8B9-2D335F09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1D2E7-903D-4A3B-A843-203CD29D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94B-91CF-4BC6-AD4F-68081817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0CCB1-3619-4AA8-82AF-85E28DB4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07AD-B27C-4421-B609-A2A26F8C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F7F9-0228-4779-9EFE-FBA6D9B0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9A87-D1C5-43DC-A77B-224D4F65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44B6-4FA2-4351-ACA4-F48A52E7239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D2C5-5B69-4F28-9034-AE5BB581048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A179-B996-40D4-AD58-9873CAF8716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7022-5B68-4934-A1FE-D5D9FD5E407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C3EE-3ADC-4917-9750-AEA7E36C281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sportal.ru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411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Мои успехи и успехи обучающихся</a:t>
            </a:r>
            <a:r>
              <a:rPr b="0" lang="ru-RU" sz="23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456840"/>
            <a:ext cx="5639040" cy="62485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ла базу компьютерных презентаций по развитию речи, математике, окружающему миру  для 1 и 2 классов. Имею свой сайт </a:t>
            </a:r>
            <a:r>
              <a:rPr b="0" lang="ru-RU" sz="11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/>
              </a:rPr>
              <a:t>Социальная сеть работников образования nsportal.ru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Ссылка на мой сайт: Мой &lt;a href = "http://nsportal.ru/perevedenceva-mariya-viktorovna" &gt; Сайт учителя начальных классов. П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ликации в социальной сети работников образования статьи" Уроки музыки в рамках введения ФГОС" (21.05.2013) Благодарность за активное участие в работе социальной сети работников образования 2013г. Сертификат о создании сайта в социальной сети работников образования 2013г. Сертификат о размещении электронного портфолио в социальной сети работников образования 2013г. Свидетельство о публикации в социальной сети работников образования 2013г. видеоматериала: Первый раз-в первый класс! (17.06.2013). Свидетельство о публикации в социальной сети работников образования 2013г презентации на тему "Организация  здоровьесберегающей среды в условиях сельской школы в рамках ФГОС"(04.06.2013).Имею грамоты: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ая грамота Министерства Образования РБ,  2006 год; Почетная грамота  Администрации муниципального района Благовещенский район РБ , 2011г.; Благодарственные письма    ОО МР Благовещенский район РБ  (2010г, 2011г.,2012г.);   Благодарственное письмо от учебно-методического объединения вузов РФ, 2013г.; Благодарственное письмо за  подготовку  призёра во Всероссийском  Турнире  по музыке «Gloria musica», 2012г.; Диплом МКУ Управление образования  муниципального района благовещенский район РБ за участие в районной конференции "Новые образовательные стандарты», 2013год.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обучающиеся ежегодно принимают активное участие в различных мероприятиях и занимают призовые места: Международный Турнир первоклассников, 2013г., Пенкин Д. (1 кл.) – лауреат, Ябаева  М. (1 кл.) – гран-при; Международный конкурс "Золотое руно", 2011г.,  Какиев К.(4 кл.) – победитель в школе; Всероссийский турнир по музыке "GLORIA MUSICA " , 2012г. Салиева В.( 3 кл.) - призёр;  Всероссийский  конкурс «Эрудит», 2012г.-  Зинатуллин И,  Васимов А., Какиев К,  Кулешов К (4класс)- Гран-при; Всероссийский  Конкурс-игра по естествознанию «Человек и природа-2013г»,  Якимов М.(1 кл. )  1 место по школе, Пенкин. Д (1кл.)- 2 место по школе;  Всероссийская викторина  «Эрудит -2013»,  Якимов М. (1кл.)-13 место  по   Всероссийскому  рейтингу и 12 место  по региональному рейтингу; районный конкурс – фестиваль юных дарований « Весенние капели-2012г», Какиев К. (4 кл.) – победитель  в номинации «Творческая мастерская»; Районный тур  республиканского конкурса сочинений, посвященных Дню Республики и году укрепления межнационального согласия в РБ «Пою мою республику»,  2011г., и тд.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Содержимое 17" descr="Изображение 225.jpg"/>
          <p:cNvPicPr/>
          <p:nvPr/>
        </p:nvPicPr>
        <p:blipFill>
          <a:blip r:embed="rId2"/>
          <a:stretch/>
        </p:blipFill>
        <p:spPr>
          <a:xfrm>
            <a:off x="4454640" y="1676520"/>
            <a:ext cx="3352680" cy="4572000"/>
          </a:xfrm>
          <a:prstGeom prst="rect">
            <a:avLst/>
          </a:prstGeom>
          <a:ln w="0">
            <a:noFill/>
          </a:ln>
        </p:spPr>
      </p:pic>
      <p:sp>
        <p:nvSpPr>
          <p:cNvPr id="255" name="WordArt 3"/>
          <p:cNvSpPr txBox="1"/>
          <p:nvPr/>
        </p:nvSpPr>
        <p:spPr>
          <a:xfrm>
            <a:off x="38088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0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TextBox 19"/>
          <p:cNvSpPr/>
          <p:nvPr/>
        </p:nvSpPr>
        <p:spPr>
          <a:xfrm>
            <a:off x="6095880" y="3049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Выступление в ГДК на праздновании Дня Учител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4"/>
          <p:cNvSpPr txBox="1"/>
          <p:nvPr/>
        </p:nvSpPr>
        <p:spPr>
          <a:xfrm>
            <a:off x="457200" y="2286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WordArt 4"/>
          <p:cNvSpPr txBox="1"/>
          <p:nvPr/>
        </p:nvSpPr>
        <p:spPr>
          <a:xfrm>
            <a:off x="990720" y="152280"/>
            <a:ext cx="8001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частие в районных конкурсах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96396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28000"/>
          </a:bodyPr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 u="sng">
                <a:solidFill>
                  <a:srgbClr val="ff0000"/>
                </a:solidFill>
                <a:uFillTx/>
                <a:latin typeface="Constantia"/>
              </a:rPr>
              <a:t>Первое  место </a:t>
            </a:r>
            <a:r>
              <a:rPr b="1" lang="ru-RU" sz="500" spc="-1" strike="noStrike">
                <a:solidFill>
                  <a:srgbClr val="04617b"/>
                </a:solidFill>
                <a:latin typeface="Constantia"/>
              </a:rPr>
              <a:t>в районном конкурсе «Звонкие голоса-2010»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028840" y="137124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Благодарственное письмо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Содержимое 8" descr="P1020245.JPG"/>
          <p:cNvPicPr/>
          <p:nvPr/>
        </p:nvPicPr>
        <p:blipFill>
          <a:blip r:embed="rId1"/>
          <a:stretch/>
        </p:blipFill>
        <p:spPr>
          <a:xfrm>
            <a:off x="1035000" y="2514600"/>
            <a:ext cx="2884680" cy="3846600"/>
          </a:xfrm>
          <a:prstGeom prst="rect">
            <a:avLst/>
          </a:prstGeom>
          <a:ln w="0">
            <a:noFill/>
          </a:ln>
        </p:spPr>
      </p:pic>
      <p:pic>
        <p:nvPicPr>
          <p:cNvPr id="263" name="Содержимое 9" descr="P1050569.JPG"/>
          <p:cNvPicPr/>
          <p:nvPr/>
        </p:nvPicPr>
        <p:blipFill>
          <a:blip r:embed="rId2"/>
          <a:stretch/>
        </p:blipFill>
        <p:spPr>
          <a:xfrm>
            <a:off x="5224320" y="2514600"/>
            <a:ext cx="2882880" cy="38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ретье место  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районном  конкурсе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«Звонкие голоса-2010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Содержимое 7" descr="P1050570.JPG"/>
          <p:cNvPicPr/>
          <p:nvPr/>
        </p:nvPicPr>
        <p:blipFill>
          <a:blip r:embed="rId1"/>
          <a:stretch/>
        </p:blipFill>
        <p:spPr>
          <a:xfrm>
            <a:off x="533520" y="1600200"/>
            <a:ext cx="3657600" cy="4267080"/>
          </a:xfrm>
          <a:prstGeom prst="rect">
            <a:avLst/>
          </a:prstGeom>
          <a:ln w="0">
            <a:noFill/>
          </a:ln>
        </p:spPr>
      </p:pic>
      <p:pic>
        <p:nvPicPr>
          <p:cNvPr id="266" name="Содержимое 10" descr="внук Кирюша 050.jpg"/>
          <p:cNvPicPr/>
          <p:nvPr/>
        </p:nvPicPr>
        <p:blipFill>
          <a:blip r:embed="rId2"/>
          <a:stretch/>
        </p:blipFill>
        <p:spPr>
          <a:xfrm>
            <a:off x="4648320" y="1523880"/>
            <a:ext cx="350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Участие в школьных конкурсах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Содержимое 4" descr="Изображение 381.jpg"/>
          <p:cNvPicPr/>
          <p:nvPr/>
        </p:nvPicPr>
        <p:blipFill>
          <a:blip r:embed="rId1"/>
          <a:stretch/>
        </p:blipFill>
        <p:spPr>
          <a:xfrm>
            <a:off x="1143000" y="15238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69" name="Содержимое 6" descr="P1020361.JPG"/>
          <p:cNvPicPr/>
          <p:nvPr/>
        </p:nvPicPr>
        <p:blipFill>
          <a:blip r:embed="rId2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270" name="Содержимое 8" descr="Изображение 307.jpg"/>
          <p:cNvPicPr/>
          <p:nvPr/>
        </p:nvPicPr>
        <p:blipFill>
          <a:blip r:embed="rId3"/>
          <a:stretch/>
        </p:blipFill>
        <p:spPr>
          <a:xfrm>
            <a:off x="936720" y="3924360"/>
            <a:ext cx="3079800" cy="2171520"/>
          </a:xfrm>
          <a:prstGeom prst="rect">
            <a:avLst/>
          </a:prstGeom>
          <a:ln w="0">
            <a:noFill/>
          </a:ln>
        </p:spPr>
      </p:pic>
      <p:pic>
        <p:nvPicPr>
          <p:cNvPr id="271" name="Содержимое 7" descr="P1030005.JPG"/>
          <p:cNvPicPr/>
          <p:nvPr/>
        </p:nvPicPr>
        <p:blipFill>
          <a:blip r:embed="rId4"/>
          <a:stretch/>
        </p:blipFill>
        <p:spPr>
          <a:xfrm>
            <a:off x="5219640" y="392436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272" name="TextBox 8" descr=""/>
          <p:cNvPicPr/>
          <p:nvPr/>
        </p:nvPicPr>
        <p:blipFill>
          <a:blip r:embed="rId5"/>
          <a:stretch/>
        </p:blipFill>
        <p:spPr>
          <a:xfrm>
            <a:off x="987480" y="5479920"/>
            <a:ext cx="2908080" cy="5367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9"/>
          <p:cNvSpPr/>
          <p:nvPr/>
        </p:nvSpPr>
        <p:spPr>
          <a:xfrm>
            <a:off x="2590920" y="3276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457200" y="1600200"/>
            <a:ext cx="1523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Районный тур  республиканского конкурса сочинений, посвященных Дню Республики и году укрепления межнационального согласия в РБ </a:t>
            </a: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«Пою мою республику»  </a:t>
            </a: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2011г. Зинатуллин  Ильдар, ученик 4 класса –грамота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5410080" y="1828800"/>
            <a:ext cx="2667240" cy="18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Моя родословная-2011г. Первое место среди 1-11 классов</a:t>
            </a:r>
            <a:r>
              <a:rPr b="0" lang="ru-RU" sz="12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5257800" y="3962520"/>
            <a:ext cx="281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Моя родословная-2013г. Первое место среди 1-9 классов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частие в различных конкурсах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8" name="Содержимое 11" descr="uKdyNpPJwNs.jpg"/>
          <p:cNvPicPr/>
          <p:nvPr/>
        </p:nvPicPr>
        <p:blipFill>
          <a:blip r:embed="rId1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79" name="Содержимое 12" descr="x_fc117df7.jpg"/>
          <p:cNvPicPr/>
          <p:nvPr/>
        </p:nvPicPr>
        <p:blipFill>
          <a:blip r:embed="rId2"/>
          <a:stretch/>
        </p:blipFill>
        <p:spPr>
          <a:xfrm>
            <a:off x="5181480" y="1143000"/>
            <a:ext cx="2895840" cy="2743200"/>
          </a:xfrm>
          <a:prstGeom prst="rect">
            <a:avLst/>
          </a:prstGeom>
          <a:ln w="0">
            <a:noFill/>
          </a:ln>
        </p:spPr>
      </p:pic>
      <p:pic>
        <p:nvPicPr>
          <p:cNvPr id="280" name="Содержимое 13" descr="x_439f115b.jpg"/>
          <p:cNvPicPr/>
          <p:nvPr/>
        </p:nvPicPr>
        <p:blipFill>
          <a:blip r:embed="rId3"/>
          <a:stretch/>
        </p:blipFill>
        <p:spPr>
          <a:xfrm>
            <a:off x="457200" y="1143000"/>
            <a:ext cx="2362320" cy="2781360"/>
          </a:xfrm>
          <a:prstGeom prst="rect">
            <a:avLst/>
          </a:prstGeom>
          <a:ln w="0">
            <a:noFill/>
          </a:ln>
        </p:spPr>
      </p:pic>
      <p:pic>
        <p:nvPicPr>
          <p:cNvPr id="281" name="Содержимое 21" descr="P1050580.JPG"/>
          <p:cNvPicPr/>
          <p:nvPr/>
        </p:nvPicPr>
        <p:blipFill>
          <a:blip r:embed="rId4"/>
          <a:stretch/>
        </p:blipFill>
        <p:spPr>
          <a:xfrm>
            <a:off x="2895480" y="1143000"/>
            <a:ext cx="2210040" cy="28195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5"/>
          <p:cNvSpPr/>
          <p:nvPr/>
        </p:nvSpPr>
        <p:spPr>
          <a:xfrm>
            <a:off x="1066680" y="31240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Участие  в районном семинаре-практикуме «Вокальная работа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TextBox 22"/>
          <p:cNvSpPr/>
          <p:nvPr/>
        </p:nvSpPr>
        <p:spPr>
          <a:xfrm>
            <a:off x="4271040" y="5029200"/>
            <a:ext cx="496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Отборочный тур Республиканског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конкурса  молодых исполнителе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патриотической песни в ГДК.  Грамо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Содержимое 9" descr="100_0467.JPG"/>
          <p:cNvPicPr/>
          <p:nvPr/>
        </p:nvPicPr>
        <p:blipFill>
          <a:blip r:embed="rId1"/>
          <a:stretch/>
        </p:blipFill>
        <p:spPr>
          <a:xfrm>
            <a:off x="380880" y="3733920"/>
            <a:ext cx="3643560" cy="2382840"/>
          </a:xfrm>
          <a:prstGeom prst="rect">
            <a:avLst/>
          </a:prstGeom>
          <a:ln w="0">
            <a:noFill/>
          </a:ln>
        </p:spPr>
      </p:pic>
      <p:pic>
        <p:nvPicPr>
          <p:cNvPr id="285" name="Содержимое 6" descr="100_0425.JPG"/>
          <p:cNvPicPr/>
          <p:nvPr/>
        </p:nvPicPr>
        <p:blipFill>
          <a:blip r:embed="rId2"/>
          <a:stretch/>
        </p:blipFill>
        <p:spPr>
          <a:xfrm>
            <a:off x="5029200" y="3657600"/>
            <a:ext cx="3152880" cy="2571840"/>
          </a:xfrm>
          <a:prstGeom prst="rect">
            <a:avLst/>
          </a:prstGeom>
          <a:ln w="0">
            <a:noFill/>
          </a:ln>
        </p:spPr>
      </p:pic>
      <p:pic>
        <p:nvPicPr>
          <p:cNvPr id="286" name="Содержимое 11" descr="100_0441.JPG"/>
          <p:cNvPicPr/>
          <p:nvPr/>
        </p:nvPicPr>
        <p:blipFill>
          <a:blip r:embed="rId3"/>
          <a:stretch/>
        </p:blipFill>
        <p:spPr>
          <a:xfrm>
            <a:off x="457200" y="1143000"/>
            <a:ext cx="3429000" cy="23623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сенний бал-маскарад в школе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8" name="Содержимое 12" descr="Изображение 312.jpg"/>
          <p:cNvPicPr/>
          <p:nvPr/>
        </p:nvPicPr>
        <p:blipFill>
          <a:blip r:embed="rId4"/>
          <a:stretch/>
        </p:blipFill>
        <p:spPr>
          <a:xfrm>
            <a:off x="4952880" y="1066680"/>
            <a:ext cx="3200400" cy="24386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3"/>
          <p:cNvSpPr/>
          <p:nvPr/>
        </p:nvSpPr>
        <p:spPr>
          <a:xfrm>
            <a:off x="914400" y="289548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Первое  место среди1-11 классов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TextBox 15"/>
          <p:cNvSpPr/>
          <p:nvPr/>
        </p:nvSpPr>
        <p:spPr>
          <a:xfrm>
            <a:off x="533520" y="5638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Луговая Диана  получила титул 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«Мисс осень -2011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TextBox 16"/>
          <p:cNvSpPr/>
          <p:nvPr/>
        </p:nvSpPr>
        <p:spPr>
          <a:xfrm>
            <a:off x="5486400" y="5638680"/>
            <a:ext cx="27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Первое место </a:t>
            </a:r>
            <a:r>
              <a:rPr b="1" lang="ru-RU" sz="1800" spc="-1" strike="noStrike">
                <a:solidFill>
                  <a:srgbClr val="ffc000"/>
                </a:solidFill>
                <a:latin typeface="Constantia"/>
              </a:rPr>
              <a:t>среди 1-11 классов. Ура!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TextBox 17"/>
          <p:cNvSpPr/>
          <p:nvPr/>
        </p:nvSpPr>
        <p:spPr>
          <a:xfrm>
            <a:off x="5105520" y="3124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Constantia"/>
              </a:rPr>
              <a:t>Ведущие конкурса «Осенний бал--2010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6T17:49:15Z</dcterms:created>
  <dc:creator>User</dc:creator>
  <dc:description/>
  <dc:language>en-US</dc:language>
  <cp:lastModifiedBy>User</cp:lastModifiedBy>
  <dcterms:modified xsi:type="dcterms:W3CDTF">2014-12-06T18:00:53Z</dcterms:modified>
  <cp:revision>3</cp:revision>
  <dc:subject/>
  <dc:title>              Мои успехи и успехи обучающихся.</dc:title>
</cp:coreProperties>
</file>