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66A7-A24C-468B-9DA2-F347D14FF5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14FF-649A-4563-862D-A6D4D88800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C51C-BBB0-4CCA-BCCD-55F8A71F25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88E2-1E52-4A56-A13C-A8FEC1FF56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9EAE-0815-4950-B041-63FE23F2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39C1-2D47-4526-86EB-46313873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B71-6D2B-4009-B7C8-0FAAD102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5122-3211-48ED-8B55-699D3375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6274-76C7-4EC8-9986-B4877360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ADF9-11C8-4A83-8447-8419B5A1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28AF-316F-4463-851D-FC60144B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FB6F-3FCC-4E99-9FC8-D432348D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AF6A-1396-4984-8245-04E1C0E6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FDBB-6684-4825-B04B-82723660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38F8-F32F-4403-8661-0AEFAFD2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EA75-1604-4902-923D-E2751349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DDCA-D511-45CC-9887-DF625943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3396-A439-4D8F-A232-192C1494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54A8-8029-49F7-88C5-81C8347D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9C9D-B178-4765-84DD-CA1BBF9A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1F4F-6597-42DE-AEEC-CA9C26D5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A1BA4-332A-4987-902C-79A6C257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38E0D-F201-449B-86DC-1012CAD7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110B8-8BDE-4993-B40D-518BAC9A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01E42-BF9E-448E-94C4-79E842EE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65B41-B8AD-4478-998C-A0D790F7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5825-1F28-4E88-8A54-5326A68A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12F3A-CD89-41F9-8166-9F46C8A9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61ADA-2B09-45F7-87E6-BF398814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3FC79-95A9-4D27-A9CC-D6A5CE07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C4B8F-264F-4B15-B2C4-EA1EC617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8BDD9-69DF-40BA-84EF-C7F25E1A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092A0-CC98-489B-A6C3-B08DBD20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0BEFD-62C8-47AF-9C71-99C6E40F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21DB9-CFB3-4311-AD06-14DAC8A5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87188-AE69-4B34-ABF5-E55F489B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4B729-F226-4AFF-86E4-E9211C73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E042-40A7-4FDC-B925-510870CC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4B9C6-A2A5-4D01-B6E5-9ABA6831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30457-7EB0-452C-980C-0C95FB1A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0C1A0-4B3C-410C-82CE-6489B148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B0C84-FAFF-4E8C-8D1B-5BFE340D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D5EF6-D241-473C-8127-75C33CE4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5418E-7C81-4A2C-A5F3-7817DE8E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89554-8DD1-4C37-9787-658B8762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D2F00-832D-408C-B0EB-C5615881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178A0-40E2-479C-9521-220F5809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008B7-824E-403C-B38A-1056EE2F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8939-610E-4D2F-98B1-04A1FD67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63430-173A-4B53-84B7-DE7B6F4E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E31EF-2F3F-4C3A-A93B-921B538C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3B7B0-8E73-4B50-9BB1-462E86C9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AC678-3827-4A33-8ADF-28C171C3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52C69-B822-43F4-949E-E834E735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D6B18-7465-47BE-9ABB-F068FB5F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6533B-8F68-49C2-BC13-0209DFC1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F3F06-A9A4-4DA4-A24D-D03113D8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E72A2-CE72-4EAF-8CBD-3EB4E51F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2188E-0576-4AE1-8ED8-445D74AD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00AC-AF30-4A2B-AAD1-C83AF3D4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14EFB-A9E4-480F-9B20-4E9C0AB7B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6A85-9351-4F99-807B-AF877DAE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3937-99CF-485A-9712-25D84426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1573-C98A-441B-9224-6352614A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CD16-18B2-4271-904B-614282466DF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73FD-A4EE-4131-9448-580245D741F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67D5-322F-43FC-B3A5-CC98CF37556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9E9F-34E7-495B-9DCD-87D85C60941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57D4-3995-4BBB-B79C-0F00B47DCEE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sportal.ru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4114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Мои успехи и успехи обучающихся</a:t>
            </a:r>
            <a:r>
              <a:rPr b="0" lang="ru-RU" sz="23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2280" y="456840"/>
            <a:ext cx="5639040" cy="62485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ла базу компьютерных презентаций по развитию речи, математике, окружающему миру  для 1 и 2 классов. Имею свой сайт </a:t>
            </a:r>
            <a:r>
              <a:rPr b="0" lang="ru-RU" sz="11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1"/>
              </a:rPr>
              <a:t>Социальная сеть работников образования nsportal.ru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Ссылка на мой сайт: Мой &lt;a href = "http://nsportal.ru/perevedenceva-mariya-viktorovna" &gt; Сайт учителя начальных классов. П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ликации в социальной сети работников образования статьи" Уроки музыки в рамках введения ФГОС" (21.05.2013) Благодарность за активное участие в работе социальной сети работников образования 2013г. Сертификат о создании сайта в социальной сети работников образования 2013г. Сертификат о размещении электронного портфолио в социальной сети работников образования 2013г. Свидетельство о публикации в социальной сети работников образования 2013г. видеоматериала: Первый раз-в первый класс! (17.06.2013). Свидетельство о публикации в социальной сети работников образования 2013г презентации на тему "Организация  здоровьесберегающей среды в условиях сельской школы в рамках ФГОС"(04.06.2013).Имею грамоты: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ная грамота Министерства Образования РБ,  2006 год; Почетная грамота  Администрации муниципального района Благовещенский район РБ , 2011г.; Благодарственные письма    ОО МР Благовещенский район РБ  (2010г, 2011г.,2012г.);   Благодарственное письмо от учебно-методического объединения вузов РФ, 2013г.; Благодарственное письмо за  подготовку  призёра во Всероссийском  Турнире  по музыке «Gloria musica», 2012г.; Диплом МКУ Управление образования  муниципального района благовещенский район РБ за участие в районной конференции "Новые образовательные стандарты», 2013год.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и обучающиеся ежегодно принимают активное участие в различных мероприятиях и занимают призовые места: Международный Турнир первоклассников, 2013г., Пенкин Д. (1 кл.) – лауреат, Ябаева  М. (1 кл.) – гран-при; Международный конкурс "Золотое руно", 2011г.,  Какиев К.(4 кл.) – победитель в школе; Всероссийский турнир по музыке "GLORIA MUSICA " , 2012г. Салиева В.( 3 кл.) - призёр;  Всероссийский  конкурс «Эрудит», 2012г.-  Зинатуллин И,  Васимов А., Какиев К,  Кулешов К (4класс)- Гран-при; Всероссийский  Конкурс-игра по естествознанию «Человек и природа-2013г»,  Якимов М.(1 кл. )  1 место по школе, Пенкин. Д (1кл.)- 2 место по школе;  Всероссийская викторина  «Эрудит -2013»,  Якимов М. (1кл.)-13 место  по   Всероссийскому  рейтингу и 12 место  по региональному рейтингу; районный конкурс – фестиваль юных дарований « Весенние капели-2012г», Какиев К. (4 кл.) – победитель  в номинации «Творческая мастерская»; Районный тур  республиканского конкурса сочинений, посвященных Дню Республики и году укрепления межнационального согласия в РБ «Пою мою республику»,  2011г., и тд.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Содержимое 17" descr="Изображение 225.jpg"/>
          <p:cNvPicPr/>
          <p:nvPr/>
        </p:nvPicPr>
        <p:blipFill>
          <a:blip r:embed="rId2"/>
          <a:stretch/>
        </p:blipFill>
        <p:spPr>
          <a:xfrm>
            <a:off x="4454640" y="1676520"/>
            <a:ext cx="3352680" cy="4572000"/>
          </a:xfrm>
          <a:prstGeom prst="rect">
            <a:avLst/>
          </a:prstGeom>
          <a:ln w="0">
            <a:noFill/>
          </a:ln>
        </p:spPr>
      </p:pic>
      <p:sp>
        <p:nvSpPr>
          <p:cNvPr id="255" name="WordArt 3"/>
          <p:cNvSpPr txBox="1"/>
          <p:nvPr/>
        </p:nvSpPr>
        <p:spPr>
          <a:xfrm>
            <a:off x="380880" y="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ffff00"/>
                    </a:gs>
                    <a:gs pos="100000">
                      <a:srgbClr val="ff33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2000" spc="1" strike="noStrike">
              <a:ln w="381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50000">
                    <a:srgbClr val="ffff00"/>
                  </a:gs>
                  <a:gs pos="100000">
                    <a:srgbClr val="ff33cc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TextBox 19"/>
          <p:cNvSpPr/>
          <p:nvPr/>
        </p:nvSpPr>
        <p:spPr>
          <a:xfrm>
            <a:off x="6095880" y="3049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Выступление в ГДК на праздновании Дня Учител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4"/>
          <p:cNvSpPr txBox="1"/>
          <p:nvPr/>
        </p:nvSpPr>
        <p:spPr>
          <a:xfrm>
            <a:off x="457200" y="2286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WordArt 4"/>
          <p:cNvSpPr txBox="1"/>
          <p:nvPr/>
        </p:nvSpPr>
        <p:spPr>
          <a:xfrm>
            <a:off x="990720" y="152280"/>
            <a:ext cx="8001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1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Участие в районных конкурсах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96396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28000"/>
          </a:bodyPr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 u="sng">
                <a:solidFill>
                  <a:srgbClr val="ff0000"/>
                </a:solidFill>
                <a:uFillTx/>
                <a:latin typeface="Constantia"/>
              </a:rPr>
              <a:t>Первое  место </a:t>
            </a:r>
            <a:r>
              <a:rPr b="1" lang="ru-RU" sz="500" spc="-1" strike="noStrike">
                <a:solidFill>
                  <a:srgbClr val="04617b"/>
                </a:solidFill>
                <a:latin typeface="Constantia"/>
              </a:rPr>
              <a:t>в районном конкурсе «Звонкие голоса-2010»</a:t>
            </a: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028840" y="137124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Благодарственное письмо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Содержимое 8" descr="P1020245.JPG"/>
          <p:cNvPicPr/>
          <p:nvPr/>
        </p:nvPicPr>
        <p:blipFill>
          <a:blip r:embed="rId1"/>
          <a:stretch/>
        </p:blipFill>
        <p:spPr>
          <a:xfrm>
            <a:off x="1035000" y="2514600"/>
            <a:ext cx="2884680" cy="3846600"/>
          </a:xfrm>
          <a:prstGeom prst="rect">
            <a:avLst/>
          </a:prstGeom>
          <a:ln w="0">
            <a:noFill/>
          </a:ln>
        </p:spPr>
      </p:pic>
      <p:pic>
        <p:nvPicPr>
          <p:cNvPr id="263" name="Содержимое 9" descr="P1050569.JPG"/>
          <p:cNvPicPr/>
          <p:nvPr/>
        </p:nvPicPr>
        <p:blipFill>
          <a:blip r:embed="rId2"/>
          <a:stretch/>
        </p:blipFill>
        <p:spPr>
          <a:xfrm>
            <a:off x="5224320" y="2514600"/>
            <a:ext cx="2882880" cy="38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ретье место  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 районном  конкурсе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«Звонкие голоса-2010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Содержимое 7" descr="P1050570.JPG"/>
          <p:cNvPicPr/>
          <p:nvPr/>
        </p:nvPicPr>
        <p:blipFill>
          <a:blip r:embed="rId1"/>
          <a:stretch/>
        </p:blipFill>
        <p:spPr>
          <a:xfrm>
            <a:off x="533520" y="1600200"/>
            <a:ext cx="3657600" cy="4267080"/>
          </a:xfrm>
          <a:prstGeom prst="rect">
            <a:avLst/>
          </a:prstGeom>
          <a:ln w="0">
            <a:noFill/>
          </a:ln>
        </p:spPr>
      </p:pic>
      <p:pic>
        <p:nvPicPr>
          <p:cNvPr id="266" name="Содержимое 10" descr="внук Кирюша 050.jpg"/>
          <p:cNvPicPr/>
          <p:nvPr/>
        </p:nvPicPr>
        <p:blipFill>
          <a:blip r:embed="rId2"/>
          <a:stretch/>
        </p:blipFill>
        <p:spPr>
          <a:xfrm>
            <a:off x="4648320" y="1523880"/>
            <a:ext cx="350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Участие в школьных конкурсах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Содержимое 4" descr="Изображение 381.jpg"/>
          <p:cNvPicPr/>
          <p:nvPr/>
        </p:nvPicPr>
        <p:blipFill>
          <a:blip r:embed="rId1"/>
          <a:stretch/>
        </p:blipFill>
        <p:spPr>
          <a:xfrm>
            <a:off x="1143000" y="15238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269" name="Содержимое 6" descr="P1020361.JPG"/>
          <p:cNvPicPr/>
          <p:nvPr/>
        </p:nvPicPr>
        <p:blipFill>
          <a:blip r:embed="rId2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270" name="Содержимое 8" descr="Изображение 307.jpg"/>
          <p:cNvPicPr/>
          <p:nvPr/>
        </p:nvPicPr>
        <p:blipFill>
          <a:blip r:embed="rId3"/>
          <a:stretch/>
        </p:blipFill>
        <p:spPr>
          <a:xfrm>
            <a:off x="936720" y="3924360"/>
            <a:ext cx="3079800" cy="2171520"/>
          </a:xfrm>
          <a:prstGeom prst="rect">
            <a:avLst/>
          </a:prstGeom>
          <a:ln w="0">
            <a:noFill/>
          </a:ln>
        </p:spPr>
      </p:pic>
      <p:pic>
        <p:nvPicPr>
          <p:cNvPr id="271" name="Содержимое 7" descr="P1030005.JPG"/>
          <p:cNvPicPr/>
          <p:nvPr/>
        </p:nvPicPr>
        <p:blipFill>
          <a:blip r:embed="rId4"/>
          <a:stretch/>
        </p:blipFill>
        <p:spPr>
          <a:xfrm>
            <a:off x="5219640" y="392436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272" name="TextBox 8" descr=""/>
          <p:cNvPicPr/>
          <p:nvPr/>
        </p:nvPicPr>
        <p:blipFill>
          <a:blip r:embed="rId5"/>
          <a:stretch/>
        </p:blipFill>
        <p:spPr>
          <a:xfrm>
            <a:off x="987480" y="5479920"/>
            <a:ext cx="2908080" cy="536760"/>
          </a:xfrm>
          <a:prstGeom prst="rect">
            <a:avLst/>
          </a:prstGeom>
          <a:ln w="0">
            <a:noFill/>
          </a:ln>
        </p:spPr>
      </p:pic>
      <p:sp>
        <p:nvSpPr>
          <p:cNvPr id="273" name="TextBox 9"/>
          <p:cNvSpPr/>
          <p:nvPr/>
        </p:nvSpPr>
        <p:spPr>
          <a:xfrm>
            <a:off x="2590920" y="3276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TextBox 10"/>
          <p:cNvSpPr/>
          <p:nvPr/>
        </p:nvSpPr>
        <p:spPr>
          <a:xfrm>
            <a:off x="457200" y="1600200"/>
            <a:ext cx="15238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Районный тур  республиканского конкурса сочинений, посвященных Дню Республики и году укрепления межнационального согласия в РБ </a:t>
            </a:r>
            <a:r>
              <a:rPr b="1" lang="ru-RU" sz="1200" spc="-1" strike="noStrike">
                <a:solidFill>
                  <a:srgbClr val="ff0000"/>
                </a:solidFill>
                <a:latin typeface="Constantia"/>
              </a:rPr>
              <a:t>«Пою мою республику»  </a:t>
            </a: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2011г. Зинатуллин  Ильдар, ученик 4 класса –грамота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5410080" y="1828800"/>
            <a:ext cx="2667240" cy="18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nstantia"/>
              </a:rPr>
              <a:t>Моя родословная-2011г. Первое место среди 1-11 классов</a:t>
            </a:r>
            <a:r>
              <a:rPr b="0" lang="ru-RU" sz="12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TextBox 19"/>
          <p:cNvSpPr/>
          <p:nvPr/>
        </p:nvSpPr>
        <p:spPr>
          <a:xfrm>
            <a:off x="5257800" y="3962520"/>
            <a:ext cx="281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nstantia"/>
              </a:rPr>
              <a:t>Моя родословная-2013г. Первое место среди 1-9 классов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частие в различных конкурсах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8" name="Содержимое 11" descr="uKdyNpPJwNs.jpg"/>
          <p:cNvPicPr/>
          <p:nvPr/>
        </p:nvPicPr>
        <p:blipFill>
          <a:blip r:embed="rId1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279" name="Содержимое 12" descr="x_fc117df7.jpg"/>
          <p:cNvPicPr/>
          <p:nvPr/>
        </p:nvPicPr>
        <p:blipFill>
          <a:blip r:embed="rId2"/>
          <a:stretch/>
        </p:blipFill>
        <p:spPr>
          <a:xfrm>
            <a:off x="5181480" y="1143000"/>
            <a:ext cx="2895840" cy="2743200"/>
          </a:xfrm>
          <a:prstGeom prst="rect">
            <a:avLst/>
          </a:prstGeom>
          <a:ln w="0">
            <a:noFill/>
          </a:ln>
        </p:spPr>
      </p:pic>
      <p:pic>
        <p:nvPicPr>
          <p:cNvPr id="280" name="Содержимое 13" descr="x_439f115b.jpg"/>
          <p:cNvPicPr/>
          <p:nvPr/>
        </p:nvPicPr>
        <p:blipFill>
          <a:blip r:embed="rId3"/>
          <a:stretch/>
        </p:blipFill>
        <p:spPr>
          <a:xfrm>
            <a:off x="457200" y="1143000"/>
            <a:ext cx="2362320" cy="2781360"/>
          </a:xfrm>
          <a:prstGeom prst="rect">
            <a:avLst/>
          </a:prstGeom>
          <a:ln w="0">
            <a:noFill/>
          </a:ln>
        </p:spPr>
      </p:pic>
      <p:pic>
        <p:nvPicPr>
          <p:cNvPr id="281" name="Содержимое 21" descr="P1050580.JPG"/>
          <p:cNvPicPr/>
          <p:nvPr/>
        </p:nvPicPr>
        <p:blipFill>
          <a:blip r:embed="rId4"/>
          <a:stretch/>
        </p:blipFill>
        <p:spPr>
          <a:xfrm>
            <a:off x="2895480" y="1143000"/>
            <a:ext cx="2210040" cy="28195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15"/>
          <p:cNvSpPr/>
          <p:nvPr/>
        </p:nvSpPr>
        <p:spPr>
          <a:xfrm>
            <a:off x="1066680" y="31240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Участие  в районном семинаре-практикуме «Вокальная работа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TextBox 22"/>
          <p:cNvSpPr/>
          <p:nvPr/>
        </p:nvSpPr>
        <p:spPr>
          <a:xfrm>
            <a:off x="4271040" y="5029200"/>
            <a:ext cx="496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Отборочный тур Республиканског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конкурса  молодых исполнителей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патриотической песни в ГДК.  Грамот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Содержимое 9" descr="100_0467.JPG"/>
          <p:cNvPicPr/>
          <p:nvPr/>
        </p:nvPicPr>
        <p:blipFill>
          <a:blip r:embed="rId1"/>
          <a:stretch/>
        </p:blipFill>
        <p:spPr>
          <a:xfrm>
            <a:off x="380880" y="3733920"/>
            <a:ext cx="3643560" cy="2382840"/>
          </a:xfrm>
          <a:prstGeom prst="rect">
            <a:avLst/>
          </a:prstGeom>
          <a:ln w="0">
            <a:noFill/>
          </a:ln>
        </p:spPr>
      </p:pic>
      <p:pic>
        <p:nvPicPr>
          <p:cNvPr id="285" name="Содержимое 6" descr="100_0425.JPG"/>
          <p:cNvPicPr/>
          <p:nvPr/>
        </p:nvPicPr>
        <p:blipFill>
          <a:blip r:embed="rId2"/>
          <a:stretch/>
        </p:blipFill>
        <p:spPr>
          <a:xfrm>
            <a:off x="5029200" y="3657600"/>
            <a:ext cx="3152880" cy="2571840"/>
          </a:xfrm>
          <a:prstGeom prst="rect">
            <a:avLst/>
          </a:prstGeom>
          <a:ln w="0">
            <a:noFill/>
          </a:ln>
        </p:spPr>
      </p:pic>
      <p:pic>
        <p:nvPicPr>
          <p:cNvPr id="286" name="Содержимое 11" descr="100_0441.JPG"/>
          <p:cNvPicPr/>
          <p:nvPr/>
        </p:nvPicPr>
        <p:blipFill>
          <a:blip r:embed="rId3"/>
          <a:stretch/>
        </p:blipFill>
        <p:spPr>
          <a:xfrm>
            <a:off x="457200" y="1143000"/>
            <a:ext cx="3429000" cy="236232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сенний бал-маскарад в школе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8" name="Содержимое 12" descr="Изображение 312.jpg"/>
          <p:cNvPicPr/>
          <p:nvPr/>
        </p:nvPicPr>
        <p:blipFill>
          <a:blip r:embed="rId4"/>
          <a:stretch/>
        </p:blipFill>
        <p:spPr>
          <a:xfrm>
            <a:off x="4952880" y="1066680"/>
            <a:ext cx="3200400" cy="243864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3"/>
          <p:cNvSpPr/>
          <p:nvPr/>
        </p:nvSpPr>
        <p:spPr>
          <a:xfrm>
            <a:off x="914400" y="289548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nstantia"/>
              </a:rPr>
              <a:t>Первое  место среди1-11 классов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TextBox 15"/>
          <p:cNvSpPr/>
          <p:nvPr/>
        </p:nvSpPr>
        <p:spPr>
          <a:xfrm>
            <a:off x="533520" y="5638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Луговая Диана  получила титул 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«Мисс осень -2011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TextBox 16"/>
          <p:cNvSpPr/>
          <p:nvPr/>
        </p:nvSpPr>
        <p:spPr>
          <a:xfrm>
            <a:off x="5486400" y="5638680"/>
            <a:ext cx="27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Первое место </a:t>
            </a:r>
            <a:r>
              <a:rPr b="1" lang="ru-RU" sz="1800" spc="-1" strike="noStrike">
                <a:solidFill>
                  <a:srgbClr val="ffc000"/>
                </a:solidFill>
                <a:latin typeface="Constantia"/>
              </a:rPr>
              <a:t>среди 1-11 классов. Ура!!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TextBox 17"/>
          <p:cNvSpPr/>
          <p:nvPr/>
        </p:nvSpPr>
        <p:spPr>
          <a:xfrm>
            <a:off x="5105520" y="3124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Constantia"/>
              </a:rPr>
              <a:t>Ведущие конкурса «Осенний бал--2010»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6T17:49:15Z</dcterms:created>
  <dc:creator>User</dc:creator>
  <dc:description/>
  <dc:language>en-US</dc:language>
  <cp:lastModifiedBy>User</cp:lastModifiedBy>
  <dcterms:modified xsi:type="dcterms:W3CDTF">2014-12-06T18:00:53Z</dcterms:modified>
  <cp:revision>3</cp:revision>
  <dc:subject/>
  <dc:title>              Мои успехи и успехи обучающихся.</dc:title>
</cp:coreProperties>
</file>