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E1E3-5370-4D73-9610-5E1BD6F067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A6EF-1280-4DBA-A32A-A6CC276A09E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7B65-4509-4294-8864-7FF69B4B548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C33D-440B-406A-B2A1-2D30BADF64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0A0-7402-45B6-A34B-45A21690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BC3-9005-4B59-80FF-8A2BCD87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E3B-F370-4BFC-8272-DB6E5260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2D4-FD9E-4696-99DE-7BCA0658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58ADD-F6C3-4BD7-9CB2-4564277F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2D96D-4A1F-4C97-B83B-1D5BA412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9FAB7-4B4A-49F0-8DFF-CD4DBD78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84AC5-B237-4B2B-9071-3923D782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D547D-0D27-4779-B80F-6A41D19F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672AC-72A0-4DE0-BA35-F46CAC7A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FBCF8-2652-413C-A49C-DC9D5352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370-EA37-4709-AE47-C255A1A0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73D46-6105-4D5A-BFBD-44C22B73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2FCD4-9471-4AB8-815A-91E71FE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E1C90-A67E-4224-86CB-8F710D28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C7CD2-C422-43D0-BA74-013CBF08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B75E9-303B-4D9B-A3AC-408DBB6E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C0D1-1045-4447-B6F1-2AD71DE6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7432-BD8F-4C2E-AB80-8CD1BE02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D79D-9E34-4356-A939-33D1A08C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A1C8B-99E4-4166-A02A-2B96CCF7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0FFF-4635-4F17-B6C4-0F5FA56B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04E-69DE-4EFC-8714-DD123E4F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CC19-5D3D-4576-A5BC-DE86CC9E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3FDAC-5214-48E9-AC76-9BA369C8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6795-7C8F-43E1-A1E3-4EA0A434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354C2-D5D0-47BC-8B8B-9E2B1E5A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1929-8D35-497B-BBAF-310872CA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78C9-E02D-49C9-ACBC-412FD069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1E08-4A9C-4A5D-9B2E-E5E76FC6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77AEA-06C6-4191-98CA-BCAE22F5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8B293-B9B9-4FF3-BD22-487BE861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8004-CD91-4EA9-BE93-60906BAD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706-ECDC-42BB-A6A4-5CFE55E0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3D58-7D7C-4AFB-A899-0FA295F4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8F6A2-5F63-48D0-9DE9-55759CA3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A2C9E-4F9C-4E44-A1A6-4789621B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E7470-581C-4149-BB0D-29522ECC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FFEE-C5C6-46FB-896E-2F08A651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39219-E912-494E-BBCF-48DAC489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AEABB-2367-4A09-9561-41C0FAB8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C3168-F8C2-45C2-B66F-F7DAC08B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1BD7A-D754-4206-A1D2-CAD73564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BF0-692B-4313-8EC2-AD00363D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2A0-DEAC-4F93-954B-547190AF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4FD-296F-4E68-AB2B-ECD8177D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D15-EAA4-46E1-BCE6-39628A04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7BE-A8C6-4539-B119-7DA79B84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DED1-3DB7-4153-9F40-937875985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55E1-0426-43AE-B40F-344653EAC2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7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F1B5-489C-497A-B16E-49BACC257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8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005E-D6D3-4F18-9C40-793A9C08B1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edff"/>
                </a:solidFill>
                <a:latin typeface="Arial"/>
              </a:rPr>
              <a:t>Классный час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Мы за здоровый образ жизни»</a:t>
            </a:r>
            <a:endParaRPr b="0" lang="en-US" sz="32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стники 1-4 клас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Содержимое 6" descr="P1020424.JPG"/>
          <p:cNvPicPr/>
          <p:nvPr/>
        </p:nvPicPr>
        <p:blipFill>
          <a:blip r:embed="rId1"/>
          <a:stretch/>
        </p:blipFill>
        <p:spPr>
          <a:xfrm>
            <a:off x="457200" y="2209680"/>
            <a:ext cx="4040280" cy="3456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участием родителей. Опыт о вреде сигар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Содержимое 7" descr="P1020424.JPG"/>
          <p:cNvPicPr/>
          <p:nvPr/>
        </p:nvPicPr>
        <p:blipFill>
          <a:blip r:embed="rId2"/>
          <a:stretch/>
        </p:blipFill>
        <p:spPr>
          <a:xfrm>
            <a:off x="4645080" y="2209680"/>
            <a:ext cx="4041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Имею прекрасную связь с родителями и учащимися класса. Стараюсь работать с ними в тесном взаимодействии и сотрудничестве</a:t>
            </a:r>
            <a:r>
              <a:rPr b="1" lang="ru-RU" sz="2000" spc="-1" strike="noStrike" u="sng">
                <a:solidFill>
                  <a:srgbClr val="b3edff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57" name="Содержимое 26" descr="вика 063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58" name="Содержимое 27" descr="вика 065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59" name="Содержимое 28" descr="x_1bf8bb5d.jpg"/>
          <p:cNvPicPr/>
          <p:nvPr/>
        </p:nvPicPr>
        <p:blipFill>
          <a:blip r:embed="rId3"/>
          <a:stretch/>
        </p:blipFill>
        <p:spPr>
          <a:xfrm>
            <a:off x="102888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60" name="Содержимое 29" descr="P1050337.JPG"/>
          <p:cNvPicPr/>
          <p:nvPr/>
        </p:nvPicPr>
        <p:blipFill>
          <a:blip r:embed="rId4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0"/>
          <p:cNvSpPr/>
          <p:nvPr/>
        </p:nvSpPr>
        <p:spPr>
          <a:xfrm>
            <a:off x="5268960" y="55627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ьское собрание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066680" y="5562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аздник-23 февра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32"/>
          <p:cNvSpPr/>
          <p:nvPr/>
        </p:nvSpPr>
        <p:spPr>
          <a:xfrm>
            <a:off x="990720" y="320040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Родители- активные  учасники праздника. Ведущие 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5347800" y="32767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ша дружная семь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6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Constantia"/>
              </a:rPr>
              <a:t>" ДАРИТЕ   ДЕТЯМ   ДОБРОТУ  !  "</a:t>
            </a:r>
            <a:endParaRPr b="1" lang="en-US" sz="1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Constantia"/>
              <a:ea typeface="Constantia"/>
            </a:endParaRPr>
          </a:p>
        </p:txBody>
      </p:sp>
      <p:pic>
        <p:nvPicPr>
          <p:cNvPr id="266" name="Содержимое 8" descr="CIMG2103.JPG"/>
          <p:cNvPicPr/>
          <p:nvPr/>
        </p:nvPicPr>
        <p:blipFill>
          <a:blip r:embed="rId1"/>
          <a:stretch/>
        </p:blipFill>
        <p:spPr>
          <a:xfrm>
            <a:off x="228600" y="30481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380880" y="144792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а своих занятиях и уроках люблю радовать ребят и удивлять одновремен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оэтому провожу их всегда ярко и интересно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Содержимое 9" descr="CIMG2112.JPG"/>
          <p:cNvPicPr/>
          <p:nvPr/>
        </p:nvPicPr>
        <p:blipFill>
          <a:blip r:embed="rId2"/>
          <a:stretch/>
        </p:blipFill>
        <p:spPr>
          <a:xfrm>
            <a:off x="4800600" y="1967040"/>
            <a:ext cx="4191120" cy="325728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6"/>
          <p:cNvSpPr/>
          <p:nvPr/>
        </p:nvSpPr>
        <p:spPr>
          <a:xfrm>
            <a:off x="5715000" y="5257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рок   технологии во 2класс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304920" y="5638680"/>
            <a:ext cx="46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ители-участники праздник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585 0.033 -0.06319 0.058 -0.06319 C 0.095 -0.06319 0.125 -0.02441 0.125 0.02441 C 0.125 0.04021 0.122 0.05457 0.116 0.0675 C 0.117 0.0675 0 0.26137 0 0.2628 C 0 0.26137 -0.117 0.0675 -0.116 0.0675 C -0.122 0.05457 -0.125 0.04021 -0.125 0.02441 C -0.125 -0.02441 -0.095 -0.06319 -0.057 -0.06319 C -0.033 -0.06319 -0.012 -0.02585 0 0 Z">
                                      <p:cBhvr>
                                        <p:cTn id="28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4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рагменты из школьной жизни.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441972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овожу все праздники для ребят и их родителей на высоком методическом уровне.Ребята и их родители-мои первые помощник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CIMG1505"/>
          <p:cNvPicPr/>
          <p:nvPr/>
        </p:nvPicPr>
        <p:blipFill>
          <a:blip r:embed="rId1"/>
          <a:stretch/>
        </p:blipFill>
        <p:spPr>
          <a:xfrm>
            <a:off x="4711680" y="1523880"/>
            <a:ext cx="3606840" cy="2705400"/>
          </a:xfrm>
          <a:prstGeom prst="rect">
            <a:avLst/>
          </a:prstGeom>
          <a:ln w="19080">
            <a:solidFill>
              <a:srgbClr val="ff0066"/>
            </a:solidFill>
            <a:miter/>
          </a:ln>
        </p:spPr>
      </p:pic>
      <p:pic>
        <p:nvPicPr>
          <p:cNvPr id="274" name="Picture 38" descr="DSCN6373"/>
          <p:cNvPicPr/>
          <p:nvPr/>
        </p:nvPicPr>
        <p:blipFill>
          <a:blip r:embed="rId2"/>
          <a:stretch/>
        </p:blipFill>
        <p:spPr>
          <a:xfrm>
            <a:off x="525600" y="1523880"/>
            <a:ext cx="3520800" cy="2640240"/>
          </a:xfrm>
          <a:prstGeom prst="rect">
            <a:avLst/>
          </a:prstGeom>
          <a:ln w="9360">
            <a:solidFill>
              <a:srgbClr val="b3edff"/>
            </a:solidFill>
            <a:miter/>
          </a:ln>
        </p:spPr>
      </p:pic>
      <p:sp>
        <p:nvSpPr>
          <p:cNvPr id="275" name="TextBox 5"/>
          <p:cNvSpPr/>
          <p:nvPr/>
        </p:nvSpPr>
        <p:spPr>
          <a:xfrm>
            <a:off x="4952880" y="3352680"/>
            <a:ext cx="29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на праздни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ктивные участ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549720" y="3429000"/>
            <a:ext cx="28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ценка из жизни Пет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во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Arial"/>
              </a:rPr>
              <a:t>Совместные праздники вместе с родителями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78" name="Содержимое 7" descr="P1030307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8" descr="P1030320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80" name="Содержимое 9" descr="P1030324.JPG"/>
          <p:cNvPicPr/>
          <p:nvPr/>
        </p:nvPicPr>
        <p:blipFill>
          <a:blip r:embed="rId3"/>
          <a:stretch/>
        </p:blipFill>
        <p:spPr>
          <a:xfrm>
            <a:off x="102888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10" descr="P1030343.JPG"/>
          <p:cNvPicPr/>
          <p:nvPr/>
        </p:nvPicPr>
        <p:blipFill>
          <a:blip r:embed="rId4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оугольник 11" descr=""/>
          <p:cNvPicPr/>
          <p:nvPr/>
        </p:nvPicPr>
        <p:blipFill>
          <a:blip r:embed="rId5"/>
          <a:stretch/>
        </p:blipFill>
        <p:spPr>
          <a:xfrm>
            <a:off x="2011320" y="2962440"/>
            <a:ext cx="6224760" cy="1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19:59:57Z</dcterms:created>
  <dc:creator>User</dc:creator>
  <dc:description/>
  <dc:language>en-US</dc:language>
  <cp:lastModifiedBy>User</cp:lastModifiedBy>
  <dcterms:modified xsi:type="dcterms:W3CDTF">2014-12-16T20:14:09Z</dcterms:modified>
  <cp:revision>2</cp:revision>
  <dc:subject/>
  <dc:title>Работа с родителями. </dc:title>
</cp:coreProperties>
</file>