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9017-7482-41FD-8BFD-CA8D0EE4AE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383F-3247-41A2-9052-99CECBAB19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7333-B512-490D-BE02-62CA443905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D8E-FBF8-4020-9D96-7E1709FC1E4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684-D9D7-49D8-BC40-1525B2AC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43E-8EFC-4001-BB46-225391CC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8B7-6EE3-4211-AEC0-777F2F7B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37C-1B7B-41E0-A50B-CA0413A5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249A6-3937-4BDD-8A1C-F73BC444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6C999-53E3-4853-80BF-C4E3AD13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2FC4A-E370-46BC-A4C7-0A985CFB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F2AF3-2021-47F4-BB36-68962F7D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27BE8-E86F-4363-A2B4-5219F2F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E709D-E7FA-479E-9D52-1F643960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62647-07CF-4703-8519-8984F90C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D63-6885-4334-AC1D-BF7ACC63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E1BC2-92C9-4C05-94F6-9324DA6B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78B23-E6B3-4C08-B250-8D3BD7F3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B306C-3AC3-4607-9163-7225622C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F98ED-8CB1-4FF1-8431-C4CC3A43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EF2FA-49DC-413C-AAC2-8C0A4945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67E1-D267-4927-A43C-CF4DBC0C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4B57-DA66-4CEE-9B1A-EFF5B2BB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6325-5EC6-437D-B295-75B952C1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DFD3-49AC-4415-8E26-E64AC66F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EA0E-A881-4381-B12F-86F65C61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7E7-8AD5-4B8C-AD72-6063ADA4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7131-B9CD-4B53-9146-E934CF3F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32B1-425C-40AE-A693-D12D9780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0FC9-E680-46C4-B584-4876AF29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E470-F507-4100-977A-20ADC13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F3F8-FDB8-4C22-AF14-8546ED72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D436-A2DC-4FB0-A010-8272D136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E2DE-14BE-46FE-A582-FE2C205F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989CC-B226-4360-BFAC-7C4402A0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1B8E-92F4-4CFE-A2AB-FAD32DD1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FAE5D-719F-45DA-BD89-D5488327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5C0-8925-41C3-8BFE-7F99937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C132-F669-43AD-BEC1-E01CA88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A1CC-A8AC-4E96-A190-D9A524BE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BD76-957A-48E9-8746-9FAD44E7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A8353-4494-492E-A434-FF3D3E9E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BDD1-E72F-4E7A-86D8-7069BDE7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51E9-F689-4846-8F92-9DAF44E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0953-43D0-456F-ABDD-9A29EA0F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B489C-FEE9-4960-9679-34D52B33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E313-262A-4C4B-8BD4-F30B2B88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318-8FD8-4BBA-925A-C6536F94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982-45F5-458E-A0BC-53D33C08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0E2-CC05-4BBB-8A96-38BC42FB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BD2-B486-49A5-958B-38D342A8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E52-49D1-48FD-ACF7-6E4BFBCE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85EE-66BC-49AC-84B9-7809E4935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3386-BD0A-49C5-9DA6-F6F727CFA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7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DDD4-31CD-4B77-BFA5-C6563A2801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8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155B-6B5B-4E4F-A035-BD1C92DDD0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edff"/>
                </a:solidFill>
                <a:latin typeface="Arial"/>
              </a:rPr>
              <a:t>Классный час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Мы за здоровый образ жизни»</a:t>
            </a: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ники 1-4 клас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Содержимое 6" descr="P1020424.JPG"/>
          <p:cNvPicPr/>
          <p:nvPr/>
        </p:nvPicPr>
        <p:blipFill>
          <a:blip r:embed="rId1"/>
          <a:stretch/>
        </p:blipFill>
        <p:spPr>
          <a:xfrm>
            <a:off x="457200" y="2209680"/>
            <a:ext cx="4040280" cy="3456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участием родителей. Опыт о вреде сигар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Содержимое 7" descr="P1020424.JPG"/>
          <p:cNvPicPr/>
          <p:nvPr/>
        </p:nvPicPr>
        <p:blipFill>
          <a:blip r:embed="rId2"/>
          <a:stretch/>
        </p:blipFill>
        <p:spPr>
          <a:xfrm>
            <a:off x="4645080" y="2209680"/>
            <a:ext cx="4041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мею прекрасную связь с родителями и учащимися класса. Стараюсь работать с ними в тесном взаимодействии и сотрудничестве</a:t>
            </a:r>
            <a:r>
              <a:rPr b="1" lang="ru-RU" sz="2000" spc="-1" strike="noStrike" u="sng">
                <a:solidFill>
                  <a:srgbClr val="b3ed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57" name="Содержимое 26" descr="вика 063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58" name="Содержимое 27" descr="вика 065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28" descr="x_1bf8bb5d.jpg"/>
          <p:cNvPicPr/>
          <p:nvPr/>
        </p:nvPicPr>
        <p:blipFill>
          <a:blip r:embed="rId3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60" name="Содержимое 29" descr="P1050337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0"/>
          <p:cNvSpPr/>
          <p:nvPr/>
        </p:nvSpPr>
        <p:spPr>
          <a:xfrm>
            <a:off x="5268960" y="55627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ьское собрание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066680" y="5562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аздник-23 февра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32"/>
          <p:cNvSpPr/>
          <p:nvPr/>
        </p:nvSpPr>
        <p:spPr>
          <a:xfrm>
            <a:off x="990720" y="32004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Родители- активные  учасники праздника. Ведущие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5347800" y="32767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ша дружная семь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onstantia"/>
              </a:rPr>
              <a:t>" ДАРИТЕ   ДЕТЯМ   ДОБРОТУ  !  "</a:t>
            </a:r>
            <a:endParaRPr b="1" lang="en-US" sz="1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onstantia"/>
              <a:ea typeface="Constantia"/>
            </a:endParaRPr>
          </a:p>
        </p:txBody>
      </p:sp>
      <p:pic>
        <p:nvPicPr>
          <p:cNvPr id="266" name="Содержимое 8" descr="CIMG2103.JPG"/>
          <p:cNvPicPr/>
          <p:nvPr/>
        </p:nvPicPr>
        <p:blipFill>
          <a:blip r:embed="rId1"/>
          <a:stretch/>
        </p:blipFill>
        <p:spPr>
          <a:xfrm>
            <a:off x="228600" y="30481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380880" y="144792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 своих занятиях и уроках люблю радовать ребят и удивлять одновремен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этому провожу их всегда ярко и интересн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Содержимое 9" descr="CIMG2112.JPG"/>
          <p:cNvPicPr/>
          <p:nvPr/>
        </p:nvPicPr>
        <p:blipFill>
          <a:blip r:embed="rId2"/>
          <a:stretch/>
        </p:blipFill>
        <p:spPr>
          <a:xfrm>
            <a:off x="4800600" y="1967040"/>
            <a:ext cx="4191120" cy="325728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6"/>
          <p:cNvSpPr/>
          <p:nvPr/>
        </p:nvSpPr>
        <p:spPr>
          <a:xfrm>
            <a:off x="5715000" y="5257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рок   технологии во 2класс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04920" y="5638680"/>
            <a:ext cx="46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ители-участники праздник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585 0.033 -0.06319 0.058 -0.06319 C 0.095 -0.06319 0.125 -0.02441 0.125 0.02441 C 0.125 0.04021 0.122 0.05457 0.116 0.0675 C 0.117 0.0675 0 0.26137 0 0.2628 C 0 0.26137 -0.117 0.0675 -0.116 0.0675 C -0.122 0.05457 -0.125 0.04021 -0.125 0.02441 C -0.125 -0.02441 -0.095 -0.06319 -0.057 -0.06319 C -0.033 -0.06319 -0.012 -0.02585 0 0 Z">
                                      <p:cBhvr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агменты из школьной жизни.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441972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овожу все праздники для ребят и их родителей на высоком методическом уровне.Ребята и их родители-мои первые помощник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CIMG1505"/>
          <p:cNvPicPr/>
          <p:nvPr/>
        </p:nvPicPr>
        <p:blipFill>
          <a:blip r:embed="rId1"/>
          <a:stretch/>
        </p:blipFill>
        <p:spPr>
          <a:xfrm>
            <a:off x="4711680" y="1523880"/>
            <a:ext cx="3606840" cy="2705400"/>
          </a:xfrm>
          <a:prstGeom prst="rect">
            <a:avLst/>
          </a:prstGeom>
          <a:ln w="19080">
            <a:solidFill>
              <a:srgbClr val="ff0066"/>
            </a:solidFill>
            <a:miter/>
          </a:ln>
        </p:spPr>
      </p:pic>
      <p:pic>
        <p:nvPicPr>
          <p:cNvPr id="274" name="Picture 38" descr="DSCN6373"/>
          <p:cNvPicPr/>
          <p:nvPr/>
        </p:nvPicPr>
        <p:blipFill>
          <a:blip r:embed="rId2"/>
          <a:stretch/>
        </p:blipFill>
        <p:spPr>
          <a:xfrm>
            <a:off x="525600" y="1523880"/>
            <a:ext cx="3520800" cy="2640240"/>
          </a:xfrm>
          <a:prstGeom prst="rect">
            <a:avLst/>
          </a:prstGeom>
          <a:ln w="9360">
            <a:solidFill>
              <a:srgbClr val="b3edff"/>
            </a:solidFill>
            <a:miter/>
          </a:ln>
        </p:spPr>
      </p:pic>
      <p:sp>
        <p:nvSpPr>
          <p:cNvPr id="275" name="TextBox 5"/>
          <p:cNvSpPr/>
          <p:nvPr/>
        </p:nvSpPr>
        <p:spPr>
          <a:xfrm>
            <a:off x="4952880" y="33526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на праздни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тивные участ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549720" y="342900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ценка из жизни Пет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Arial"/>
              </a:rPr>
              <a:t>Совместные праздники вместе с родителями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78" name="Содержимое 7" descr="P1030307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8" descr="P1030320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9" descr="P1030324.JPG"/>
          <p:cNvPicPr/>
          <p:nvPr/>
        </p:nvPicPr>
        <p:blipFill>
          <a:blip r:embed="rId3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10" descr="P1030343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11" descr=""/>
          <p:cNvPicPr/>
          <p:nvPr/>
        </p:nvPicPr>
        <p:blipFill>
          <a:blip r:embed="rId5"/>
          <a:stretch/>
        </p:blipFill>
        <p:spPr>
          <a:xfrm>
            <a:off x="2011320" y="2962440"/>
            <a:ext cx="622476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19:59:57Z</dcterms:created>
  <dc:creator>User</dc:creator>
  <dc:description/>
  <dc:language>en-US</dc:language>
  <cp:lastModifiedBy>User</cp:lastModifiedBy>
  <dcterms:modified xsi:type="dcterms:W3CDTF">2014-12-16T20:14:09Z</dcterms:modified>
  <cp:revision>2</cp:revision>
  <dc:subject/>
  <dc:title>Работа с родителями. </dc:title>
</cp:coreProperties>
</file>