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E13B-5F20-438F-8258-A784E16FB5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635D-654C-4E88-97C3-BBD5EC9B1A0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DD86-65EF-4BA2-B843-CD790A7EB4D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B92E-9F3D-4A68-9B2D-31A50FC11BB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9D4C-87B3-4CFF-8F24-CB02E941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CCF7-6866-4120-B4B8-08A57295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3588-76BF-4766-995C-DBBE009C3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5FB1-337C-41E2-8E42-4B5CC05EF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F128E-A0CB-4DD7-9F00-B430B5CB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5E2BB-25E4-44F2-952C-585309B6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A304A-6F10-40B9-8B08-6D7D8F6D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50421-E8EA-49FF-836E-40CCBDF8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D1E05-A67E-4C48-8C93-F1556FB2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897E9-7D47-4BE2-9FDD-A0CF72F8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C8FD3-75FE-4044-A801-2D00826E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E103-DB8E-451A-9490-8D22AAD6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D596F-CBB0-44C2-B140-A40791BF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E6AFE-D265-40CB-A959-19A2DAC8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7780A-6880-434D-A25E-6E57541C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B0E1C-3C7F-47F9-8D8C-768A2CAAD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2280F-E369-4969-8A15-59A5605FB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C8FCE-C6BE-4830-9AC4-A512DC0EE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A12EA-B1EB-4074-9D3A-699004FE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58221-6B26-4130-BD44-625F005F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01E06-197F-47EA-B6D7-DC7E1C62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0677C-40E1-406E-8F8F-5451800C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2DFA-4163-49C1-A9A0-44320B0C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01006-00CE-41AA-B0E4-980C1A29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C8541-149B-4224-8B00-E1E8F162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C7B13-2913-42E3-95B3-D20D2027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99791-1C0E-4C26-9FF0-41D2AB1D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EC954-98D1-45D8-8568-4783BEC2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10E73-C27A-4882-B63B-065B2558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491C5-2AAD-480D-8C5E-8FD141F53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2ECD7-84BB-4988-AF2D-84B56C50E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5B987-4D59-439B-BFC7-107AB37F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80FBD-C7DC-4F59-93AB-E93AB140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41E3-E690-4194-B5BE-62573A8E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21BB4-6878-48CF-907F-E6ACDCD8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ABAA4-362E-4505-B3CA-9A26594E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1AF30-4765-4F32-BE8B-DE953D82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8AAC0-3F45-4E97-BFB7-0E913C8B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DBDD1-3E8F-4900-A543-5C54009E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B933C-D6F4-43AA-9017-BBB90E4F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71F33-0D72-420B-81F9-E3BCB3BE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B88C0-9BBB-4334-8E1F-DA0AE5F6C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7A2F1-3F91-4FAD-9CB1-054849F1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2F8C-098C-40EA-8240-F01B1E38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808C-D91D-4EB4-8F5D-CA64827E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82A1-7E28-47A3-94EB-75E56712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A70F-17EE-4429-9D87-F8829D0A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573C-04E3-4A7B-B276-252D512F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E85F-4C06-4A36-85A1-116B4BE086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770E-8DB2-45AB-A0FF-E818DEAC5A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27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29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4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6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FEBA-3BF3-43C8-90F9-0B36158EDF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4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88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90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5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7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2FBB-9020-4FB6-A148-8C6FA673B9D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3edff"/>
                </a:solidFill>
                <a:latin typeface="Arial"/>
              </a:rPr>
              <a:t>Классный час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«Мы за здоровый образ жизни»</a:t>
            </a:r>
            <a:endParaRPr b="0" lang="en-US" sz="32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астники 1-4 класс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Содержимое 6" descr="P1020424.JPG"/>
          <p:cNvPicPr/>
          <p:nvPr/>
        </p:nvPicPr>
        <p:blipFill>
          <a:blip r:embed="rId1"/>
          <a:stretch/>
        </p:blipFill>
        <p:spPr>
          <a:xfrm>
            <a:off x="457200" y="2209680"/>
            <a:ext cx="4040280" cy="34560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67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участием родителей. Опыт о вреде сигаре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Содержимое 7" descr="P1020424.JPG"/>
          <p:cNvPicPr/>
          <p:nvPr/>
        </p:nvPicPr>
        <p:blipFill>
          <a:blip r:embed="rId2"/>
          <a:stretch/>
        </p:blipFill>
        <p:spPr>
          <a:xfrm>
            <a:off x="4645080" y="2209680"/>
            <a:ext cx="4041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Имею прекрасную связь с родителями и учащимися класса. Стараюсь работать с ними в тесном взаимодействии и сотрудничестве</a:t>
            </a:r>
            <a:r>
              <a:rPr b="1" lang="ru-RU" sz="2000" spc="-1" strike="noStrike" u="sng">
                <a:solidFill>
                  <a:srgbClr val="b3edff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257" name="Содержимое 26" descr="вика 063.jpg"/>
          <p:cNvPicPr/>
          <p:nvPr/>
        </p:nvPicPr>
        <p:blipFill>
          <a:blip r:embed="rId1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258" name="Содержимое 27" descr="вика 065.jpg"/>
          <p:cNvPicPr/>
          <p:nvPr/>
        </p:nvPicPr>
        <p:blipFill>
          <a:blip r:embed="rId2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  <p:pic>
        <p:nvPicPr>
          <p:cNvPr id="259" name="Содержимое 28" descr="x_1bf8bb5d.jpg"/>
          <p:cNvPicPr/>
          <p:nvPr/>
        </p:nvPicPr>
        <p:blipFill>
          <a:blip r:embed="rId3"/>
          <a:stretch/>
        </p:blipFill>
        <p:spPr>
          <a:xfrm>
            <a:off x="1028880" y="392436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260" name="Содержимое 29" descr="P1050337.JPG"/>
          <p:cNvPicPr/>
          <p:nvPr/>
        </p:nvPicPr>
        <p:blipFill>
          <a:blip r:embed="rId4"/>
          <a:stretch/>
        </p:blipFill>
        <p:spPr>
          <a:xfrm>
            <a:off x="5219640" y="3924360"/>
            <a:ext cx="2895840" cy="2171520"/>
          </a:xfrm>
          <a:prstGeom prst="rect">
            <a:avLst/>
          </a:prstGeom>
          <a:ln w="0">
            <a:noFill/>
          </a:ln>
        </p:spPr>
      </p:pic>
      <p:sp>
        <p:nvSpPr>
          <p:cNvPr id="261" name="TextBox 30"/>
          <p:cNvSpPr/>
          <p:nvPr/>
        </p:nvSpPr>
        <p:spPr>
          <a:xfrm>
            <a:off x="5268960" y="556272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дительское собрание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Box 31"/>
          <p:cNvSpPr/>
          <p:nvPr/>
        </p:nvSpPr>
        <p:spPr>
          <a:xfrm>
            <a:off x="1066680" y="5562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аздник-23 февра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32"/>
          <p:cNvSpPr/>
          <p:nvPr/>
        </p:nvSpPr>
        <p:spPr>
          <a:xfrm>
            <a:off x="990720" y="3200400"/>
            <a:ext cx="29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Родители- активные  учасники праздника. Ведущие 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33"/>
          <p:cNvSpPr/>
          <p:nvPr/>
        </p:nvSpPr>
        <p:spPr>
          <a:xfrm>
            <a:off x="5347800" y="3276720"/>
            <a:ext cx="26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ша дружная семья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WordArt 6"/>
          <p:cNvSpPr txBox="1"/>
          <p:nvPr/>
        </p:nvSpPr>
        <p:spPr>
          <a:xfrm>
            <a:off x="457200" y="22860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Constantia"/>
              </a:rPr>
              <a:t>" ДАРИТЕ   ДЕТЯМ   ДОБРОТУ  !  "</a:t>
            </a:r>
            <a:endParaRPr b="1" lang="en-US" sz="1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Constantia"/>
              <a:ea typeface="Constantia"/>
            </a:endParaRPr>
          </a:p>
        </p:txBody>
      </p:sp>
      <p:pic>
        <p:nvPicPr>
          <p:cNvPr id="266" name="Содержимое 8" descr="CIMG2103.JPG"/>
          <p:cNvPicPr/>
          <p:nvPr/>
        </p:nvPicPr>
        <p:blipFill>
          <a:blip r:embed="rId1"/>
          <a:stretch/>
        </p:blipFill>
        <p:spPr>
          <a:xfrm>
            <a:off x="228600" y="3048120"/>
            <a:ext cx="4038480" cy="30286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380880" y="1447920"/>
            <a:ext cx="38102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На своих занятиях и уроках люблю радовать ребят и удивлять одновременно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поэтому провожу их всегда ярко и интересно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Содержимое 9" descr="CIMG2112.JPG"/>
          <p:cNvPicPr/>
          <p:nvPr/>
        </p:nvPicPr>
        <p:blipFill>
          <a:blip r:embed="rId2"/>
          <a:stretch/>
        </p:blipFill>
        <p:spPr>
          <a:xfrm>
            <a:off x="4800600" y="1967040"/>
            <a:ext cx="4191120" cy="3257280"/>
          </a:xfrm>
          <a:prstGeom prst="rect">
            <a:avLst/>
          </a:prstGeom>
          <a:ln w="0">
            <a:noFill/>
          </a:ln>
        </p:spPr>
      </p:pic>
      <p:sp>
        <p:nvSpPr>
          <p:cNvPr id="269" name="Прямоугольник 6"/>
          <p:cNvSpPr/>
          <p:nvPr/>
        </p:nvSpPr>
        <p:spPr>
          <a:xfrm>
            <a:off x="5715000" y="52578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рок   технологии во 2класс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304920" y="5638680"/>
            <a:ext cx="46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одители-участники праздника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585 0.033 -0.06319 0.058 -0.06319 C 0.095 -0.06319 0.125 -0.02441 0.125 0.02441 C 0.125 0.04021 0.122 0.05457 0.116 0.0675 C 0.117 0.0675 0 0.26137 0 0.2628 C 0 0.26137 -0.117 0.0675 -0.116 0.0675 C -0.122 0.05457 -0.125 0.04021 -0.125 0.02441 C -0.125 -0.02441 -0.095 -0.06319 -0.057 -0.06319 C -0.033 -0.06319 -0.012 -0.02585 0 0 Z">
                                      <p:cBhvr>
                                        <p:cTn id="28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WordArt 4"/>
          <p:cNvSpPr txBox="1"/>
          <p:nvPr/>
        </p:nvSpPr>
        <p:spPr>
          <a:xfrm>
            <a:off x="457200" y="22860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рагменты из школьной жизни.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4419720"/>
            <a:ext cx="8229600" cy="13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Провожу все праздники для ребят и их родителей на высоком методическом уровне.Ребята и их родители-мои первые помощники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7" descr="CIMG1505"/>
          <p:cNvPicPr/>
          <p:nvPr/>
        </p:nvPicPr>
        <p:blipFill>
          <a:blip r:embed="rId1"/>
          <a:stretch/>
        </p:blipFill>
        <p:spPr>
          <a:xfrm>
            <a:off x="4711680" y="1523880"/>
            <a:ext cx="3606840" cy="2705400"/>
          </a:xfrm>
          <a:prstGeom prst="rect">
            <a:avLst/>
          </a:prstGeom>
          <a:ln w="19080">
            <a:solidFill>
              <a:srgbClr val="ff0066"/>
            </a:solidFill>
            <a:miter/>
          </a:ln>
        </p:spPr>
      </p:pic>
      <p:pic>
        <p:nvPicPr>
          <p:cNvPr id="274" name="Picture 38" descr="DSCN6373"/>
          <p:cNvPicPr/>
          <p:nvPr/>
        </p:nvPicPr>
        <p:blipFill>
          <a:blip r:embed="rId2"/>
          <a:stretch/>
        </p:blipFill>
        <p:spPr>
          <a:xfrm>
            <a:off x="525600" y="1523880"/>
            <a:ext cx="3520800" cy="2640240"/>
          </a:xfrm>
          <a:prstGeom prst="rect">
            <a:avLst/>
          </a:prstGeom>
          <a:ln w="9360">
            <a:solidFill>
              <a:srgbClr val="b3edff"/>
            </a:solidFill>
            <a:miter/>
          </a:ln>
        </p:spPr>
      </p:pic>
      <p:sp>
        <p:nvSpPr>
          <p:cNvPr id="275" name="TextBox 5"/>
          <p:cNvSpPr/>
          <p:nvPr/>
        </p:nvSpPr>
        <p:spPr>
          <a:xfrm>
            <a:off x="4952880" y="3352680"/>
            <a:ext cx="29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дители на праздник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ктивные участн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Box 7"/>
          <p:cNvSpPr/>
          <p:nvPr/>
        </p:nvSpPr>
        <p:spPr>
          <a:xfrm>
            <a:off x="549720" y="3429000"/>
            <a:ext cx="28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ценка из жизни Петр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ервог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00"/>
                </a:solidFill>
                <a:latin typeface="Arial"/>
              </a:rPr>
              <a:t>Совместные праздники вместе с родителями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278" name="Содержимое 7" descr="P1030307.JPG"/>
          <p:cNvPicPr/>
          <p:nvPr/>
        </p:nvPicPr>
        <p:blipFill>
          <a:blip r:embed="rId1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279" name="Содержимое 8" descr="P1030320.JPG"/>
          <p:cNvPicPr/>
          <p:nvPr/>
        </p:nvPicPr>
        <p:blipFill>
          <a:blip r:embed="rId2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  <p:pic>
        <p:nvPicPr>
          <p:cNvPr id="280" name="Содержимое 9" descr="P1030324.JPG"/>
          <p:cNvPicPr/>
          <p:nvPr/>
        </p:nvPicPr>
        <p:blipFill>
          <a:blip r:embed="rId3"/>
          <a:stretch/>
        </p:blipFill>
        <p:spPr>
          <a:xfrm>
            <a:off x="1028880" y="392436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281" name="Содержимое 10" descr="P1030343.JPG"/>
          <p:cNvPicPr/>
          <p:nvPr/>
        </p:nvPicPr>
        <p:blipFill>
          <a:blip r:embed="rId4"/>
          <a:stretch/>
        </p:blipFill>
        <p:spPr>
          <a:xfrm>
            <a:off x="5219640" y="3924360"/>
            <a:ext cx="2895840" cy="2171520"/>
          </a:xfrm>
          <a:prstGeom prst="rect">
            <a:avLst/>
          </a:prstGeom>
          <a:ln w="0">
            <a:noFill/>
          </a:ln>
        </p:spPr>
      </p:pic>
      <p:pic>
        <p:nvPicPr>
          <p:cNvPr id="282" name="Прямоугольник 11" descr=""/>
          <p:cNvPicPr/>
          <p:nvPr/>
        </p:nvPicPr>
        <p:blipFill>
          <a:blip r:embed="rId5"/>
          <a:stretch/>
        </p:blipFill>
        <p:spPr>
          <a:xfrm>
            <a:off x="2011320" y="2962440"/>
            <a:ext cx="6224760" cy="148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6T19:59:57Z</dcterms:created>
  <dc:creator>User</dc:creator>
  <dc:description/>
  <dc:language>en-US</dc:language>
  <cp:lastModifiedBy>User</cp:lastModifiedBy>
  <dcterms:modified xsi:type="dcterms:W3CDTF">2014-12-16T20:14:09Z</dcterms:modified>
  <cp:revision>2</cp:revision>
  <dc:subject/>
  <dc:title>Работа с родителями. </dc:title>
</cp:coreProperties>
</file>