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CF2-CD35-4EBE-B345-407CE015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E9B-BA0C-4393-9D19-257D1C3C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FAA-DA50-44F3-9A43-20D5ACCC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0D22-12A2-4083-9898-0F4620B6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F0A-01EE-4425-A951-21AD486C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11E-F86A-4EE5-9A75-1CE33B61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F2C-AF7A-4731-A708-431350D0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C5A-6C96-4380-9765-2AE16142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639-B9D5-4F34-85B8-1612970B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426-BA6A-47CC-83FB-6E38D309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729-C46D-4716-A81D-2456B78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936-E436-47CA-A5ED-04EC1BB9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F723-4FA4-4BBB-946E-D3FF3A921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гоголь11.jpg"/>
          <p:cNvPicPr/>
          <p:nvPr/>
        </p:nvPicPr>
        <p:blipFill>
          <a:blip r:embed="rId1"/>
          <a:stretch/>
        </p:blipFill>
        <p:spPr>
          <a:xfrm>
            <a:off x="539640" y="411120"/>
            <a:ext cx="4430880" cy="5346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5286240" y="2060640"/>
            <a:ext cx="357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Николай Васильевич Гого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(1809- 185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3357720" y="285840"/>
            <a:ext cx="5500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ука Лукич Хло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отритель учили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к савицкий 1901-1902 хлопов.jpg"/>
          <p:cNvPicPr/>
          <p:nvPr/>
        </p:nvPicPr>
        <p:blipFill>
          <a:blip r:embed="rId2"/>
          <a:stretch/>
        </p:blipFill>
        <p:spPr>
          <a:xfrm>
            <a:off x="357120" y="428760"/>
            <a:ext cx="2071800" cy="54655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928960" y="1428840"/>
            <a:ext cx="5500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ирение и запуганность –вот главные его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 себ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е приведи бог служить по  учёной части, всего боишься. Всякий мешается, всякому хочется показать, что он тоже умный челов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аговори со мною одним чином выше, у меня просто и души нет, и язык, как в грязь, завяз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lit08-08.jpg"/>
          <p:cNvPicPr/>
          <p:nvPr/>
        </p:nvPicPr>
        <p:blipFill>
          <a:blip r:embed="rId1"/>
          <a:stretch/>
        </p:blipFill>
        <p:spPr>
          <a:xfrm>
            <a:off x="5643720" y="1714680"/>
            <a:ext cx="2782800" cy="4470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857240" y="214200"/>
            <a:ext cx="550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ван Кузьмич Шпе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тмей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начальник почтовой конторы, ведал пересылкой почты и перевозкой пассажи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7120" y="178596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обродушной наивностью и без зазрения совести вскрывает и читает чужие пись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Это я делаю из любопытства: смерть люблю узнать, что есть нового на свете! Иное письмо с наслаждением прочтёшь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бокл бобч добч 1980-е.jpg"/>
          <p:cNvPicPr/>
          <p:nvPr/>
        </p:nvPicPr>
        <p:blipFill>
          <a:blip r:embed="rId1"/>
          <a:stretch/>
        </p:blipFill>
        <p:spPr>
          <a:xfrm>
            <a:off x="4786200" y="1500120"/>
            <a:ext cx="3643560" cy="4897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999040"/>
            <a:ext cx="9144000" cy="858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4071960" y="2858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ётр Иванович Бобч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ётр Иванович Добч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родские поме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85840" y="857160"/>
            <a:ext cx="45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хожи, но не тождествен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бчинский  проворнее, но Добчинский серьёзнее и солиднее. Именно его берёт Городничий с собой к Хлестакову, а  Добчинский бежит «петушком за дрожкам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их есть постоянное соперничество: каждый спешит  что-то узнать, открыть, поэтому, наверное, не возникло бы действие пьесы, не будь этих двух сплетников с тончайшими различиями их характ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14200" y="44290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обчинский о Хлестако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Он! И денег не платит, и не едет. Кому ж быть, как не ему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Добчинский о своих ощущения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Когда вельможа говорит, чувствуешь стр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боклевский 1856 ревизор.jpg"/>
          <p:cNvPicPr/>
          <p:nvPr/>
        </p:nvPicPr>
        <p:blipFill>
          <a:blip r:embed="rId1"/>
          <a:stretch/>
        </p:blipFill>
        <p:spPr>
          <a:xfrm>
            <a:off x="6357960" y="1844640"/>
            <a:ext cx="2504880" cy="4227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142920" y="285840"/>
            <a:ext cx="878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епан Ильич Уховёртов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ный пристав (полицейский чинов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истунов, Пуговицын, Держиморд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ицей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428760" y="1857240"/>
            <a:ext cx="57862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Пуговицыну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мотри! Не по чину берёшь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Уховёртов – Городнич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вартального Пуговицына я послал подчищать тротуар, Держиморда поехал на пожарной трубе, а Прохоров пьян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6" descr="к савицкий 1901-1902 городнич и полиция.jpg"/>
          <p:cNvPicPr/>
          <p:nvPr/>
        </p:nvPicPr>
        <p:blipFill>
          <a:blip r:embed="rId3"/>
          <a:stretch/>
        </p:blipFill>
        <p:spPr>
          <a:xfrm>
            <a:off x="1071720" y="2428920"/>
            <a:ext cx="2714400" cy="29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999040"/>
            <a:ext cx="9144000" cy="85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2714760" y="28584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ван Александрович Хлест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новник низшего 14-ого класса из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gogol-heroes_4.jpg"/>
          <p:cNvPicPr/>
          <p:nvPr/>
        </p:nvPicPr>
        <p:blipFill>
          <a:blip r:embed="rId2"/>
          <a:stretch/>
        </p:blipFill>
        <p:spPr>
          <a:xfrm>
            <a:off x="214200" y="285840"/>
            <a:ext cx="2357640" cy="4000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2643120" y="1143000"/>
            <a:ext cx="62866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вшись виновником всеобщего обмана, он никого не обманывал, у него совсем нет реплик «в сторону», так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что на уме, то и на язы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него не существует недоразумений, так как он совсем не умеет анализировать обстанов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—как вода, принимающая  форму любого сосуда. У него необыкновенная приспособля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с успехом сыграл роль  ревизора, даже не поняв, что он её играет, начав догадываться лишь к середине четвёрт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42920" y="4500720"/>
            <a:ext cx="29289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Гого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Хлестаков, сам по себе, ничтожный человек…сила всеобщего страха создала из него замечательное комическое лицо..  в нём всё сюрприз и неожиданн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3214800" y="4429080"/>
            <a:ext cx="528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обч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Молодой человек, лет двадцати трёх или четырёх с небольши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обч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Шантрет / шатен/, и  глаза такие быстрые, как зверь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3286080" y="37148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лестаков о с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« Ведь на то живёшь, чтоб срывать цветы удовольств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4286160" y="2858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и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га Хлест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3" descr="конст 1950 осип.jpg"/>
          <p:cNvPicPr/>
          <p:nvPr/>
        </p:nvPicPr>
        <p:blipFill>
          <a:blip r:embed="rId2"/>
          <a:stretch/>
        </p:blipFill>
        <p:spPr>
          <a:xfrm>
            <a:off x="357120" y="785880"/>
            <a:ext cx="3429000" cy="47624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3929040" y="1000080"/>
            <a:ext cx="492912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…на деревне лучше: лежи весь век на полатях да ешь пироги»           ( о  жиз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…не хочешь платить—изволь: у каждого дома есть сквозные ворота, и ты так шмыгнёшь, что тебя никакой дьявол не сыщет»                             ( о Петербург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обро бы было в самом деле что-нибудь путное, а то ведь  елистратишка * простой ( *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лежский регистратор-чинов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го низшего 14 клас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генерал, да только с другой стороны»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 о Хлестако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что, там другой выход ест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 о доме Городниче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928800" y="1285920"/>
            <a:ext cx="75722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Comic Sans MS"/>
              </a:rPr>
              <a:t>      </a:t>
            </a:r>
            <a:r>
              <a:rPr b="0" lang="ru-RU" sz="6000" spc="-1" strike="noStrike">
                <a:solidFill>
                  <a:srgbClr val="663300"/>
                </a:solidFill>
                <a:latin typeface="Comic Sans MS"/>
              </a:rPr>
              <a:t>«Ревизор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Комедия в пяти действ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На зеркало неча пенять, коли рожа крива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                                                                                        </a:t>
            </a: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Народная послов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устюжна.jpg"/>
          <p:cNvPicPr/>
          <p:nvPr/>
        </p:nvPicPr>
        <p:blipFill>
          <a:blip r:embed="rId1"/>
          <a:stretch/>
        </p:blipFill>
        <p:spPr>
          <a:xfrm>
            <a:off x="5072040" y="4205160"/>
            <a:ext cx="2594160" cy="197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Рисунок 5" descr="дом в устюжне.jpg"/>
          <p:cNvPicPr/>
          <p:nvPr/>
        </p:nvPicPr>
        <p:blipFill>
          <a:blip r:embed="rId2"/>
          <a:stretch/>
        </p:blipFill>
        <p:spPr>
          <a:xfrm>
            <a:off x="390600" y="4248000"/>
            <a:ext cx="2844720" cy="201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Рисунок 1" descr="ad9acf9ba5f797611444f8063f8127a1.gif"/>
          <p:cNvPicPr/>
          <p:nvPr/>
        </p:nvPicPr>
        <p:blipFill>
          <a:blip r:embed="rId3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устюжна современная администрация города.jpg"/>
          <p:cNvPicPr/>
          <p:nvPr/>
        </p:nvPicPr>
        <p:blipFill>
          <a:blip r:embed="rId4"/>
          <a:stretch/>
        </p:blipFill>
        <p:spPr>
          <a:xfrm>
            <a:off x="160200" y="1379520"/>
            <a:ext cx="2411640" cy="25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extBox 6"/>
          <p:cNvSpPr/>
          <p:nvPr/>
        </p:nvSpPr>
        <p:spPr>
          <a:xfrm>
            <a:off x="571680" y="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ездный город Устюжна Новгородской губерн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произошёл случай, подобный сюжету «Ревизо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85840" y="78588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Городнич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Да отсюда, хоть три года скачи, ни до какого государства не доедеш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4857840" y="642960"/>
            <a:ext cx="428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Ю.Манн, литературов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«Сила «Ревизора» в том, что это особый город. Все нормы общежития, обращения людей друг к другу выглядят как повсеместные..Перед нами весь мир русской жизни, «вся Рус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571840" y="1357200"/>
            <a:ext cx="214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 администрации города, в котором  мог управлять делами Городни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286080" y="4643280"/>
            <a:ext cx="1643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инный особня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мог жить  Сквозник-Дмухано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7858080" y="4071960"/>
            <a:ext cx="1285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а со старыми дом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которой могли гулять  герои «Ревизо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6489720" y="2892600"/>
            <a:ext cx="24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чти центр город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устюжна новгородской губернии.jpg"/>
          <p:cNvPicPr/>
          <p:nvPr/>
        </p:nvPicPr>
        <p:blipFill>
          <a:blip r:embed="rId5"/>
          <a:stretch/>
        </p:blipFill>
        <p:spPr>
          <a:xfrm>
            <a:off x="3695760" y="2289240"/>
            <a:ext cx="2752560" cy="183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785880" y="78588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Comic Sans MS"/>
              </a:rPr>
              <a:t>Действующие  лиц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00040" y="1500120"/>
            <a:ext cx="8001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бор персонажей в «Ревизоре» обнаруживает стремление охватить максимально все стороны общественной жизни и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т и судопроизводство  ( Ляпкин-Тяпкин), и просвещение (Хлопов), и здравоохранение (Гибне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 почта  (Шпекин), и своего рода социальное обеспечение( Земляника), и, конечно, поли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кого  широкого  взгляда  на  официальную государственную  жизнь  русская  комедия  ещё  не знал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.Манн «Комедия Гоголя «Ревиз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614520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3357720" y="2858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тон Анто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возник-Дмухановский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родн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286080" y="1571760"/>
            <a:ext cx="528660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письма Чмых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ты человек умный и не любишь пропускать того, что плывёт в руки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ника  при разговоре с Хлестаковы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Эка, бездельник, как расписывает! Дал же бог такой дар!» «Этакой свинье лезет всегда в рот счастье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 из купц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такие обиды чинит, что описать нельзя…совсем заморил, хоть в петлю полезай…ему всего мало…что ни попадёт, всё берё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япкин-Тяпк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Вот уж кому пристало генеральство, как корове седл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письма Хлестак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городничий глуп, как сивый мери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lit08-18.jpg"/>
          <p:cNvPicPr/>
          <p:nvPr/>
        </p:nvPicPr>
        <p:blipFill>
          <a:blip r:embed="rId2"/>
          <a:stretch/>
        </p:blipFill>
        <p:spPr>
          <a:xfrm>
            <a:off x="539640" y="271440"/>
            <a:ext cx="2305080" cy="4071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357120" y="4357800"/>
            <a:ext cx="86439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себ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ет другого помышления, кроме того, чтобы благочинием и бдительностью заслужить внимание началь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а кто тебе помог сплутовать?..я тебе помо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ризнаюсь…очень хочу быть генерал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ак я?..тридцать лет живу на службе…мошенников над мошенниками обманывал..трёх губернаторов обманул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рудаков.jpg"/>
          <p:cNvPicPr/>
          <p:nvPr/>
        </p:nvPicPr>
        <p:blipFill>
          <a:blip r:embed="rId1"/>
          <a:stretch/>
        </p:blipFill>
        <p:spPr>
          <a:xfrm>
            <a:off x="5724360" y="1785960"/>
            <a:ext cx="3214800" cy="4321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5072040" y="0"/>
            <a:ext cx="364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на городни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рья Ант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чь городни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lit08-13.jpg"/>
          <p:cNvPicPr/>
          <p:nvPr/>
        </p:nvPicPr>
        <p:blipFill>
          <a:blip r:embed="rId3"/>
          <a:stretch/>
        </p:blipFill>
        <p:spPr>
          <a:xfrm>
            <a:off x="2714760" y="1341360"/>
            <a:ext cx="2552400" cy="3595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lit08-10.jpg"/>
          <p:cNvPicPr/>
          <p:nvPr/>
        </p:nvPicPr>
        <p:blipFill>
          <a:blip r:embed="rId4"/>
          <a:stretch/>
        </p:blipFill>
        <p:spPr>
          <a:xfrm>
            <a:off x="250920" y="333360"/>
            <a:ext cx="2243160" cy="343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ляпкин-тяпкин.jpg"/>
          <p:cNvPicPr/>
          <p:nvPr/>
        </p:nvPicPr>
        <p:blipFill>
          <a:blip r:embed="rId1"/>
          <a:stretch/>
        </p:blipFill>
        <p:spPr>
          <a:xfrm>
            <a:off x="198360" y="285840"/>
            <a:ext cx="2617920" cy="5829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2714760" y="28584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мос Фёдорович Ляпкин-Тяп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д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143160" y="1071720"/>
            <a:ext cx="52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судь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У вас в передней, куда являются просители, сторожа завели гусей с гусёнками…кроме того, заседатель ваш…от него такой запах, как будто бы он сейчас вышел из винокуренного завода, …в бога не веруете, в церковь не ходит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япкин-Тяпкин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Я говорю всем открыто, что беру взятки. Но чем взятки? Борзыми щенками. Это совсем иное де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япкин-Тяпкин - Земляник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Чего вам бояться?  Колпаки  чистые надел на больных, да концы в воду…  я вот уже пятнадцать лет сижу на судейском стуле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3357720" y="2858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темий Филиппович Земля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печитель богоугод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руководитель больни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земляникуа.jpg"/>
          <p:cNvPicPr/>
          <p:nvPr/>
        </p:nvPicPr>
        <p:blipFill>
          <a:blip r:embed="rId2"/>
          <a:stretch/>
        </p:blipFill>
        <p:spPr>
          <a:xfrm>
            <a:off x="428760" y="285840"/>
            <a:ext cx="2571480" cy="5572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357720" y="1500120"/>
            <a:ext cx="52149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лость, доносительство и коварство – лишь неполный перечень качеств этого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Землян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делайте, чтобы больные не походили бы на кузнецов, как обыкновенно они ходят по-домашне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- Хлестако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Больные все, как мухи, выздоравливаю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учит чиновников, как дать ревизору взятк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Представиться нужно поодиночке, да между четырёх глаз и того…как там следует, чтобы и уши не слыхали. Вот как в обществе благоустроенном делае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3357720" y="285840"/>
            <a:ext cx="5500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истиан Иванович Гиб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ездный л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главный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гибнер-носик.jpg"/>
          <p:cNvPicPr/>
          <p:nvPr/>
        </p:nvPicPr>
        <p:blipFill>
          <a:blip r:embed="rId2"/>
          <a:stretch/>
        </p:blipFill>
        <p:spPr>
          <a:xfrm>
            <a:off x="285840" y="178596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071960" y="192888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о Гибнер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асчёт врачевания мы с Христианом Ивановичем взяли меры: человек простой: если умрёт, то и так умрёт; если выздоровеет, то и так выздоровее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 и Христиан Иванович по-рус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 слова не знает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3:24:40Z</dcterms:created>
  <dc:creator>Test</dc:creator>
  <dc:description/>
  <dc:language>en-US</dc:language>
  <cp:lastModifiedBy>Comp</cp:lastModifiedBy>
  <dcterms:modified xsi:type="dcterms:W3CDTF">2014-09-30T20:06:50Z</dcterms:modified>
  <cp:revision>53</cp:revision>
  <dc:subject/>
  <dc:title>Слайд 1</dc:title>
</cp:coreProperties>
</file>