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D43-7218-48C0-B256-87EE6DDF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6F8-F3B4-4731-8C73-D42E705E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052-D385-49A3-A715-CDF713AD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D9E-86D9-4B9C-BB17-946CD86F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EAF4-EE37-4119-B5D7-A540B332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4EAA-107F-4299-8CEF-F61AE016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1EB7-AFF0-446A-8605-F2FA4973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4102-E4A6-4B21-B222-13669B10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227A-E504-4228-BD01-B90C7372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4559-0F3D-419B-9883-D773B8C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2877-CBDE-427C-941A-2CACD90D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50B-B574-4C2A-A57A-6F15D30B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67CB-1604-41B8-B371-8C817CF8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0D74-74D8-48E3-9453-3131917D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FD90-FD56-4A6F-9048-35B6FFD1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BD3D-BA09-406D-B891-CB5889B6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FAFD-F744-4D57-978C-E15800FC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84F-44A0-40E6-8E1F-86462ACC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052-C10B-442F-825B-44B6D243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DDE-03F6-45DE-8F9F-372B74DF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577-BA9B-4330-B168-C0D4F6BC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DA9-EBB9-4881-A686-0779ABC4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40E-830A-4DAA-B3ED-6079E7A8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597-59D3-42E9-A178-872C7B06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ACCA-3D2A-4D90-9563-ECDED29DB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7547-3AA3-4064-ADB8-9CF216908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Психологические особенности детей 7 лет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ыш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числение известных им признаков и свой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равнение на основе наглядных призна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общение не по общим признакам, а по некоторым причинно-следственным связя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пражнения для развития мышл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делить признаки предметов, связанных с их назначен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делить общие призна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звать общие признак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ли и сос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лубя и дят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ниги и тетрад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ложить перед ребенком 3-4 картинки, связанные единым сюжетом. Ему предлагается расположить их в порядке действий, отраженных в сюжете, составить рассказ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« У НАС ВСЕ ПОЛУЧИТСЯ»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нимание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произво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устойчив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большой объ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лечен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пражнения на развитие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гра «самый внимательный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ники игры встают полукругом. Затем определяют ведущего. Ведущий должен запомнить порядок расположения участников игры. Затем ведущий отворачивается. В это время игроки меняются местами. Ведущий должен сказать, как стояли его товарищи в начале иг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ОСПРИЯТИЕ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меет непроизвольный харак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сприятие объективных сторон предмета (ярких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рудности ориентации в пространстве и  чувстве време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пуски, замены бук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бенку показать таблички с изображением предмет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нструкция: « Скажи, из каких фигур составлены эти рисун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4076640"/>
            <a:ext cx="1871640" cy="2016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213000"/>
            <a:ext cx="792360" cy="863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2924280"/>
            <a:ext cx="360360" cy="4334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924280"/>
            <a:ext cx="360360" cy="431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4076640"/>
            <a:ext cx="1081080" cy="1873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6093000"/>
            <a:ext cx="216072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2924280"/>
            <a:ext cx="1081080" cy="10810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4292640"/>
            <a:ext cx="287280" cy="287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4869000"/>
            <a:ext cx="287280" cy="28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5373720"/>
            <a:ext cx="287280" cy="287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4005360"/>
            <a:ext cx="1584360" cy="17272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2924280"/>
            <a:ext cx="792000" cy="936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483800">
            <a:off x="7451640" y="4005000"/>
            <a:ext cx="576360" cy="36036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1256600">
            <a:off x="6226920" y="4149360"/>
            <a:ext cx="576360" cy="2872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213372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5877000"/>
            <a:ext cx="21600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80360" y="5877000"/>
            <a:ext cx="21600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бенку диктовать предложение: « Сережа встал, умылся, позавтракал, взял портфель, пошел в школу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ле этого ребенка спрашивают о порядке действий Сер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АМЯ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иболее развита наглядно- образная памя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совершенство произвольного запомин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лонность к механическому запоминанию, часто заучивают дословно, без осознания смысл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учше сохраняют в памяти конкретные сведения: предметы,лица и т. 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пражнения для развития памят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поминание и воссоздание порядка слов, предме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учивание стихов, рассказывание прослушанных сказок, наблюдений во время прогу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9036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дложить запомнить пары слов( 5 пар): шум- вода, стол-обед, мост- река, рубль-копейка, лес-медведь. Затем повторно называть первое слово из каждой пары, а ребенок должен припомнить второе сло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бенку предложить 10 картинок, на каждой из которых изображено по одному предме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бенок должен рассматривать эти картинки 2 минуты. Потом картинки убирают, а ребенка просят назвать те картинки, которые ему удалось запомнит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читать слова вслух : стол, калина, мел, слон, парк, ноги, рука, калитка, окно, бак. Ребенок должен воспроизвести слова в любой последова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9:33:53Z</dcterms:created>
  <dc:creator>Камар</dc:creator>
  <dc:description/>
  <dc:language>en-US</dc:language>
  <cp:lastModifiedBy>Камар</cp:lastModifiedBy>
  <dcterms:modified xsi:type="dcterms:W3CDTF">2013-09-06T02:50:56Z</dcterms:modified>
  <cp:revision>4</cp:revision>
  <dc:subject/>
  <dc:title>Психологические особенности детей 7 лет</dc:title>
</cp:coreProperties>
</file>