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C99-4444-42EB-9DA1-4DA4EE9A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3D7-7E66-4C62-9249-A5BD5919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82C-72AE-4046-A9E1-BB7D9FD1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B32-F4E7-4CC3-9B45-6C069C8F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7FD1-E80F-48D1-8C68-0EB5294E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C227-536F-4EC8-8F26-E1770E36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27F-E5CD-4C88-A204-64765D59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8884-7766-4495-BE41-5D6D8FE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7369-8F9E-4836-A61B-AEB64D18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18F0-1B36-4579-A537-A019024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5866-0811-4459-AA6A-90CF833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8A6-197B-4A61-8479-F06C742E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2B5C-3712-4B76-982C-624EB80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02A5-1AEF-4321-8A92-D0E39AE5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1CB-3085-41EC-B085-B44E90A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2059-9E3C-450A-A558-CC31F2C5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CFDB-CDCC-4398-8360-34277FAE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E7A-68AA-4442-B263-382D338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A01-DAC6-4E03-9DC1-22818F87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E5C-6235-41C0-9297-00256AF8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AF8-0003-4A3A-B80D-51F0C25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67E-24B5-4D70-9323-BBD60C43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BA4-F6AF-408E-BE59-1C22CA76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FFD-9322-4416-B271-4BA22FE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89AB-C98C-4294-B5E6-B698AFC65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D01F-6CE6-4465-9A93-7C6FEED99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сихологические особенности детей 7 лет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ышл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числение известных им признаков и свой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равнение на основе наглядных призна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бщение не по общим признакам, а по некоторым причинно-следственным связя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для развития мышле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признаки предметов, связанных с их назнач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делить общие призна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звать общие призна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и и сос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лубя и дят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ниги и тетрад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ожить перед ребенком 3-4 картинки, связанные единым сюжетом. Ему предлагается расположить их в порядке действий, отраженных в сюжете, составить расска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« У НАС ВСЕ ПОЛУЧИТСЯ»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нимание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произво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устойчив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большой объ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влечен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на развитие вним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гра «самый внимательны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и игры встают полукругом. Затем определяют ведущего. Ведущий должен запомнить порядок расположения участников игры. Затем ведущий отворачивается. В это время игроки меняются местами. Ведущий должен сказать, как стояли его товарищи в начале иг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ОСПРИЯТИЕ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меет непроизвольный харак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сприятие объективных сторон предмета (ярких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рудности ориентации в пространстве и  чувстве време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пуски, замены бук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бенку показать таблички с изображением предмет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нструкция: « Скажи, из каких фигур составлены эти рисун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4076640"/>
            <a:ext cx="1871640" cy="201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213000"/>
            <a:ext cx="792360" cy="86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2924280"/>
            <a:ext cx="360360" cy="4334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2924280"/>
            <a:ext cx="360360" cy="431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4076640"/>
            <a:ext cx="1081080" cy="1873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6093000"/>
            <a:ext cx="216072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2924280"/>
            <a:ext cx="1081080" cy="10810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4292640"/>
            <a:ext cx="28728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4869000"/>
            <a:ext cx="287280" cy="288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5373720"/>
            <a:ext cx="287280" cy="287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005360"/>
            <a:ext cx="1584360" cy="17272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2924280"/>
            <a:ext cx="792000" cy="936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483800">
            <a:off x="7451640" y="4005000"/>
            <a:ext cx="576360" cy="36036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1256600">
            <a:off x="6226920" y="4149360"/>
            <a:ext cx="576360" cy="28728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2133720"/>
            <a:ext cx="647640" cy="64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5877000"/>
            <a:ext cx="216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80360" y="5877000"/>
            <a:ext cx="216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бенку диктовать предложение: « Сережа встал, умылся, позавтракал, взял портфель, пошел в школу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ле этого ребенка спрашивают о порядке действий Сер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АМЯ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развита наглядно- образная памя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совершенство произвольного запомин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лонность к механическому запоминанию, часто заучивают дословно, без осознания смысла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учше сохраняют в памяти конкретные сведения: предметы,лица и т. 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пражнения для развития памят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поминание и воссоздание порядка слов, предме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учивание стихов, рассказывание прослушанных сказок, наблюдений во время прогу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036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дложить запомнить пары слов( 5 пар): шум- вода, стол-обед, мост- река, рубль-копейка, лес-медведь. Затем повторно называть первое слово из каждой пары, а ребенок должен припомнить второе сло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енку предложить 10 картинок, на каждой из которых изображено по одному предме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бенок должен рассматривать эти картинки 2 минуты. Потом картинки убирают, а ребенка просят назвать те картинки, которые ему удалось запомни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читать слова вслух : стол, калина, мел, слон, парк, ноги, рука, калитка, окно, бак. Ребенок должен воспроизвести слова в любой последова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9:33:53Z</dcterms:created>
  <dc:creator>Камар</dc:creator>
  <dc:description/>
  <dc:language>en-US</dc:language>
  <cp:lastModifiedBy>Камар</cp:lastModifiedBy>
  <dcterms:modified xsi:type="dcterms:W3CDTF">2013-09-06T02:50:56Z</dcterms:modified>
  <cp:revision>4</cp:revision>
  <dc:subject/>
  <dc:title>Психологические особенности детей 7 лет</dc:title>
</cp:coreProperties>
</file>