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FB2-B5FD-4887-A0A7-34ECA530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BAD-04EF-48C6-A220-FF3843DD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504-6A3A-49CA-A1D8-64DCA526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25D-21DF-41BC-972D-A1BAF107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1DA-62F1-4348-8122-E4046279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9D8-AA21-404D-A2E2-8B3FF98E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0A5-6EF6-4B19-9CAD-2C28B70E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577-6E49-4050-A7A8-DB787E21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34D-7E15-457F-AB57-F08DA855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901-82E5-476C-88E4-549F877C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302-416A-45F4-80DE-9C0393EB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494-38A9-4ED5-B140-758FBFF8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2845-7C9A-4E74-AAEC-25CD9DAE19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униципальное бюджет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возского муниципального района Нижегородской области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Дубская основная общеобразовательная школа»</a:t>
            </a:r>
            <a:br>
              <a:rPr sz="18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ект:</a:t>
            </a:r>
            <a:br>
              <a:rPr sz="18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Фигуры на координатной  плоскости»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вторы проекта: учащиеся 6 класса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уководитель:       Еремина Н.Ю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 учитель математики и    физики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1 квалификационной категории</a:t>
            </a:r>
            <a:br>
              <a:rPr sz="20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Парусник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; 0), (- 10; 1), (0; 16), (- 1; 2), 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0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9; 0), (- 8; - 1), (- 6; - 2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3; - 3), (5; - 3), (10; - 2), (12; - 1), (13; 0), (- 9; 0) 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0), (0; 16), (12; 2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0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8920" y="1412640"/>
            <a:ext cx="6769080" cy="5329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Борисов Влади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BOSS\Desktop\коорд.плос\5 001.jpg"/>
          <p:cNvPicPr/>
          <p:nvPr/>
        </p:nvPicPr>
        <p:blipFill>
          <a:blip r:embed="rId1"/>
          <a:stretch/>
        </p:blipFill>
        <p:spPr>
          <a:xfrm>
            <a:off x="1116000" y="1700280"/>
            <a:ext cx="5040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66ff"/>
                </a:solidFill>
                <a:uFillTx/>
                <a:latin typeface="Arial"/>
              </a:rPr>
              <a:t>Птичка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7), (-8;8), (-7;10), (-4;10), (-1;7), (0;6), (8;0), (15;-2), (13;-4), (5;0),(3;-1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2;-7 ), (-2;-7), (0;-6), (2;-1), (-1;0), (-3;-7), (-7;-7), (-5;-6), (-1;-1),(-2; 0), (-7;2), (-8;-5), (-8;7), Глаз: (-6;8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7056360" cy="4968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Мусорин Эдуа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:\Users\BOSS\Desktop\коорд.плос\10 001.jpg"/>
          <p:cNvPicPr/>
          <p:nvPr/>
        </p:nvPicPr>
        <p:blipFill>
          <a:blip r:embed="rId2"/>
          <a:stretch/>
        </p:blipFill>
        <p:spPr>
          <a:xfrm>
            <a:off x="1116000" y="1916280"/>
            <a:ext cx="5689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2520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Слоник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2;- 3),(2;- 2),(4;- 2),(4;- 1),(3; 1),(2; 1),(1; 2),(0; 0),(- 3; 2),(- 4; 5),(0; 8),(2; 7),(6; 7), (8; 8), (10; 6), (10; 2), (7; 0), (6; 2), (6;- 2), (5;- 3), (2;- 3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4;- 3),(4;- 5),(3;-9),(0;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- 8),(1;- 5),(1;- 4),(0;- 4),(0;- 9),(- 3;- 9),(- 3;- 3),(- 7;- 3),(- 7;- 7),(- 8;- 7),(- 8;- 8),(- 11; - 8),(- 10;- 4),(- 11;- 1),(- 14;- 3),(- 12;- 1),(- 11;2),(- 8;4),(- 4;5).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а: (2; 4),(6; 4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056360" cy="5040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Сип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BOSS\Desktop\Новая папка\7 001.jpg"/>
          <p:cNvPicPr/>
          <p:nvPr/>
        </p:nvPicPr>
        <p:blipFill>
          <a:blip r:embed="rId2"/>
          <a:stretch/>
        </p:blipFill>
        <p:spPr>
          <a:xfrm>
            <a:off x="900000" y="1773360"/>
            <a:ext cx="5975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Самолёт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7; 0), (- 5; 2), (7; 2), (9; 5), (10; 5), (10; 1), (9; 0), (- 7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2), (5; 6),  (7; 6), (4; 2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1), (6; - 3), (8; - 3), (4; 1), (0; 1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7417080" cy="52563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Панкр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BOSS\Desktop\коорд.плос\7 001.jpg"/>
          <p:cNvPicPr/>
          <p:nvPr/>
        </p:nvPicPr>
        <p:blipFill>
          <a:blip r:embed="rId2"/>
          <a:stretch/>
        </p:blipFill>
        <p:spPr>
          <a:xfrm>
            <a:off x="755640" y="1628640"/>
            <a:ext cx="62625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83f04"/>
                </a:solidFill>
                <a:uFillTx/>
                <a:latin typeface="Arial"/>
              </a:rPr>
              <a:t>Бегун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8; 1), (- 6; 2), (- 2; 0), (1; 2), (5; 1), (7; - 4), (9; - 3)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2; 6), (0; 8), (3; 7), (5; 5), (7; 7)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1; 2), (3; 9), (3; 10), (4; 11), (5; 11), (6; 10), (6; 9), (5; 8), (4; 8), (3; 9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483920"/>
            <a:ext cx="6491160" cy="52578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Егоров Ар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Users\BOSS\Desktop\коорд.плос\8 001.jpg"/>
          <p:cNvPicPr/>
          <p:nvPr/>
        </p:nvPicPr>
        <p:blipFill>
          <a:blip r:embed="rId1"/>
          <a:stretch/>
        </p:blipFill>
        <p:spPr>
          <a:xfrm>
            <a:off x="1835280" y="1844640"/>
            <a:ext cx="3852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юльпан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1,-4), (-1,-7), (0,-8), (0,-3), (4,1), (5,4), (2,2), (0,-2), (0,5), (2,6), (3,8), (2,10), (3,11), (2,13), (1,12), (1,11), (0,12), (0,13), (-1,12), (-2,14), (-2,12), (-3,13), (-4,11), (-3,10), 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4,8), (-3,6), (-1,5), (-1,-3), (-2,0), (-5,3), (-4,-1), (-1,-4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418080" cy="5256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Чернышева Т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Users\BOSS\Desktop\коорд.плос\001.jpg"/>
          <p:cNvPicPr/>
          <p:nvPr/>
        </p:nvPicPr>
        <p:blipFill>
          <a:blip r:embed="rId2"/>
          <a:stretch/>
        </p:blipFill>
        <p:spPr>
          <a:xfrm>
            <a:off x="2050920" y="1557360"/>
            <a:ext cx="3095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74d26"/>
                </a:solidFill>
                <a:uFillTx/>
                <a:latin typeface="Arial"/>
              </a:rPr>
              <a:t>Мышонок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3; - 4), (3; - 1), (2; 3), (2; 5), (3; 6), (3; 8), (2; 9), (1; 9), (- 1; 7), (- 1; 6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4; 4), (- 2; 3), (- 1; 3), (- 1; 1), (- 2; 1), (-2; - 1), (- 1; 0), (- 1; - 4), (- 2; - 4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2; - 6), (- 3; - 6), (- 3; - 7), (- 1; - 7), (- 1; - 5), (1; - 5), (1; - 6), (3; - 6), (3; - 7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4; - 7), (4; - 5), (2; - 5), (3; - 4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Хвост: (3; - 3), (5; - 3), (5; 3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: (- 1; 5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6767640" cy="525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Коновалова Ма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BOSS\Desktop\Новая папка\6 001.jpg"/>
          <p:cNvPicPr/>
          <p:nvPr/>
        </p:nvPicPr>
        <p:blipFill>
          <a:blip r:embed="rId3"/>
          <a:stretch/>
        </p:blipFill>
        <p:spPr>
          <a:xfrm>
            <a:off x="1619280" y="1773360"/>
            <a:ext cx="3960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Ракета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1; 5), (0; 6), (- 1; 5), (0; 4), (0; - 8), (- 1; - 10), (0; 1), (0; - 8).</a:t>
            </a:r>
            <a:br>
              <a:rPr sz="2000"/>
            </a:b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4; - 6), (- 1; 10), (0; 12), (1; 10), (4; - 6), (- 4; - 6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3; - 6), 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 6; - 7), (- 2; 1), (- 3; - 6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2; 1), (3; - 6), (6; - 7), (2; 1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6059520" cy="53290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нкратов Дани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:\Users\BOSS\Desktop\коорд.плос\4 001.jpg"/>
          <p:cNvPicPr/>
          <p:nvPr/>
        </p:nvPicPr>
        <p:blipFill>
          <a:blip r:embed="rId1"/>
          <a:stretch/>
        </p:blipFill>
        <p:spPr>
          <a:xfrm>
            <a:off x="1692360" y="1557360"/>
            <a:ext cx="36687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Страус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0), (- 1; 1), (- 3; 1), (- 2; 3), (- 3; 3), (- 4; 6), (0; 8), (2; 5), (2; 11), (6; 10), (3; 9), (4; 5), (3; 0), (2; 0), (1; - 7), (3; - 8), (0; - 8), (0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Глаз: (3; 10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337080" cy="5256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Соловьев Макс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BOSS\Desktop\коорд.плос\14 001.jpg"/>
          <p:cNvPicPr/>
          <p:nvPr/>
        </p:nvPicPr>
        <p:blipFill>
          <a:blip r:embed="rId2"/>
          <a:stretch/>
        </p:blipFill>
        <p:spPr>
          <a:xfrm>
            <a:off x="1332000" y="1628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Бабочка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4;12), (3;12), (-2;3), (-4;7), (-9;10), (-8;6), (-10;2), (-6;1), (-9;1), (-10;0),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8;-3), (-5;-5), (-3;-4), (-2;-6), (-1;-6), (0;-4), (2;-5), (5;-3), (7;0), (6;1),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3;1), (7;2), (5;6), (6;10), (1;7), (-1;3), (-6;12), (-7;12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7067520" cy="532908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Петрова Ната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:\Users\BOSS\Desktop\коорд.плос\6 001.jpg"/>
          <p:cNvPicPr/>
          <p:nvPr/>
        </p:nvPicPr>
        <p:blipFill>
          <a:blip r:embed="rId2"/>
          <a:stretch/>
        </p:blipFill>
        <p:spPr>
          <a:xfrm>
            <a:off x="1835280" y="1557360"/>
            <a:ext cx="3813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4978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– построить как можно больше разнообразных  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фигур на координатной плоскости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чи: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- донести до других ребят интересные  факты о 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возможности построения фигур по  координатам точек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- развивать познавательный интерес к математике. </a:t>
            </a:r>
            <a:br>
              <a:rPr sz="2400"/>
            </a:b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Грибок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6;0),(6;2),(5;1),(4; 3),(2;1),(0;3),(- 2;2),(- 3;5),(- 3;1),(- 4; 2),(- 4;0), (6;0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3; 2),(3; 8),(2;10),(6;10),(5;12),(4;13),(1;14),(0;14),(-4;12), (-5;10),(-1;10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2;8),(-2;2)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6624720" cy="53290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полнила Савлинова И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BOSS\Desktop\90 001.jpg"/>
          <p:cNvPicPr/>
          <p:nvPr/>
        </p:nvPicPr>
        <p:blipFill>
          <a:blip r:embed="rId2"/>
          <a:stretch/>
        </p:blipFill>
        <p:spPr>
          <a:xfrm>
            <a:off x="1692360" y="1557360"/>
            <a:ext cx="37368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Лебедь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2; 7), (0; 5), (- 2; 7), (0; 8), (2; 7), (- 4; - 3), (4; 0), (11; - 2), (9; - 2), (11; - 3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9; - 3), (5; - 7), (- 4; - 3).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Клюв: (- 4; 8), (- 2; 7), (- 4; 6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Крыло: (1; - 3), (4; - 2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7; - 3), (4; - 5), (1; - 3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: (0; 7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7067520" cy="5329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Еремина Н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BOSS\Desktop\Новая папка\5 001.jpg"/>
          <p:cNvPicPr/>
          <p:nvPr/>
        </p:nvPicPr>
        <p:blipFill>
          <a:blip r:embed="rId2"/>
          <a:stretch/>
        </p:blipFill>
        <p:spPr>
          <a:xfrm>
            <a:off x="971640" y="1844640"/>
            <a:ext cx="53290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Волк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9; 5), (- 7; 5), (- 6; 6), (- 5; 6), (- 4; 7), (- 4; 6), (- 1; 3), (8; 3), (10; 1), (10; - 4),(9; - 5), (9; - 1), (7; - 7), (5; - 7), (6; - 6), (6; - 4), (5; - 2), (5; - 1), (3; - 2), (0; - 1),(- 3; - 2), (- 3; - 7), (- 5; - 7), (- 4; - 6), (- 4; - 1), 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 6; 3), (- 9; 4), (- 9; 5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Глаз: (- 6; 5)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99920"/>
            <a:ext cx="6202440" cy="5041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нкр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BOSS\Desktop\91 001.jpg"/>
          <p:cNvPicPr/>
          <p:nvPr/>
        </p:nvPicPr>
        <p:blipFill>
          <a:blip r:embed="rId1"/>
          <a:stretch/>
        </p:blipFill>
        <p:spPr>
          <a:xfrm>
            <a:off x="971640" y="1989000"/>
            <a:ext cx="5329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Кит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 - 4), (- 10; - 3), (- 7; 6), (1; 6), (8; - 2), (11; 2), (11; - 4), (- 10; - 4).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6; 1), (- 6; 3), (- 4; 3), (- 4; 1), (- 6; 1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5; 10), (- 5; 11), (- 1; 11), (- 1;10).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3; 6), (- 3; 11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5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 - 2), (- 5; - 2), (- 5; - 4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6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 - 3), (- 5; - 3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6840720" cy="5256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Реуцкий Геор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Users\BOSS\Desktop\коорд.плос\13 001.jpg"/>
          <p:cNvPicPr/>
          <p:nvPr/>
        </p:nvPicPr>
        <p:blipFill>
          <a:blip r:embed="rId1"/>
          <a:stretch/>
        </p:blipFill>
        <p:spPr>
          <a:xfrm>
            <a:off x="1116000" y="1844640"/>
            <a:ext cx="48960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1) мы научились строить любые фигуры по их координа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2) мы научились самостоятельно составлять координаты точек для  построения фигу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3)мы поняли, что математика - это увлекательный предм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сурсы интернета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://www.glena.ru/coordinates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://wiki.iteach.ru/images/6/67/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Т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еское_задание.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df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://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ww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yandex.ru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/карт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                               </a:t>
            </a:r>
            <a:r>
              <a:rPr b="1" lang="ru-RU" sz="2800" spc="-1" strike="noStrike" u="sng">
                <a:solidFill>
                  <a:srgbClr val="0070c0"/>
                </a:solidFill>
                <a:uFillTx/>
                <a:latin typeface="Arial"/>
              </a:rPr>
              <a:t>Вертолет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5; 3), (- 3; 5), (6; 5), (10; 3),(10; 1),(9; 0), (- 2; 0),(- 5; 3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 5; 3),(- 10; 7), (- 3; 5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5; 0), (5; - 1), (6; - 2), (8; - 2), (9; - 2,5),   (8; - 3), (- 3; - 3), (- 4; - 2,5), (- 3; - 2),(- 1; - 2), (- 2; - 1), (- 2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12; 5), (- 8; 9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5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6; 7), (10; 7).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6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2; 5), (2; 7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7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1; 1), (- 1; 4), (2; 4), (2; 1),(- 1; 1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8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5; 5), (5; 2), (10; 2). </a:t>
            </a:r>
            <a:br>
              <a:rPr sz="36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6696360" cy="482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рносов Ив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:\Users\BOSS\Desktop\коорд.плос\9 001.jpg"/>
          <p:cNvPicPr/>
          <p:nvPr/>
        </p:nvPicPr>
        <p:blipFill>
          <a:blip r:embed="rId1"/>
          <a:stretch/>
        </p:blipFill>
        <p:spPr>
          <a:xfrm>
            <a:off x="1116000" y="2133720"/>
            <a:ext cx="4751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етушок</a:t>
            </a:r>
            <a:br>
              <a:rPr sz="28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5,7), (-7,9), (-5,10), (-4,9), (-3,10), (-3,8), (-2,8), (-4,7), (-3,3), (-1,2),(1,5), (4,5), (6,1), (4,2),(2,0), (4,1),(6,-2), (3,-1),(5,-4),(1,-2),(-1,-3),(-1,-6), (0,-7),(-4,-7), (-2,-6), (-3,-3), (-6,-1), (-7,5), (-8,4), (-7,6), (-9,7), (-7,7),(-6,8). Глаз (-6,7).</a:t>
            </a: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413000"/>
            <a:ext cx="6480000" cy="52560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Сип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Users\BOSS\Desktop\коорд.плос\3 001.jpg"/>
          <p:cNvPicPr/>
          <p:nvPr/>
        </p:nvPicPr>
        <p:blipFill>
          <a:blip r:embed="rId1"/>
          <a:stretch/>
        </p:blipFill>
        <p:spPr>
          <a:xfrm>
            <a:off x="1476360" y="1700280"/>
            <a:ext cx="423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74221"/>
                </a:solidFill>
                <a:uFillTx/>
                <a:latin typeface="Arial"/>
              </a:rPr>
              <a:t>Тетерев </a:t>
            </a:r>
            <a:r>
              <a:rPr b="0" lang="ru-RU" sz="2800" spc="-1" strike="noStrike" u="sng">
                <a:solidFill>
                  <a:srgbClr val="323232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   (12;2),(9;9),(10;9),(8;12),(6;12),(4;10),(4;7),(2;5),(-1;6),(-4;12),(-5;11),         (-5;9),(-6;13), (-6;9),(-7;12),(-8;13),(-9;13),(-8;9),(-9;11),(-9;9),(-10;10),(-11;8),(-12;8),      (-11;6),(-13;7), (-13;6),(-12;5),(-13;4),(-13;3),(-11;3),(-12;1),(-7;1),(-11;0),(-9;-1),(-12;-2), (-7;-5),(-8;-8), (-7;-9),(-4;-7),(-5;-9),(-1;-7),(1;-8),(3;-8),(3;-9),(4;-10),(3;-11),(7;-11),       (5;-10),(5;-9), (6;-8),(9;-7),(12;-2),(12;2). Глаз (7;10)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6913800" cy="525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Коновалова Ма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BOSS\Desktop\коорд.плос\002.jpg"/>
          <p:cNvPicPr/>
          <p:nvPr/>
        </p:nvPicPr>
        <p:blipFill>
          <a:blip r:embed="rId3"/>
          <a:stretch/>
        </p:blipFill>
        <p:spPr>
          <a:xfrm>
            <a:off x="755640" y="1628640"/>
            <a:ext cx="56865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Лисица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3; 0), (- 2; 1), (3; 1), (3; 2),(5; 5), (5; 3), (6; 2), (7; 2), (7; 1,5), (5; 0), (4; 0),(4; - 1,5), (3; - 1), (3; - 1,5),(4; - 2,5),(4,5; - 2,5), (- 4,5; - 3), (3,5; - 3), (2; - 1,5),(2; - 1), (- 2; - 2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2; - 2,5), (- 1; - 2,5), (- 1; - 3), (- 3; - 3), (- 3; - 2), (- 2; -1),(- 3; - 1), (- 4; - 2), (- 7; - 2),   (- 8; - 1), (- 7; 0), (- 3; 0). 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Глаз: (5; 2)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6913800" cy="5068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Савлинова И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Users\BOSS\Desktop\коорд.плос\11 001.jpg"/>
          <p:cNvPicPr/>
          <p:nvPr/>
        </p:nvPicPr>
        <p:blipFill>
          <a:blip r:embed="rId2"/>
          <a:stretch/>
        </p:blipFill>
        <p:spPr>
          <a:xfrm>
            <a:off x="539640" y="1700280"/>
            <a:ext cx="612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Бобр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12,-1.),(-9.5,1.5),(-8.5,2),(-7,2),(-6,1.5),(-5,2.5),(-4.5,3.5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3.5,4.5),(-1.5,5),(1,5),(3,4),(5.5,2.5),(6.5,1.5),(8,-1),(12.5,-1),(15.5,-2),(15.5,-3),(13,-3.5),(6.5,-3.5),(5.5,-4.5),(3.5,-5.5),(1,-5.5),(0.5,-5),(0.5,-4.5),(1,-4),(-2.5,-4),(-3,-5),(-4,-5.5),(-7,-5.5),(-8,-5),(-8,-4.5),(-6.5,-4),(-8,-3),(-10,-2),(-11,-2),(-12,-1.5),(-12,-1).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Глаз (-9.5,-0.5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5257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Петрова Ната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BOSS\Desktop\Новая папка\9 001.jpg"/>
          <p:cNvPicPr/>
          <p:nvPr/>
        </p:nvPicPr>
        <p:blipFill>
          <a:blip r:embed="rId2"/>
          <a:stretch/>
        </p:blipFill>
        <p:spPr>
          <a:xfrm>
            <a:off x="539640" y="1916280"/>
            <a:ext cx="820908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Цыплёнок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1,-6), (-1,-6), (-3,-5), (-4,-3), (-4,1), (-3,3), (-1,5), (-2,7), (-2,9), (-1,10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1,10), (2,9), (2,8), (3,8), (2,7), (1,5), (3,3), (4,1), (4,-3), (3,-5),(1,-6), (-4,1), (-3,0), (-2,1), (-1,0), (0,1), (1,0), (2,1), (3,0), (4,1). Глаз (1,8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6337440" cy="50688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Богданова Н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BOSS\Desktop\Новая папка\8 001.jpg"/>
          <p:cNvPicPr/>
          <p:nvPr/>
        </p:nvPicPr>
        <p:blipFill>
          <a:blip r:embed="rId2"/>
          <a:stretch/>
        </p:blipFill>
        <p:spPr>
          <a:xfrm>
            <a:off x="1258920" y="1844640"/>
            <a:ext cx="3319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856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Arial"/>
              </a:rPr>
              <a:t>Сорока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; 2), (5; 6), (7; 13), (10; 11), (7; 5), (1; - 4), (- 2; - 4), (- 5; 0), (- 3; 0), (- 1; 2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2; 4), (- 5; 5), (- 7; 3), (- 11; 1), (- 6; 1), (- 7; 3), (- 5; 0), (- 6; 0), (- 10; - 1), (- 7; 1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6; 0).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Крыло: (0; 0), (7; 3), (6; 1), (1; - 3), (0; 0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1; - 4), (1; - 7).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; - 4), (- 1; - 7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5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: (- 5; 3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6346800" cy="5068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рносов Ив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BOSS\Desktop\Новая папка\4.jpg"/>
          <p:cNvPicPr/>
          <p:nvPr/>
        </p:nvPicPr>
        <p:blipFill>
          <a:blip r:embed="rId1"/>
          <a:stretch/>
        </p:blipFill>
        <p:spPr>
          <a:xfrm>
            <a:off x="971640" y="1989000"/>
            <a:ext cx="5184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2:07:17Z</dcterms:created>
  <dc:creator>Mariajose</dc:creator>
  <dc:description/>
  <dc:language>en-US</dc:language>
  <cp:lastModifiedBy>BOSS</cp:lastModifiedBy>
  <dcterms:modified xsi:type="dcterms:W3CDTF">2014-12-18T18:57:42Z</dcterms:modified>
  <cp:revision>57</cp:revision>
  <dc:subject/>
  <dc:title>TITLE</dc:title>
</cp:coreProperties>
</file>