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4A8-F808-4699-A94D-A7A0CB74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004-14EC-4F44-9805-8FEA8A42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EE2-9D72-4F2F-8E5F-98365E01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073-8BBC-45C7-A14C-17816A44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69C0-C038-4F9C-8F2F-86AB21FB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5814-8AB8-4A17-A485-F7DE5D97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ABC1-53BD-4C39-89D7-4A577793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E6D8-98F6-4ECF-AE26-3DFFBCA5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756B-4CB8-45E4-98B0-7C1421EF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2AAE-548F-4B65-B0EC-01B4F55D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2437-A366-4DC0-B824-BE32F03F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6A55-3AAF-4A85-89D5-69CFCF49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B129-20EF-4BB3-935F-7E9CC88E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27F5-A72B-4F18-8D08-E64FF1DF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BD6A-7573-403A-A4FE-662BEB4C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8917-F0B3-4722-AA1D-FAB6E81C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B2AA-C55D-4B2D-9750-E850C0E9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A4FB7-D2EC-455B-BA98-8BC83671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9963F-2A39-4F15-8FE6-F1EB9ED1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2F4E-31DC-4255-9B3B-F0751C97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F8533-210E-4483-AD20-7AFB385C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B0C58-4AA9-4D03-8D27-E085930B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8ED-ECC0-42FE-B46E-7643D3EA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0D336-5199-46E8-B080-B3184B2E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8206F-E902-4C30-893A-6E203208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5E82F-8AF8-4A27-808B-B1C69E97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70BEA-8306-49B2-98EC-59FCD1E6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B4D99-B5EA-4A90-9027-D1DDEAFF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986A4-E050-48C2-B6FC-677477B3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90E0A-D4A7-4A12-A11E-88EF96C4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4AE2F-90A7-4EED-AB8B-86D7481B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16DA3-625F-448A-B08A-95FE39E9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761F2-8577-4F07-B72B-56CDF72A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C19-170F-4584-9A30-F3BC8406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F1D76-F204-4F2B-BB47-076AE357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1668B-CBDA-4C62-A212-2EE54E63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14762-0AB1-4385-AF1A-875A3358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4BC08-EA1B-4049-968D-75DAC0B3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04DEA-45BC-4EBB-AA95-2BE2ABF4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0C3C3-94E2-4337-AC19-80198D44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D6170-A6E7-4E03-83AA-D0D411D6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D9892-6CA3-4A90-B84B-8C8C0B3D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AA4B2-F5CC-46BD-AE12-027A8EA5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69B-FB1D-4896-ACE3-DFFF0FBA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62D3-384C-43BB-ABC0-8CC60DFE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173-2E0A-4A9A-B84D-38AED0EB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285D-7725-4751-BED1-12AEDD88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B8C-4C7D-4D5A-9F10-F38AA36C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EF9D-655B-47B0-B6E9-43665E2F08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4E15-6647-4810-8F54-9A4F04865E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531A-901A-4AF5-89DA-7A5C9B5940E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C839-4790-4A70-825A-5CFFC63DF90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282040" y="1728720"/>
            <a:ext cx="4900680" cy="2349360"/>
            <a:chOff x="2282040" y="1728720"/>
            <a:chExt cx="4900680" cy="2349360"/>
          </a:xfrm>
        </p:grpSpPr>
        <p:sp>
          <p:nvSpPr>
            <p:cNvPr id="185" name=""/>
            <p:cNvSpPr/>
            <p:nvPr/>
          </p:nvSpPr>
          <p:spPr>
            <a:xfrm>
              <a:off x="2282040" y="1728720"/>
              <a:ext cx="49006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000000"/>
                  </a:solidFill>
                  <a:latin typeface="Edwardian Script ITC"/>
                </a:rPr>
                <a:t>Простейшие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000000"/>
                  </a:solidFill>
                  <a:latin typeface="Edwardian Script ITC"/>
                </a:rPr>
                <a:t>преобразовани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26040" y="3252960"/>
              <a:ext cx="2891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000000"/>
                  </a:solidFill>
                  <a:latin typeface="Edwardian Script ITC"/>
                </a:rPr>
                <a:t>графико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362960" y="4397400"/>
            <a:ext cx="673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Edwardian Script ITC"/>
              </a:rPr>
              <a:t>Шмарковская С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Edwardian Script ITC"/>
              </a:rPr>
              <a:t>Учитель математики МОУ  «СОШ №</a:t>
            </a:r>
            <a:r>
              <a:rPr b="1" i="1" lang="ru-RU" sz="2400" spc="-1" strike="noStrike">
                <a:solidFill>
                  <a:srgbClr val="000000"/>
                </a:solidFill>
                <a:latin typeface="Edwardian Script ITC"/>
              </a:rPr>
              <a:t>34   </a:t>
            </a:r>
            <a:r>
              <a:rPr b="0" i="1" lang="ru-RU" sz="24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Edwardian Script ITC"/>
              </a:rPr>
              <a:t>с углубленным изуч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Edwardian Script ITC"/>
              </a:rPr>
              <a:t>художественно – эстетических предмет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46000" y="179280"/>
            <a:ext cx="595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Функции содержащие знак моду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ение графика функци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|f(x)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85520" y="1197000"/>
            <a:ext cx="6090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графика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(x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график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ту часть граф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торая расположена в нижней полуплоск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образить относительно оси абсцисс. Получ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 является графиком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(x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195640" y="2976480"/>
            <a:ext cx="489744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45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746000" y="179280"/>
            <a:ext cx="595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Функции содержащие знак моду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ение графика функци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f(|x|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9440" y="1197000"/>
            <a:ext cx="494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графика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уе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график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отобразить его относи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у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Полученный график я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ом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042920" y="2887560"/>
            <a:ext cx="7416720" cy="3106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916360" y="1844640"/>
            <a:ext cx="21564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45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648440" y="179280"/>
            <a:ext cx="615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Функции содержащие знак моду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ение графика функци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|f(|x|)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32080" y="1197000"/>
            <a:ext cx="693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графика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график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ту часть граф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торая расположена в нижней полуплоск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образить симметрично относительно ос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х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а за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образить симметрично относительно ос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у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ученный график является графиком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42920" y="2919240"/>
            <a:ext cx="7345440" cy="31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55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410840" y="1197000"/>
            <a:ext cx="673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 следует строить по точкам, складывая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читая ординаты графиков функций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(x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(x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ответствующие одному и тому же значению аргу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598920" y="2174760"/>
            <a:ext cx="5076720" cy="394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538200" y="3284640"/>
          <a:ext cx="3889440" cy="1368360"/>
        </p:xfrm>
        <a:graphic>
          <a:graphicData uri="http://schemas.openxmlformats.org/drawingml/2006/table">
            <a:tbl>
              <a:tblPr/>
              <a:tblGrid>
                <a:gridCol w="1009440"/>
                <a:gridCol w="576360"/>
                <a:gridCol w="576360"/>
                <a:gridCol w="576360"/>
                <a:gridCol w="574560"/>
                <a:gridCol w="576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457200" cy="257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55640" y="3932280"/>
            <a:ext cx="590400" cy="361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755640" y="4390920"/>
            <a:ext cx="581040" cy="1904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741960" y="179280"/>
            <a:ext cx="797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лгебраические операции над графиками функ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рафик суммы (разности) функци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f(x)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7524720" y="765000"/>
            <a:ext cx="20952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45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924360" y="2749680"/>
            <a:ext cx="4859280" cy="3127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41960" y="179280"/>
            <a:ext cx="797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лгебраические операции над графиками функ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рафик произведения функци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f(x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65200" y="1197000"/>
            <a:ext cx="56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рафик следует строить по точкам, перемнож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начения ординат, соответству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дним и тем же значениям аргу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66560" y="3141720"/>
          <a:ext cx="3313440" cy="1368360"/>
        </p:xfrm>
        <a:graphic>
          <a:graphicData uri="http://schemas.openxmlformats.org/drawingml/2006/table">
            <a:tbl>
              <a:tblPr/>
              <a:tblGrid>
                <a:gridCol w="1009800"/>
                <a:gridCol w="576360"/>
                <a:gridCol w="576360"/>
                <a:gridCol w="576000"/>
                <a:gridCol w="57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755640" y="3502080"/>
            <a:ext cx="457200" cy="257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84360" y="4246560"/>
            <a:ext cx="581040" cy="190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701640" y="3860640"/>
            <a:ext cx="48564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35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851280" y="3605040"/>
            <a:ext cx="4753080" cy="24879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1960" y="179280"/>
            <a:ext cx="797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лгебраические операции над графиками функ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рафик частного двух функци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f(x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58440" y="1197000"/>
            <a:ext cx="521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ение графика сводится к постро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ов функций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=f(x)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=1/g(x)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схеме умн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66560" y="2133720"/>
          <a:ext cx="3889440" cy="1368360"/>
        </p:xfrm>
        <a:graphic>
          <a:graphicData uri="http://schemas.openxmlformats.org/drawingml/2006/table">
            <a:tbl>
              <a:tblPr/>
              <a:tblGrid>
                <a:gridCol w="1009440"/>
                <a:gridCol w="576360"/>
                <a:gridCol w="576360"/>
                <a:gridCol w="576360"/>
                <a:gridCol w="574560"/>
                <a:gridCol w="576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76440" y="3238560"/>
            <a:ext cx="581040" cy="190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54200" y="2508120"/>
            <a:ext cx="485640" cy="200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754200" y="2781360"/>
            <a:ext cx="43164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35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 работе над темой «Преобразование графиков функций» удобно использовать диск издательства «Дрофа» «Алгебра. Графики функций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32360" y="260280"/>
            <a:ext cx="655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Параллельный перенос вдоль оси орди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50760" y="1197000"/>
            <a:ext cx="550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графика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+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ует график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двинуть вд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у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на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единиц в сторону, совпадающую 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ком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или перенести параллельно ось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х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сторону, противоположную зна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484360" y="2674800"/>
            <a:ext cx="424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15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333080" y="260280"/>
            <a:ext cx="64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Параллельный перенос вдоль оси абсци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31680" y="1197000"/>
            <a:ext cx="576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графика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+с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ует график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двинуть вд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на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единиц в сторону, противополож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ку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или перенести параллельно ось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сторону, совпадающую со знаком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482920" y="2687760"/>
            <a:ext cx="417672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15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765800" y="179280"/>
            <a:ext cx="588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ра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ение графика функци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f(-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24200" y="1197000"/>
            <a:ext cx="505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графика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-x)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уе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график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образить его относительно оси ордин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ученный график является графи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-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63640" y="2997360"/>
            <a:ext cx="590544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765800" y="179280"/>
            <a:ext cx="588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ра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ение графика функци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-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24200" y="1197000"/>
            <a:ext cx="505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графика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-f(x)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уе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график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образить его относительно оси абсци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ученный график является графи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6360" y="2955960"/>
            <a:ext cx="648036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24960" y="179280"/>
            <a:ext cx="81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еформ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жатие графика вдоль оси ординат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af(x); 0&lt;a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80640" y="1197000"/>
            <a:ext cx="535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графика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a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уе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график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меньшить его ординаты в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1/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раз пр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0&lt;a&lt;1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ученный график является графи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af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484360" y="2587680"/>
            <a:ext cx="4248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18760" y="179280"/>
            <a:ext cx="840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еформ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стяжение графика вдоль оси ординат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af(x); a&g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24200" y="1197000"/>
            <a:ext cx="505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графика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a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уе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график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величить его ординаты в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раз пр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&gt;1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ученный график является графи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af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268360" y="2781360"/>
            <a:ext cx="46087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15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28680" y="179280"/>
            <a:ext cx="87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еформ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стяжение графика вдоль оси абсцисс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f(wx); 0&lt;w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21680" y="1197000"/>
            <a:ext cx="526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графика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w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уе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график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величить его абсциссы в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1/w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раз пр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0&lt;w&lt;1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ученный график является графи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w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68360" y="2882880"/>
            <a:ext cx="46072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25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55360" y="179280"/>
            <a:ext cx="774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еформ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жатие графика вдоль оси абсцисс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f(wx); w&g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24200" y="1197000"/>
            <a:ext cx="505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графика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w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уе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график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меньшить его абсциссы в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раз пр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&gt;1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ученный график является графи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w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648036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95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4:01:39Z</dcterms:created>
  <dc:creator>Random</dc:creator>
  <dc:description/>
  <dc:language>en-US</dc:language>
  <cp:lastModifiedBy>Random</cp:lastModifiedBy>
  <dcterms:modified xsi:type="dcterms:W3CDTF">2009-08-24T19:21:51Z</dcterms:modified>
  <cp:revision>50</cp:revision>
  <dc:subject/>
  <dc:title>Слайд 1</dc:title>
</cp:coreProperties>
</file>