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7C5-BC0E-4296-8550-AF81EA0C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044-C524-4B15-9368-A7780C01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C12-03AC-4D35-8247-E3453AAF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84A-33AD-4158-8A12-04082441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616F-8154-4545-8CD5-A070B822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8BC1-2F25-49D1-8408-DFD5174B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92E8-16F2-4B13-B827-9CFD45EC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ABB6-E706-4493-9762-AAC0C24C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5302-D7EA-4335-A388-852C7089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7ED7-B953-4D12-BA1B-EFC8E940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FB31-FE59-4F6C-9720-3F981635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A04-0400-4B70-B295-D4DB7B12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31AC-D02D-4E22-A691-1335F836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B497-0F49-4B8E-9B5D-4C2F3893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16B1-1FEC-4DF0-9055-12631409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8FC0-A3B7-4D86-B9BF-78B3A03C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A13C-BDD4-4E35-AA80-E69F4968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22E84-AC8F-4E3E-B6EC-C7393F59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EFA3F-62C6-4A50-83F1-122FE9CF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5B421-CBA0-4606-BED9-4DD67246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02ADC-A0EA-4827-A58C-182904D9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EB39B-1F45-4F40-968A-423A8FE1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3FA-3EB9-46C9-9137-CA78A35B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DEEE-4575-418F-AE3A-AFDFC995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08798-013B-40FB-8267-F1B08563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CB55D-F738-4147-84AC-E092A733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B50E-C5E4-48AC-8C02-FF8041C1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FF2D-74C7-4C60-94CF-75B2514D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6113-D74B-49DA-90DA-06B2A286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2F259-5B46-45B4-A967-149DBC82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7FC42-E0AC-4960-8C9C-0B126331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39897-81A2-4086-97A6-9DA2474C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FC2DD-4D52-41BE-A05A-7E7ECE82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3133-B179-4B0B-8229-278CF712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8CDE8-E645-4B2D-B756-2A455798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4EE08-58E6-4F1D-B21F-490666EE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D73DB-6972-4C59-86D9-324EE2CD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3DF79-E31E-47A1-91D2-369F68DC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7489B-B2A6-4B00-873F-8FF6F1CC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6C172-E39D-4449-B4D9-5F8CF4A8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BF9CD-B8CE-49DE-B708-B516A05C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107FB-45E4-40C3-8B4D-52980205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50961-969B-4A02-8D5C-2F8ADC8A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AAC-8213-47E4-A84B-6D254F64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A77-533D-40D1-A3B1-99B9128F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223A-2AE2-46F2-89F5-97C85857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249-875A-4791-A2B5-A644DA1F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EE6-0004-4125-9BD4-6D6C7980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3446-8400-4BB2-A6BE-49154B99F9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B523-D185-485D-9E37-BB6B4A3493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CC84-D545-4C5F-BCE7-984EA3E1538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3C11-DB94-4108-8EF3-0ABF6933812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282040" y="1728720"/>
            <a:ext cx="4900680" cy="2349360"/>
            <a:chOff x="2282040" y="1728720"/>
            <a:chExt cx="4900680" cy="2349360"/>
          </a:xfrm>
        </p:grpSpPr>
        <p:sp>
          <p:nvSpPr>
            <p:cNvPr id="185" name=""/>
            <p:cNvSpPr/>
            <p:nvPr/>
          </p:nvSpPr>
          <p:spPr>
            <a:xfrm>
              <a:off x="2282040" y="1728720"/>
              <a:ext cx="49006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Edwardian Script ITC"/>
                </a:rPr>
                <a:t>Простейшие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Edwardian Script ITC"/>
                </a:rPr>
                <a:t>преобразовани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26040" y="3252960"/>
              <a:ext cx="2891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Edwardian Script ITC"/>
                </a:rPr>
                <a:t>графико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362960" y="4397400"/>
            <a:ext cx="673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Edwardian Script ITC"/>
              </a:rPr>
              <a:t>Шмарковская С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Edwardian Script ITC"/>
              </a:rPr>
              <a:t>Учитель математики МОУ  «СОШ №</a:t>
            </a:r>
            <a:r>
              <a:rPr b="1" i="1" lang="ru-RU" sz="2400" spc="-1" strike="noStrike">
                <a:solidFill>
                  <a:srgbClr val="000000"/>
                </a:solidFill>
                <a:latin typeface="Edwardian Script ITC"/>
              </a:rPr>
              <a:t>34   </a:t>
            </a:r>
            <a:r>
              <a:rPr b="0" i="1" lang="ru-RU" sz="24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Edwardian Script ITC"/>
              </a:rPr>
              <a:t>с углубленным изуч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Edwardian Script ITC"/>
              </a:rPr>
              <a:t>художественно – эстетических предмет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46000" y="179280"/>
            <a:ext cx="595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ункции содержащие знак моду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ение графика функци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|f(x)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85520" y="1197000"/>
            <a:ext cx="6090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(x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ту часть граф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торая расположена в нижней полуплоск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образить относительно оси абсцисс. Получ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 является графиком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(x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195640" y="2976480"/>
            <a:ext cx="489744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45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46000" y="179280"/>
            <a:ext cx="595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ункции содержащие знак моду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ение графика функци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f(|x|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9440" y="1197000"/>
            <a:ext cx="494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отобразить его относи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у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Полученный график я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ом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42920" y="2887560"/>
            <a:ext cx="7416720" cy="3106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916360" y="1844640"/>
            <a:ext cx="2156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45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648440" y="179280"/>
            <a:ext cx="615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ункции содержащие знак моду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ение графика функци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|f(|x|)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32080" y="1197000"/>
            <a:ext cx="693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ту часть граф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торая расположена в нижней полуплоск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образить симметрично относительно ос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х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а за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образить симметрично относительно ос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у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енный график является графиком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42920" y="2919240"/>
            <a:ext cx="7345440" cy="31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5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410840" y="1197000"/>
            <a:ext cx="673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 следует строить по точкам, складывая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читая ординаты графиков функций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(x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(x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ответствующие одному и тому же значению аргу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598920" y="2174760"/>
            <a:ext cx="5076720" cy="394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538200" y="3284640"/>
          <a:ext cx="3889440" cy="1368360"/>
        </p:xfrm>
        <a:graphic>
          <a:graphicData uri="http://schemas.openxmlformats.org/drawingml/2006/table">
            <a:tbl>
              <a:tblPr/>
              <a:tblGrid>
                <a:gridCol w="1009440"/>
                <a:gridCol w="576360"/>
                <a:gridCol w="576360"/>
                <a:gridCol w="576360"/>
                <a:gridCol w="574560"/>
                <a:gridCol w="576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457200" cy="257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55640" y="3932280"/>
            <a:ext cx="590400" cy="361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755640" y="4390920"/>
            <a:ext cx="581040" cy="1904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41960" y="179280"/>
            <a:ext cx="797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лгебраические операции над графиками фун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рафик суммы (разности) функци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f(x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7524720" y="765000"/>
            <a:ext cx="20952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45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924360" y="2749680"/>
            <a:ext cx="4859280" cy="3127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41960" y="179280"/>
            <a:ext cx="797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лгебраические операции над графиками фун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рафик произведения функци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f(x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65200" y="1197000"/>
            <a:ext cx="56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рафик следует строить по точкам, перемнож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начения ординат, соответств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дним и тем же значениям аргу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66560" y="3141720"/>
          <a:ext cx="3313440" cy="1368360"/>
        </p:xfrm>
        <a:graphic>
          <a:graphicData uri="http://schemas.openxmlformats.org/drawingml/2006/table">
            <a:tbl>
              <a:tblPr/>
              <a:tblGrid>
                <a:gridCol w="1009800"/>
                <a:gridCol w="576360"/>
                <a:gridCol w="576360"/>
                <a:gridCol w="576000"/>
                <a:gridCol w="57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55640" y="3502080"/>
            <a:ext cx="457200" cy="257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84360" y="4246560"/>
            <a:ext cx="581040" cy="190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701640" y="3860640"/>
            <a:ext cx="48564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35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851280" y="3605040"/>
            <a:ext cx="4753080" cy="2487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1960" y="179280"/>
            <a:ext cx="797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лгебраические операции над графиками функ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рафик частного двух функци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f(x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58440" y="1197000"/>
            <a:ext cx="521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ение графика сводится к постро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ов функций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=f(x)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=1/g(x)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схеме умн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6560" y="2133720"/>
          <a:ext cx="3889440" cy="1368360"/>
        </p:xfrm>
        <a:graphic>
          <a:graphicData uri="http://schemas.openxmlformats.org/drawingml/2006/table">
            <a:tbl>
              <a:tblPr/>
              <a:tblGrid>
                <a:gridCol w="1009440"/>
                <a:gridCol w="576360"/>
                <a:gridCol w="576360"/>
                <a:gridCol w="576360"/>
                <a:gridCol w="574560"/>
                <a:gridCol w="576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76440" y="3238560"/>
            <a:ext cx="581040" cy="190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54200" y="2508120"/>
            <a:ext cx="485640" cy="200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54200" y="2781360"/>
            <a:ext cx="43164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35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работе над темой «Преобразование графиков функций» удобно использовать диск издательства «Дрофа» «Алгебра. Графики функций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32360" y="260280"/>
            <a:ext cx="655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араллельный перенос вдоль оси орди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50760" y="1197000"/>
            <a:ext cx="550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+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двинуть вд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у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на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единиц в сторону, совпадающую 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ком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или перенести параллельно ось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х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торону, противоположную зна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484360" y="2674800"/>
            <a:ext cx="424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15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333080" y="260280"/>
            <a:ext cx="64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араллельный перенос вдоль оси абсци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1680" y="1197000"/>
            <a:ext cx="576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+с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двинуть вд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на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единиц в сторону, противополож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ку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или перенести параллельно ось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сторону, совпадающую со знаком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482920" y="2687760"/>
            <a:ext cx="417672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15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765800" y="179280"/>
            <a:ext cx="588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ра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ение графика функци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f(-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24200" y="1197000"/>
            <a:ext cx="505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-x)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образить его относительно оси ордин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енный график является графи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-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63640" y="2997360"/>
            <a:ext cx="59054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65800" y="179280"/>
            <a:ext cx="588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ра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ение графика функци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-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24200" y="1197000"/>
            <a:ext cx="505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-f(x)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образить его относительно оси абсци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енный график является графи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360" y="2955960"/>
            <a:ext cx="648036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24960" y="179280"/>
            <a:ext cx="81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еформ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жатие графика вдоль оси ординат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af(x); 0&lt;a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80640" y="1197000"/>
            <a:ext cx="535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a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ньшить его ординаты в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1/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раз пр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0&lt;a&lt;1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енный график является графи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af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484360" y="2587680"/>
            <a:ext cx="4248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18760" y="179280"/>
            <a:ext cx="840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еформ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стяжение графика вдоль оси ординат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af(x); a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1197000"/>
            <a:ext cx="505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a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величить его ординаты в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раз пр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&gt;1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енный график является графи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af(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268360" y="2781360"/>
            <a:ext cx="46087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15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28680" y="179280"/>
            <a:ext cx="87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еформ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стяжение графика вдоль оси абсцисс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f(wx); 0&lt;w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21680" y="1197000"/>
            <a:ext cx="526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w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величить его абсциссы в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1/w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раз пр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0&lt;w&lt;1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енный график является графи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w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68360" y="2882880"/>
            <a:ext cx="46072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25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55360" y="179280"/>
            <a:ext cx="774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еформ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жатие графика вдоль оси абсцисс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=f(wx); w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24200" y="1197000"/>
            <a:ext cx="505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остроения графика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w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уе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троить график 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x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ньшить его абсциссы в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раз пр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&gt;1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енный график является графи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ункции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=f(w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648036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95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4:01:39Z</dcterms:created>
  <dc:creator>Random</dc:creator>
  <dc:description/>
  <dc:language>en-US</dc:language>
  <cp:lastModifiedBy>Random</cp:lastModifiedBy>
  <dcterms:modified xsi:type="dcterms:W3CDTF">2009-08-24T19:21:51Z</dcterms:modified>
  <cp:revision>50</cp:revision>
  <dc:subject/>
  <dc:title>Слайд 1</dc:title>
</cp:coreProperties>
</file>