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5626-A60C-4363-8E67-9E795C4CD1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10AD-FE27-46F9-B741-1AC5BADC40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Text Box 2"/>
          <p:cNvSpPr/>
          <p:nvPr/>
        </p:nvSpPr>
        <p:spPr>
          <a:xfrm>
            <a:off x="1190520" y="878040"/>
            <a:ext cx="446580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1061640" y="4349520"/>
            <a:ext cx="4700520" cy="3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623-913E-46C9-BFE0-91BA1F1F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D44-846B-4D87-A206-805BF94B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8DCC9-2F08-485C-83A1-745A8E52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7B058-A611-4BE6-9046-6C1480EF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60F92-107A-472D-86D3-C245575B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EAA52-8E28-44A5-91FB-4A1F7B6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A8CE8-FC90-49E1-81F8-07563DA4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3D2DB-7719-451F-A5EE-F67F874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E4D96-CFC3-4E4D-B7CC-A51596D5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B9F08-17D3-4303-B920-CCF73E37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D8829-2FE8-43D1-A355-EF70B646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0C0-150C-48DD-8285-C4D2D216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AEF-6E96-44E5-AAF3-CB25230E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2903-A4DF-4287-A3AE-D2D112E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F54E-A249-40E8-954D-0ACBA99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4481-7049-4A35-A83F-9679E06A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A041-F0A5-4B9B-B56F-273DC91E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976B-3ED4-477E-A125-EDC1A7B5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C3EC-D726-49D6-BB7E-A516419C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1A66-68D1-4F13-A2BD-2100C988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2F8-AAD1-4EB8-8A02-89FB9DB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051B-A177-49F6-933A-FA339660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208A-002B-4CEF-AF18-6B6932A8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58AA-98DB-4506-AF09-92CA81FA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A3E1-08F8-4F6C-A8F3-E05946D7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504F-F205-4AF0-B024-9D81E9D9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652A-0ED1-40D1-BF72-5B1F78CF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F0FF-0A4A-4BCF-AFD4-62606CD6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D0057-7999-4DE6-9AEE-1C88A76F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EC93-BF0E-486B-911B-015FCEA2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6DD1-2291-4EBF-8C6E-1AABEDA2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3F4-2655-46F9-AFC7-57722230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3A7C-BA2C-4B9A-BABF-D537BB65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106E-7260-41BB-8126-9621B1D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AE98-DA37-402B-AA8A-7AF086F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6E7B-5ABB-49FB-9E7A-1483407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798F-47DB-439D-904A-2B07A94B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FE73-6BA7-4C5D-BC3C-7D4A8E50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E173-7A85-4231-B26B-38D20E95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80ED-E1B7-4F23-8CCB-8434444B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379D6-6FCC-49A0-842A-F642D076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487E-F384-4C60-87FB-18015786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6B6-765A-459B-ACD1-65190C9F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69CA-AAAA-4911-B642-E1094781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551EE-9362-492A-B51B-A397F26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DA19-6B3D-473F-B3E3-59F173B2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262D-4FD0-4CB2-9805-09CDDA3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71FA8-C749-4C0D-9547-C136251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66D11-C26B-4E20-8380-3FB72FD2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9A7F-6DA6-40D3-9C38-4AA2EBF8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FF017-BA9B-4D83-BF1A-EC8CAB24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DE0C-93D6-447D-858C-55CAE5F5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205B0-71CF-4CC0-83CD-F6DE958B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CCA-968D-43AB-9D64-13F426D5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EB40-795B-4757-BC56-54087D10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11E78-77E0-4395-865F-72751F87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9D64D-A452-405D-A300-6F2F872C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D9F72-EA90-4491-9989-3BD19916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185D-9F32-4CED-A0FB-C8CE021B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CA6E-362D-48B9-A9F9-1BF00AB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4A703-8036-419B-9456-9CD7BA31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E8C7E-4AAE-4E70-A501-DFE72C8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6CE2-CC76-453C-9168-A69CBF49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A1EBE-9C24-4BEC-B6CF-2D3722FF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029-D3F4-41C7-AA13-13B79899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EC360-6CAB-4F1B-AB22-09E8936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60130-1E69-48E2-800E-2C1FE5C5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86A1E-BECE-42D7-827C-96707E3E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BA3B7-54CF-4CD6-9109-E947B0B2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847B6-917E-4443-8EE7-AA96B3DA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F5FBF-6139-49A5-A395-72A4AC9D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45F47-B0FE-457A-AE41-EA98AEB4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3B339-06E6-42A9-855B-C0C95246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3D2BC-85E8-4FE3-9AEE-F79587C4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82246-794F-4217-AC8B-76BB110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9C8-1301-4343-A264-BDC7EE4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2EC1F-C03A-4DD3-8456-529B7EFD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54CE2-C963-4C24-92E5-1489F99F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3A860-94A1-4F32-97BE-524480B9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F2CA9-979B-4D4A-A15F-4AD4F882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46083-3F66-4C15-A375-0AB2707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69E8F-10BD-4A25-8199-11D756AA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C29EA-C24B-408D-A304-9AB76CA0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7FE7E-E527-4CFB-B703-2A4834E2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33B7B-5D57-4315-B278-84991AE0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BE0C8-ED9F-48A9-827E-1D713C7D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178-F399-4396-BF80-F5BA66C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9FF13-5CB7-4446-A535-1B35583C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042B2-4216-4E34-BBBB-174370B7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413E6-4AED-4981-8B49-9E0C7E8C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B5AD7-60D5-4A71-97EC-E403CCF5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519C-091A-4BED-9A11-39DE65E4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A1562-E277-4291-9650-84EF216C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FFAA-F396-4DCE-9C41-69AB1C3A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C27BA-E1E8-42CA-856F-16C532D8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2A886-3AEB-45BC-B96B-A2379F10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70810-3370-482F-BCE6-59FDF41D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3A6-E314-417E-B944-6BA50FD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DAA5-E861-468B-9316-4830F8EE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88E49-1F09-49D2-9BCD-F11F3D1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579FD-3E71-4A64-A8D8-650272A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E20E6-4254-4875-B2F2-70D00A3F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CD875-4712-4D34-9EA3-48E15E3F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33790-4705-4DA6-863C-CFD25B3A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AF11A-51E6-4A03-8D1D-F2D26AA0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43219-0137-427A-A696-93BD5FD8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F3392-24A4-4B25-95C2-8416285C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BCF5B-C68F-4262-BDB7-A81A556C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18C3-43E3-4FD5-BA4C-F959740D5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E94E-5095-4593-BC48-20A188A01D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01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0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B673-E6A6-4A6A-8029-F88548D1B2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8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8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A11D-AB4E-458A-9ACE-3940F95ED36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4CE-2BBC-46DE-AB29-1863260B0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F400-2983-4C00-88BE-11204D42D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1C20-2FBC-4068-9591-42DAE6A94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1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2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52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686-2342-4F4D-9E14-A1547CE76D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0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0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2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2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25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2CB4-F174-4BFD-AE15-3500F7C8485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викова Т.Н.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МАОУ «СОШ № 153 с углубленным изучением иностранных языков» Г.Пер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533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числе 57 – 5 ед. и 7 д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мма чисел 30 и 4 равна 3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7 больше, чем 7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число 8 увеличить на 6, получится 1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ое слагаемое – 9, второе – 7. Сумма 1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551280" y="1844640"/>
            <a:ext cx="126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4" name="Picture 7" descr="helper1"/>
          <p:cNvPicPr/>
          <p:nvPr/>
        </p:nvPicPr>
        <p:blipFill>
          <a:blip r:embed="rId1"/>
          <a:stretch/>
        </p:blipFill>
        <p:spPr>
          <a:xfrm>
            <a:off x="179280" y="333360"/>
            <a:ext cx="15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 Black"/>
              </a:rPr>
              <a:t>Город «РЕШАЙ – КА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36" name="Picture 5" descr="118"/>
          <p:cNvPicPr/>
          <p:nvPr/>
        </p:nvPicPr>
        <p:blipFill>
          <a:blip r:embed="rId1"/>
          <a:stretch/>
        </p:blipFill>
        <p:spPr>
          <a:xfrm>
            <a:off x="468360" y="2205000"/>
            <a:ext cx="5759280" cy="40734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6" descr="57"/>
          <p:cNvPicPr/>
          <p:nvPr/>
        </p:nvPicPr>
        <p:blipFill>
          <a:blip r:embed="rId2"/>
          <a:stretch/>
        </p:blipFill>
        <p:spPr>
          <a:xfrm>
            <a:off x="6588000" y="227664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6" descr="59"/>
          <p:cNvPicPr/>
          <p:nvPr/>
        </p:nvPicPr>
        <p:blipFill>
          <a:blip r:embed="rId1"/>
          <a:stretch/>
        </p:blipFill>
        <p:spPr>
          <a:xfrm>
            <a:off x="539640" y="1916280"/>
            <a:ext cx="2808360" cy="2736720"/>
          </a:xfrm>
          <a:prstGeom prst="rect">
            <a:avLst/>
          </a:prstGeom>
          <a:ln w="0">
            <a:noFill/>
          </a:ln>
        </p:spPr>
      </p:pic>
      <p:sp>
        <p:nvSpPr>
          <p:cNvPr id="839" name="AutoShape 7"/>
          <p:cNvSpPr/>
          <p:nvPr/>
        </p:nvSpPr>
        <p:spPr>
          <a:xfrm>
            <a:off x="3851280" y="333360"/>
            <a:ext cx="5292720" cy="2590920"/>
          </a:xfrm>
          <a:prstGeom prst="wedgeEllipseCallout">
            <a:avLst>
              <a:gd name="adj1" fmla="val -43759"/>
              <a:gd name="adj2" fmla="val 5337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Откройте 47 страницу учебника. Давайте выполним №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5" descr="helper1"/>
          <p:cNvPicPr/>
          <p:nvPr/>
        </p:nvPicPr>
        <p:blipFill>
          <a:blip r:embed="rId1"/>
          <a:stretch/>
        </p:blipFill>
        <p:spPr>
          <a:xfrm>
            <a:off x="179280" y="4005360"/>
            <a:ext cx="2017800" cy="173988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6" descr="57"/>
          <p:cNvPicPr/>
          <p:nvPr/>
        </p:nvPicPr>
        <p:blipFill>
          <a:blip r:embed="rId2"/>
          <a:stretch/>
        </p:blipFill>
        <p:spPr>
          <a:xfrm>
            <a:off x="5508720" y="2060640"/>
            <a:ext cx="1942920" cy="194472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7"/>
          <p:cNvSpPr/>
          <p:nvPr/>
        </p:nvSpPr>
        <p:spPr>
          <a:xfrm>
            <a:off x="1979640" y="620640"/>
            <a:ext cx="3382920" cy="3889440"/>
          </a:xfrm>
          <a:prstGeom prst="horizont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WordArt 8"/>
          <p:cNvSpPr txBox="1"/>
          <p:nvPr/>
        </p:nvSpPr>
        <p:spPr>
          <a:xfrm rot="19358400">
            <a:off x="1802880" y="2045880"/>
            <a:ext cx="3676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2454120" cy="345600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3"/>
          <p:cNvSpPr/>
          <p:nvPr/>
        </p:nvSpPr>
        <p:spPr>
          <a:xfrm>
            <a:off x="1403280" y="765000"/>
            <a:ext cx="4176720" cy="2087640"/>
          </a:xfrm>
          <a:prstGeom prst="cloudCallout">
            <a:avLst>
              <a:gd name="adj1" fmla="val 57601"/>
              <a:gd name="adj2" fmla="val 59277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пе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ожно переход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 следующему заданию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6" name="Picture 4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2454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4" descr="59"/>
          <p:cNvPicPr/>
          <p:nvPr/>
        </p:nvPicPr>
        <p:blipFill>
          <a:blip r:embed="rId1"/>
          <a:stretch/>
        </p:blipFill>
        <p:spPr>
          <a:xfrm>
            <a:off x="395280" y="2060640"/>
            <a:ext cx="2664000" cy="2376360"/>
          </a:xfrm>
          <a:prstGeom prst="rect">
            <a:avLst/>
          </a:prstGeom>
          <a:ln w="0">
            <a:noFill/>
          </a:ln>
        </p:spPr>
      </p:pic>
      <p:sp>
        <p:nvSpPr>
          <p:cNvPr id="848" name="AutoShape 5"/>
          <p:cNvSpPr/>
          <p:nvPr/>
        </p:nvSpPr>
        <p:spPr>
          <a:xfrm>
            <a:off x="3708360" y="836640"/>
            <a:ext cx="3959280" cy="2376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ШИМ ЗАДАЧУ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КРАТКАЯ ЗАПИС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вочек –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ьчиков - ?, на 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ч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AutoShape 4"/>
          <p:cNvSpPr/>
          <p:nvPr/>
        </p:nvSpPr>
        <p:spPr>
          <a:xfrm rot="16394400">
            <a:off x="5605920" y="2034000"/>
            <a:ext cx="1368360" cy="846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113400 h 846360"/>
              <a:gd name="textAreaBottom" fmla="*/ 73296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7093080" y="1341360"/>
            <a:ext cx="574560" cy="1943280"/>
          </a:xfrm>
          <a:custGeom>
            <a:avLst/>
            <a:gdLst>
              <a:gd name="textAreaLeft" fmla="*/ 0 w 574560"/>
              <a:gd name="textAreaRight" fmla="*/ 207360 w 57456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Rectangle 6"/>
          <p:cNvSpPr/>
          <p:nvPr/>
        </p:nvSpPr>
        <p:spPr>
          <a:xfrm>
            <a:off x="7812000" y="1844640"/>
            <a:ext cx="58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4" descr="59"/>
          <p:cNvPicPr/>
          <p:nvPr/>
        </p:nvPicPr>
        <p:blipFill>
          <a:blip r:embed="rId1"/>
          <a:stretch/>
        </p:blipFill>
        <p:spPr>
          <a:xfrm>
            <a:off x="395280" y="2421000"/>
            <a:ext cx="2736720" cy="278280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5"/>
          <p:cNvSpPr/>
          <p:nvPr/>
        </p:nvSpPr>
        <p:spPr>
          <a:xfrm>
            <a:off x="3276720" y="981000"/>
            <a:ext cx="5327640" cy="237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едлагаю устно выполнить № 5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Tahoma"/>
              </a:rPr>
              <a:t>Начертите прямоугольник со сторонами 5 см и 3 см.</a:t>
            </a:r>
            <a:br>
              <a:rPr sz="5400"/>
            </a:br>
            <a:r>
              <a:rPr b="0" lang="ru-RU" sz="5400" spc="-1" strike="noStrike">
                <a:solidFill>
                  <a:srgbClr val="009900"/>
                </a:solidFill>
                <a:latin typeface="Tahoma"/>
              </a:rPr>
              <a:t>Найдите периметр прямоугольника 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66978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Р = 5 + 5+ 3+ 3 = 16 (см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WordArt 6"/>
          <p:cNvSpPr txBox="1"/>
          <p:nvPr/>
        </p:nvSpPr>
        <p:spPr>
          <a:xfrm>
            <a:off x="539640" y="260280"/>
            <a:ext cx="77058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нутка геометр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9" name="Picture 7" descr=""/>
          <p:cNvPicPr/>
          <p:nvPr/>
        </p:nvPicPr>
        <p:blipFill>
          <a:blip r:embed="rId3"/>
          <a:stretch/>
        </p:blipFill>
        <p:spPr>
          <a:xfrm>
            <a:off x="6689880" y="3068640"/>
            <a:ext cx="2454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род « ЗАКРЕПЛЯЙ – К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1" name="Picture 5" descr="122"/>
          <p:cNvPicPr/>
          <p:nvPr/>
        </p:nvPicPr>
        <p:blipFill>
          <a:blip r:embed="rId1"/>
          <a:stretch/>
        </p:blipFill>
        <p:spPr>
          <a:xfrm>
            <a:off x="2556000" y="1773360"/>
            <a:ext cx="6084720" cy="446400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6" descr="57"/>
          <p:cNvPicPr/>
          <p:nvPr/>
        </p:nvPicPr>
        <p:blipFill>
          <a:blip r:embed="rId2"/>
          <a:stretch/>
        </p:blipFill>
        <p:spPr>
          <a:xfrm>
            <a:off x="250920" y="1700280"/>
            <a:ext cx="1979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ПУТЕШЕСТВ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7" name="Picture 5" descr="301"/>
          <p:cNvPicPr/>
          <p:nvPr/>
        </p:nvPicPr>
        <p:blipFill>
          <a:blip r:embed="rId1"/>
          <a:stretch/>
        </p:blipFill>
        <p:spPr>
          <a:xfrm>
            <a:off x="900000" y="1484280"/>
            <a:ext cx="7128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4" descr="59"/>
          <p:cNvPicPr/>
          <p:nvPr/>
        </p:nvPicPr>
        <p:blipFill>
          <a:blip r:embed="rId1"/>
          <a:stretch/>
        </p:blipFill>
        <p:spPr>
          <a:xfrm>
            <a:off x="611280" y="1341360"/>
            <a:ext cx="2016000" cy="18003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helper1"/>
          <p:cNvPicPr/>
          <p:nvPr/>
        </p:nvPicPr>
        <p:blipFill>
          <a:blip r:embed="rId2"/>
          <a:stretch/>
        </p:blipFill>
        <p:spPr>
          <a:xfrm>
            <a:off x="324000" y="4508640"/>
            <a:ext cx="1973160" cy="2098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" descr=""/>
          <p:cNvPicPr/>
          <p:nvPr/>
        </p:nvPicPr>
        <p:blipFill>
          <a:blip r:embed="rId3"/>
          <a:stretch/>
        </p:blipFill>
        <p:spPr>
          <a:xfrm>
            <a:off x="5867280" y="3213000"/>
            <a:ext cx="2454480" cy="3456000"/>
          </a:xfrm>
          <a:prstGeom prst="rect">
            <a:avLst/>
          </a:prstGeom>
          <a:ln w="0">
            <a:noFill/>
          </a:ln>
        </p:spPr>
      </p:pic>
      <p:sp>
        <p:nvSpPr>
          <p:cNvPr id="866" name="AutoShape 7"/>
          <p:cNvSpPr/>
          <p:nvPr/>
        </p:nvSpPr>
        <p:spPr>
          <a:xfrm>
            <a:off x="2843280" y="260280"/>
            <a:ext cx="3744720" cy="1513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   5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AutoShape 8"/>
          <p:cNvSpPr/>
          <p:nvPr/>
        </p:nvSpPr>
        <p:spPr>
          <a:xfrm>
            <a:off x="2050920" y="2781360"/>
            <a:ext cx="2808360" cy="1873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AutoShape 11"/>
          <p:cNvSpPr/>
          <p:nvPr/>
        </p:nvSpPr>
        <p:spPr>
          <a:xfrm>
            <a:off x="6588000" y="1628640"/>
            <a:ext cx="216072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2"/>
          <p:cNvSpPr/>
          <p:nvPr/>
        </p:nvSpPr>
        <p:spPr>
          <a:xfrm>
            <a:off x="250920" y="260280"/>
            <a:ext cx="8642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Нам пора возвращаться. Обратный путь будет очень короткий, надо записать домашнее зада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тр. 47 № 2, № 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2"/>
          <p:cNvSpPr/>
          <p:nvPr/>
        </p:nvSpPr>
        <p:spPr>
          <a:xfrm>
            <a:off x="816120" y="1960560"/>
            <a:ext cx="76737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WordArt 3"/>
          <p:cNvSpPr txBox="1"/>
          <p:nvPr/>
        </p:nvSpPr>
        <p:spPr>
          <a:xfrm>
            <a:off x="2286000" y="2627280"/>
            <a:ext cx="5549760" cy="16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444044" dir="10542650" blurRad="0" rotWithShape="0">
                    <a:srgbClr val="ff8080">
                      <a:alpha val="4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444044" dir="10542650" blurRad="0" rotWithShape="0">
                  <a:srgbClr val="ff808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2" name="Picture 4" descr=""/>
          <p:cNvPicPr/>
          <p:nvPr/>
        </p:nvPicPr>
        <p:blipFill>
          <a:blip r:embed="rId1"/>
          <a:stretch/>
        </p:blipFill>
        <p:spPr>
          <a:xfrm>
            <a:off x="5551560" y="4408560"/>
            <a:ext cx="2286000" cy="21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625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25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625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2" descr="840[1]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9" name="WordArt 3"/>
          <p:cNvSpPr txBox="1"/>
          <p:nvPr/>
        </p:nvSpPr>
        <p:spPr>
          <a:xfrm>
            <a:off x="250920" y="4005360"/>
            <a:ext cx="8351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а математик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0" name="Ennio Morricone - Chi Mai.mp3" descr=""/>
          <p:cNvPicPr/>
          <p:nvPr/>
        </p:nvPicPr>
        <p:blipFill>
          <a:blip r:embed="rId4"/>
          <a:stretch/>
        </p:blipFill>
        <p:spPr>
          <a:xfrm>
            <a:off x="4419720" y="3006720"/>
            <a:ext cx="304560" cy="29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5" descr="BD18218_"/>
          <p:cNvPicPr/>
          <p:nvPr/>
        </p:nvPicPr>
        <p:blipFill>
          <a:blip r:embed="rId1"/>
          <a:stretch/>
        </p:blipFill>
        <p:spPr>
          <a:xfrm>
            <a:off x="1547640" y="333360"/>
            <a:ext cx="6120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3" descr="X040"/>
          <p:cNvPicPr/>
          <p:nvPr/>
        </p:nvPicPr>
        <p:blipFill>
          <a:blip r:embed="rId1"/>
          <a:stretch/>
        </p:blipFill>
        <p:spPr>
          <a:xfrm>
            <a:off x="324000" y="1989000"/>
            <a:ext cx="5040000" cy="460872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4"/>
          <p:cNvSpPr/>
          <p:nvPr/>
        </p:nvSpPr>
        <p:spPr>
          <a:xfrm>
            <a:off x="0" y="620640"/>
            <a:ext cx="9144000" cy="936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34000 h 936720"/>
              <a:gd name="textAreaBottom" fmla="*/ 9090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WordArt 5"/>
          <p:cNvSpPr txBox="1"/>
          <p:nvPr/>
        </p:nvSpPr>
        <p:spPr>
          <a:xfrm>
            <a:off x="2268360" y="907920"/>
            <a:ext cx="4464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БРО ПОЖАЛОВАТЬ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6" name="Picture 7" descr="59"/>
          <p:cNvPicPr/>
          <p:nvPr/>
        </p:nvPicPr>
        <p:blipFill>
          <a:blip r:embed="rId2"/>
          <a:stretch/>
        </p:blipFill>
        <p:spPr>
          <a:xfrm>
            <a:off x="6516720" y="184464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8" descr="helper1"/>
          <p:cNvPicPr/>
          <p:nvPr/>
        </p:nvPicPr>
        <p:blipFill>
          <a:blip r:embed="rId3"/>
          <a:stretch/>
        </p:blipFill>
        <p:spPr>
          <a:xfrm>
            <a:off x="5435640" y="3500280"/>
            <a:ext cx="1512720" cy="15130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0" descr=""/>
          <p:cNvPicPr/>
          <p:nvPr/>
        </p:nvPicPr>
        <p:blipFill>
          <a:blip r:embed="rId4"/>
          <a:stretch/>
        </p:blipFill>
        <p:spPr>
          <a:xfrm>
            <a:off x="7164360" y="3860640"/>
            <a:ext cx="1728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ород «СОСЧИТАЙ – К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0" name="Picture 5" descr="E319"/>
          <p:cNvPicPr/>
          <p:nvPr/>
        </p:nvPicPr>
        <p:blipFill>
          <a:blip r:embed="rId1"/>
          <a:stretch/>
        </p:blipFill>
        <p:spPr>
          <a:xfrm>
            <a:off x="1187280" y="1844640"/>
            <a:ext cx="648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НАЙДИ ЗНАЧЕНИЕ ВЫРА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0 – 10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3 – 3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9 + 1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5 – 5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70 + 10 =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67 – 7 + 1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ahoma"/>
              </a:rPr>
              <a:t>ПРОВЕРЯ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0 – 10 = 4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3 – 3 =9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59 + 1 =6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5 – 5 =8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70 + 10 = 8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67 – 7 + 1 =6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5" name="Picture 4" descr="57"/>
          <p:cNvPicPr/>
          <p:nvPr/>
        </p:nvPicPr>
        <p:blipFill>
          <a:blip r:embed="rId1"/>
          <a:stretch/>
        </p:blipFill>
        <p:spPr>
          <a:xfrm>
            <a:off x="3995640" y="270828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826" name="AutoShape 5"/>
          <p:cNvSpPr/>
          <p:nvPr/>
        </p:nvSpPr>
        <p:spPr>
          <a:xfrm>
            <a:off x="6012000" y="1700280"/>
            <a:ext cx="2735280" cy="1081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ОЛОДЦ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Верны ли утверждения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33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числе 57 – 5 ед. и 7 де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мма чисел 30 и 4 равна 3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7 больше, чем 7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число 8 увеличить на 6, получится 1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ое слагаемое – 9, второе – 7. Сумма 1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156000" y="1844640"/>
            <a:ext cx="25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830" name="Picture 5" descr="helper1"/>
          <p:cNvPicPr/>
          <p:nvPr/>
        </p:nvPicPr>
        <p:blipFill>
          <a:blip r:embed="rId1"/>
          <a:stretch/>
        </p:blipFill>
        <p:spPr>
          <a:xfrm>
            <a:off x="179280" y="333360"/>
            <a:ext cx="15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33:47Z</dcterms:created>
  <dc:creator>USER</dc:creator>
  <dc:description/>
  <dc:language>en-US</dc:language>
  <cp:lastModifiedBy>Зверь-машина</cp:lastModifiedBy>
  <dcterms:modified xsi:type="dcterms:W3CDTF">2014-12-18T17:51:40Z</dcterms:modified>
  <cp:revision>3</cp:revision>
  <dc:subject/>
  <dc:title>ПУТЕШЕСТВИЕ</dc:title>
</cp:coreProperties>
</file>