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3523-0EA3-4EF9-A04F-DCF17193F7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9892-20E9-4322-8355-5EB7703972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Text Box 2"/>
          <p:cNvSpPr/>
          <p:nvPr/>
        </p:nvSpPr>
        <p:spPr>
          <a:xfrm>
            <a:off x="1190520" y="878040"/>
            <a:ext cx="446580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body"/>
          </p:nvPr>
        </p:nvSpPr>
        <p:spPr>
          <a:xfrm>
            <a:off x="1061640" y="4349520"/>
            <a:ext cx="4700520" cy="3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DFC-8F05-46F4-AE5D-F70324B1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021-D44B-4F87-8452-46DEB5DC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9095E-8EE1-4FC4-AAE7-746D70F7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2ABB2-8C2B-49E1-9F74-76F23BAD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DC8BD-16AD-4D67-9783-CF9920FB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422A2-662F-4168-B45D-A23EC882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A1BE6-E432-4574-812A-1ED8B848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E21E0-2832-496F-BBA8-4D0F9EAC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395BA-B351-4B94-BDE1-4D70A757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5FF27-B80B-4E58-B5CA-6E8AAA37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96A49-1F3C-43A4-B384-9D43473F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65D-B003-4461-B899-ED3F553A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3C8-81B2-4605-A175-9C76386A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6750-13CF-4FD9-A3A7-77620460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0C2C-5369-41AA-A7E1-82297733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BA48-027F-4AB6-BB38-908D039B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C33B-5EA4-4DBA-996C-19748CF4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8637-79F7-40CF-9B33-42994CF0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A167-E69E-413D-B4D7-ACFC7D27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FB74-C71D-454D-8B68-11F8A9F1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9CB-66B6-4B64-BE8B-24663754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5F71-7C80-4C18-9FDF-3F9FB8FE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7347-991F-4228-B3BC-B6608B42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61D6-81A3-40F6-A547-F24423F1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7DB3-6655-4E15-B8F3-B0F159C2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347B-9B38-4D67-BC26-EC4B2389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5CBF-AA96-4213-96D3-F2C19A45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5DA6A-9400-4658-B608-3A64750F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36BFA-93DD-4B28-BFAB-3B4FC3D7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D4170-1330-4DBD-9EF6-8EB0486A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B170D-DCB0-4417-AFAB-6603FD3C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312-F2E7-437C-8A54-E4BF007C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26360-1542-48B1-860C-EEC3B543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80B64-9D48-460E-B487-A4BD00E3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7564E-8CAF-4A97-AE15-23BF3DEA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DEA8-5822-4752-AF1B-67B29DA1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CBC2B-9B68-4B0E-930D-F0CE031C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9AF9-F2AE-4642-A699-9EA49FB7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ED9F-F730-4F2A-AF87-30CB74A3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A4B8A-FAFB-4F87-811F-DE4C517E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8393B-EF53-48B8-B74B-70F2ADB3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5D19-983C-4A8E-B246-D1292B03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C92-40CD-4909-842F-56528988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309A6-BF64-481D-9B09-D9F173D4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5EA25-FA6B-4AE2-BCAB-C14C073F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6ACB0-7A05-4BC9-8D82-A8A7F632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E715C-2FA2-4512-B203-5ACDD881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83A16-9F82-47E0-801C-A098D8BD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73328-A65B-4B2C-B5D7-93E4709E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14ED3-5A19-471F-A139-F7E9F543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F9F47-216A-477E-B729-59A02F1A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7F7BC-7B81-448B-AB7C-8B5B3FAF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87061-1C6D-4421-89E8-ED3441ED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0B7-1FCE-4105-B929-B78AE75F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426EF-F8B8-4190-958E-BA5A1202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08F92-EDCD-48D3-96BD-8E1B607A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A7B4A-F2C6-48BA-955F-578E7665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70832-F471-484C-9A8D-58DE4671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FF359-5994-4B36-836A-69D1FB87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61F12-EBF1-481D-BF5D-372BB870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50B5B-042C-4EC8-B189-638BF82B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7B153-3552-45A2-A293-639CFF94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EC165-A9CF-46F5-9A3C-92EFE2B1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CBC1A-DE4E-4734-A4D8-3364D64D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92C-1469-4251-A14D-7E04FBAF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9A18A-8EBC-4515-B725-C20AE704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944D90-5D38-484C-9FDA-A11B0B1F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1879F3-D2A6-4C01-B132-A0E2D930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3757EF-84DE-4EC5-B219-5D055203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E7FF2A-923D-4E4F-A46D-7AF877CC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F270A-0763-4A30-A117-E317903A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86A17-8D25-4B51-8C10-154257C1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8F31EF-B593-425E-B1D6-DB8C7A27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D1DDD-74BB-4FF0-9C05-5C39C98E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A69D14-5129-4248-8CEA-8B10855B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C72-82B0-4AAC-8845-128ECB28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8A0EB-3AD3-4CC4-A19E-5C1E36D1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A4327-D62B-4891-9955-96C261A7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FAA05-851A-432F-B366-9CDDA560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9FC10-3B8D-4363-877F-5AF9EBF3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F43A7-27AB-4911-98E8-A31B2610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81376-B214-452E-A230-16C12F07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9D3E7-8BC0-4E8E-A6E1-FDF18C24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B23E1-DC5C-4E1F-8C71-B3A2809F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C0F6B-2C60-4206-ADD5-327B0375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D8C92-5A48-4050-B2AE-96299218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0C2-1F72-438C-BA4F-F48E839D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CD572-D505-43B8-A52E-42D1B0FD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C9B40-A252-4C3F-B95D-5F498C34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C49F6-7C51-43BF-AD81-C74A992A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988E3-CF6A-4B5B-8392-A71238E5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2CDFE-00A5-4EC7-8F1A-56283961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70A55-B379-40C9-AA36-8AB69674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03AD4-0625-4D64-A6D2-25BAD3B0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A375A-80B8-4645-AFA2-316F3F3E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79838-D56C-4217-9C1F-CF4B95F0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2B8A9-A3CA-4D1D-97A1-9AF721B1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25D-E0E0-4A47-A1A3-13B62A45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5CBDD-672F-42A3-8829-DBAA9191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0232A-372A-4860-ADE8-91EA7220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4458D-C3B2-411D-8769-54686754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B2D8E-84AC-4A4A-B8B6-DB46AB0A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DA40D-E5DB-4C88-B5C4-D522E6DB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BB568-F980-4FDE-B3F3-8FFEF6F9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8E39E-5B44-4219-8422-E749528C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43B6D-07BC-42BE-90EB-A47914DE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07BBF-62B9-4049-A5DF-F7D16E8E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57D72-982B-42C1-864A-448DAA88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1E97-A6BE-4A96-93BC-A9F548CA61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BD14-D774-4FE6-AF0B-91F9FCDBB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0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10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86B3-3629-4801-B037-6550A9961C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8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8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8BA6-6295-49E0-8739-16DC47924D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4954-5728-4B8C-B44E-1913498BC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00E8-8D9E-4C5A-83B3-3B57467AFD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72A6-4C3C-4B00-B2CE-D37283527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1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1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1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2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52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3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4048-A7BB-4760-ABC8-3BC35C2470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0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0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2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25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0F94-3D2E-42A6-BEF5-0078AF1138C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Новикова Т.Н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МАОУ «СОШ № 153 с углубленным изучением иностранных языков» Г.Пер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533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числе 57 – 5 ед. и 7 де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мма чисел 30 и 4 равна 3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7 больше, чем 7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число 8 увеличить на 6, получится 1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ое слагаемое – 9, второе – 7. Сумма 1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551280" y="1844640"/>
            <a:ext cx="126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4" name="Picture 7" descr="helper1"/>
          <p:cNvPicPr/>
          <p:nvPr/>
        </p:nvPicPr>
        <p:blipFill>
          <a:blip r:embed="rId1"/>
          <a:stretch/>
        </p:blipFill>
        <p:spPr>
          <a:xfrm>
            <a:off x="179280" y="333360"/>
            <a:ext cx="1584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Город «РЕШАЙ – КА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36" name="Picture 5" descr="118"/>
          <p:cNvPicPr/>
          <p:nvPr/>
        </p:nvPicPr>
        <p:blipFill>
          <a:blip r:embed="rId1"/>
          <a:stretch/>
        </p:blipFill>
        <p:spPr>
          <a:xfrm>
            <a:off x="468360" y="2205000"/>
            <a:ext cx="5759280" cy="407340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6" descr="57"/>
          <p:cNvPicPr/>
          <p:nvPr/>
        </p:nvPicPr>
        <p:blipFill>
          <a:blip r:embed="rId2"/>
          <a:stretch/>
        </p:blipFill>
        <p:spPr>
          <a:xfrm>
            <a:off x="6588000" y="227664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6" descr="59"/>
          <p:cNvPicPr/>
          <p:nvPr/>
        </p:nvPicPr>
        <p:blipFill>
          <a:blip r:embed="rId1"/>
          <a:stretch/>
        </p:blipFill>
        <p:spPr>
          <a:xfrm>
            <a:off x="539640" y="1916280"/>
            <a:ext cx="2808360" cy="2736720"/>
          </a:xfrm>
          <a:prstGeom prst="rect">
            <a:avLst/>
          </a:prstGeom>
          <a:ln w="0">
            <a:noFill/>
          </a:ln>
        </p:spPr>
      </p:pic>
      <p:sp>
        <p:nvSpPr>
          <p:cNvPr id="839" name="AutoShape 7"/>
          <p:cNvSpPr/>
          <p:nvPr/>
        </p:nvSpPr>
        <p:spPr>
          <a:xfrm>
            <a:off x="3851280" y="333360"/>
            <a:ext cx="5292720" cy="2590920"/>
          </a:xfrm>
          <a:prstGeom prst="wedgeEllipseCallout">
            <a:avLst>
              <a:gd name="adj1" fmla="val -43759"/>
              <a:gd name="adj2" fmla="val 533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Откройте 47 страницу учебника. Давайте выполним №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5" descr="helper1"/>
          <p:cNvPicPr/>
          <p:nvPr/>
        </p:nvPicPr>
        <p:blipFill>
          <a:blip r:embed="rId1"/>
          <a:stretch/>
        </p:blipFill>
        <p:spPr>
          <a:xfrm>
            <a:off x="179280" y="4005360"/>
            <a:ext cx="2017800" cy="17398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6" descr="57"/>
          <p:cNvPicPr/>
          <p:nvPr/>
        </p:nvPicPr>
        <p:blipFill>
          <a:blip r:embed="rId2"/>
          <a:stretch/>
        </p:blipFill>
        <p:spPr>
          <a:xfrm>
            <a:off x="5508720" y="2060640"/>
            <a:ext cx="1942920" cy="194472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7"/>
          <p:cNvSpPr/>
          <p:nvPr/>
        </p:nvSpPr>
        <p:spPr>
          <a:xfrm>
            <a:off x="1979640" y="620640"/>
            <a:ext cx="3382920" cy="3889440"/>
          </a:xfrm>
          <a:prstGeom prst="horizont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WordArt 8"/>
          <p:cNvSpPr txBox="1"/>
          <p:nvPr/>
        </p:nvSpPr>
        <p:spPr>
          <a:xfrm rot="19358400">
            <a:off x="1802880" y="2045880"/>
            <a:ext cx="3676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Picture 2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2454120" cy="345600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3"/>
          <p:cNvSpPr/>
          <p:nvPr/>
        </p:nvSpPr>
        <p:spPr>
          <a:xfrm>
            <a:off x="1403280" y="765000"/>
            <a:ext cx="4176720" cy="2087640"/>
          </a:xfrm>
          <a:prstGeom prst="cloudCallout">
            <a:avLst>
              <a:gd name="adj1" fmla="val 57601"/>
              <a:gd name="adj2" fmla="val 59277"/>
            </a:avLst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епер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ожно переход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 следующему заданию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6" name="Picture 4" descr=""/>
          <p:cNvPicPr/>
          <p:nvPr/>
        </p:nvPicPr>
        <p:blipFill>
          <a:blip r:embed="rId2"/>
          <a:stretch/>
        </p:blipFill>
        <p:spPr>
          <a:xfrm>
            <a:off x="5435640" y="2349360"/>
            <a:ext cx="2454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Picture 4" descr="59"/>
          <p:cNvPicPr/>
          <p:nvPr/>
        </p:nvPicPr>
        <p:blipFill>
          <a:blip r:embed="rId1"/>
          <a:stretch/>
        </p:blipFill>
        <p:spPr>
          <a:xfrm>
            <a:off x="395280" y="2060640"/>
            <a:ext cx="2664000" cy="2376360"/>
          </a:xfrm>
          <a:prstGeom prst="rect">
            <a:avLst/>
          </a:prstGeom>
          <a:ln w="0">
            <a:noFill/>
          </a:ln>
        </p:spPr>
      </p:pic>
      <p:sp>
        <p:nvSpPr>
          <p:cNvPr id="848" name="AutoShape 5"/>
          <p:cNvSpPr/>
          <p:nvPr/>
        </p:nvSpPr>
        <p:spPr>
          <a:xfrm>
            <a:off x="3708360" y="836640"/>
            <a:ext cx="3959280" cy="237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ИМ ЗАДАЧУ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КРАТКАЯ ЗАПИС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вочек –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льчиков - ?, на 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ч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AutoShape 4"/>
          <p:cNvSpPr/>
          <p:nvPr/>
        </p:nvSpPr>
        <p:spPr>
          <a:xfrm rot="16394400">
            <a:off x="5605920" y="2034000"/>
            <a:ext cx="1368360" cy="846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113400 h 846360"/>
              <a:gd name="textAreaBottom" fmla="*/ 73296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7093080" y="1341360"/>
            <a:ext cx="574560" cy="1943280"/>
          </a:xfrm>
          <a:custGeom>
            <a:avLst/>
            <a:gdLst>
              <a:gd name="textAreaLeft" fmla="*/ 0 w 574560"/>
              <a:gd name="textAreaRight" fmla="*/ 207360 w 57456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Rectangle 6"/>
          <p:cNvSpPr/>
          <p:nvPr/>
        </p:nvSpPr>
        <p:spPr>
          <a:xfrm>
            <a:off x="7812000" y="1844640"/>
            <a:ext cx="5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4" descr="59"/>
          <p:cNvPicPr/>
          <p:nvPr/>
        </p:nvPicPr>
        <p:blipFill>
          <a:blip r:embed="rId1"/>
          <a:stretch/>
        </p:blipFill>
        <p:spPr>
          <a:xfrm>
            <a:off x="395280" y="2421000"/>
            <a:ext cx="2736720" cy="2782800"/>
          </a:xfrm>
          <a:prstGeom prst="rect">
            <a:avLst/>
          </a:prstGeom>
          <a:ln w="0">
            <a:noFill/>
          </a:ln>
        </p:spPr>
      </p:pic>
      <p:sp>
        <p:nvSpPr>
          <p:cNvPr id="855" name="AutoShape 5"/>
          <p:cNvSpPr/>
          <p:nvPr/>
        </p:nvSpPr>
        <p:spPr>
          <a:xfrm>
            <a:off x="3276720" y="981000"/>
            <a:ext cx="5327640" cy="2376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Предлагаю устно выполнить № 5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Tahoma"/>
              </a:rPr>
              <a:t>Начертите прямоугольник со сторонами 5 см и 3 см.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Tahoma"/>
              </a:rPr>
              <a:t>Найдите периметр прямоугольника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669780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Р = 5 + 5+ 3+ 3 = 16 (см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WordArt 6"/>
          <p:cNvSpPr txBox="1"/>
          <p:nvPr/>
        </p:nvSpPr>
        <p:spPr>
          <a:xfrm>
            <a:off x="539640" y="260280"/>
            <a:ext cx="77058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нутка геометр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9" name="Picture 7" descr=""/>
          <p:cNvPicPr/>
          <p:nvPr/>
        </p:nvPicPr>
        <p:blipFill>
          <a:blip r:embed="rId3"/>
          <a:stretch/>
        </p:blipFill>
        <p:spPr>
          <a:xfrm>
            <a:off x="6689880" y="3068640"/>
            <a:ext cx="2454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ород « ЗАКРЕПЛЯЙ – КА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1" name="Picture 5" descr="122"/>
          <p:cNvPicPr/>
          <p:nvPr/>
        </p:nvPicPr>
        <p:blipFill>
          <a:blip r:embed="rId1"/>
          <a:stretch/>
        </p:blipFill>
        <p:spPr>
          <a:xfrm>
            <a:off x="2556000" y="1773360"/>
            <a:ext cx="6084720" cy="446400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6" descr="57"/>
          <p:cNvPicPr/>
          <p:nvPr/>
        </p:nvPicPr>
        <p:blipFill>
          <a:blip r:embed="rId2"/>
          <a:stretch/>
        </p:blipFill>
        <p:spPr>
          <a:xfrm>
            <a:off x="250920" y="1700280"/>
            <a:ext cx="1979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ПУТЕШЕСТВ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7" name="Picture 5" descr="301"/>
          <p:cNvPicPr/>
          <p:nvPr/>
        </p:nvPicPr>
        <p:blipFill>
          <a:blip r:embed="rId1"/>
          <a:stretch/>
        </p:blipFill>
        <p:spPr>
          <a:xfrm>
            <a:off x="900000" y="1484280"/>
            <a:ext cx="7128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4" descr="59"/>
          <p:cNvPicPr/>
          <p:nvPr/>
        </p:nvPicPr>
        <p:blipFill>
          <a:blip r:embed="rId1"/>
          <a:stretch/>
        </p:blipFill>
        <p:spPr>
          <a:xfrm>
            <a:off x="611280" y="1341360"/>
            <a:ext cx="2016000" cy="180036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" descr="helper1"/>
          <p:cNvPicPr/>
          <p:nvPr/>
        </p:nvPicPr>
        <p:blipFill>
          <a:blip r:embed="rId2"/>
          <a:stretch/>
        </p:blipFill>
        <p:spPr>
          <a:xfrm>
            <a:off x="324000" y="4508640"/>
            <a:ext cx="1973160" cy="2098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6" descr=""/>
          <p:cNvPicPr/>
          <p:nvPr/>
        </p:nvPicPr>
        <p:blipFill>
          <a:blip r:embed="rId3"/>
          <a:stretch/>
        </p:blipFill>
        <p:spPr>
          <a:xfrm>
            <a:off x="5867280" y="3213000"/>
            <a:ext cx="2454480" cy="3456000"/>
          </a:xfrm>
          <a:prstGeom prst="rect">
            <a:avLst/>
          </a:prstGeom>
          <a:ln w="0">
            <a:noFill/>
          </a:ln>
        </p:spPr>
      </p:pic>
      <p:sp>
        <p:nvSpPr>
          <p:cNvPr id="866" name="AutoShape 7"/>
          <p:cNvSpPr/>
          <p:nvPr/>
        </p:nvSpPr>
        <p:spPr>
          <a:xfrm>
            <a:off x="2843280" y="260280"/>
            <a:ext cx="3744720" cy="1513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   5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AutoShape 8"/>
          <p:cNvSpPr/>
          <p:nvPr/>
        </p:nvSpPr>
        <p:spPr>
          <a:xfrm>
            <a:off x="2050920" y="2781360"/>
            <a:ext cx="2808360" cy="1873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AutoShape 11"/>
          <p:cNvSpPr/>
          <p:nvPr/>
        </p:nvSpPr>
        <p:spPr>
          <a:xfrm>
            <a:off x="6588000" y="1628640"/>
            <a:ext cx="2160720" cy="12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2"/>
          <p:cNvSpPr/>
          <p:nvPr/>
        </p:nvSpPr>
        <p:spPr>
          <a:xfrm>
            <a:off x="250920" y="260280"/>
            <a:ext cx="86421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Нам пора возвращаться. Обратный путь будет очень короткий, надо записать домашнее задани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тр. 47 № 2, № 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2"/>
          <p:cNvSpPr/>
          <p:nvPr/>
        </p:nvSpPr>
        <p:spPr>
          <a:xfrm>
            <a:off x="816120" y="1960560"/>
            <a:ext cx="76737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WordArt 3"/>
          <p:cNvSpPr txBox="1"/>
          <p:nvPr/>
        </p:nvSpPr>
        <p:spPr>
          <a:xfrm>
            <a:off x="2286000" y="2627280"/>
            <a:ext cx="5549760" cy="16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444044" dir="10542650" blurRad="0" rotWithShape="0">
                    <a:srgbClr val="ff8080">
                      <a:alpha val="4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444044" dir="10542650" blurRad="0" rotWithShape="0">
                  <a:srgbClr val="ff808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2" name="Picture 4" descr=""/>
          <p:cNvPicPr/>
          <p:nvPr/>
        </p:nvPicPr>
        <p:blipFill>
          <a:blip r:embed="rId1"/>
          <a:stretch/>
        </p:blipFill>
        <p:spPr>
          <a:xfrm>
            <a:off x="5551560" y="4408560"/>
            <a:ext cx="2286000" cy="21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625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25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625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2" descr="840[1]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9" name="WordArt 3"/>
          <p:cNvSpPr txBox="1"/>
          <p:nvPr/>
        </p:nvSpPr>
        <p:spPr>
          <a:xfrm>
            <a:off x="250920" y="4005360"/>
            <a:ext cx="8351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а математик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0" name="Ennio Morricone - Chi Mai.mp3" descr=""/>
          <p:cNvPicPr/>
          <p:nvPr/>
        </p:nvPicPr>
        <p:blipFill>
          <a:blip r:embed="rId4"/>
          <a:stretch/>
        </p:blipFill>
        <p:spPr>
          <a:xfrm>
            <a:off x="4419720" y="3006720"/>
            <a:ext cx="304560" cy="29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5" descr="BD18218_"/>
          <p:cNvPicPr/>
          <p:nvPr/>
        </p:nvPicPr>
        <p:blipFill>
          <a:blip r:embed="rId1"/>
          <a:stretch/>
        </p:blipFill>
        <p:spPr>
          <a:xfrm>
            <a:off x="1547640" y="333360"/>
            <a:ext cx="6120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3" name="Picture 3" descr="X040"/>
          <p:cNvPicPr/>
          <p:nvPr/>
        </p:nvPicPr>
        <p:blipFill>
          <a:blip r:embed="rId1"/>
          <a:stretch/>
        </p:blipFill>
        <p:spPr>
          <a:xfrm>
            <a:off x="324000" y="1989000"/>
            <a:ext cx="5040000" cy="460872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4"/>
          <p:cNvSpPr/>
          <p:nvPr/>
        </p:nvSpPr>
        <p:spPr>
          <a:xfrm>
            <a:off x="0" y="620640"/>
            <a:ext cx="9144000" cy="936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34000 h 936720"/>
              <a:gd name="textAreaBottom" fmla="*/ 9090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WordArt 5"/>
          <p:cNvSpPr txBox="1"/>
          <p:nvPr/>
        </p:nvSpPr>
        <p:spPr>
          <a:xfrm>
            <a:off x="2268360" y="907920"/>
            <a:ext cx="44643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БРО ПОЖАЛОВАТЬ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6" name="Picture 7" descr="59"/>
          <p:cNvPicPr/>
          <p:nvPr/>
        </p:nvPicPr>
        <p:blipFill>
          <a:blip r:embed="rId2"/>
          <a:stretch/>
        </p:blipFill>
        <p:spPr>
          <a:xfrm>
            <a:off x="6516720" y="184464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8" descr="helper1"/>
          <p:cNvPicPr/>
          <p:nvPr/>
        </p:nvPicPr>
        <p:blipFill>
          <a:blip r:embed="rId3"/>
          <a:stretch/>
        </p:blipFill>
        <p:spPr>
          <a:xfrm>
            <a:off x="5435640" y="350028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0" descr=""/>
          <p:cNvPicPr/>
          <p:nvPr/>
        </p:nvPicPr>
        <p:blipFill>
          <a:blip r:embed="rId4"/>
          <a:stretch/>
        </p:blipFill>
        <p:spPr>
          <a:xfrm>
            <a:off x="7164360" y="3860640"/>
            <a:ext cx="1728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Город «СОСЧИТАЙ – К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0" name="Picture 5" descr="E319"/>
          <p:cNvPicPr/>
          <p:nvPr/>
        </p:nvPicPr>
        <p:blipFill>
          <a:blip r:embed="rId1"/>
          <a:stretch/>
        </p:blipFill>
        <p:spPr>
          <a:xfrm>
            <a:off x="1187280" y="1844640"/>
            <a:ext cx="6480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НАЙДИ ЗНАЧЕНИЕ ВЫРАЖ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50 – 10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93 – 3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59 + 1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85 – 5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70 + 10 =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67 – 7 + 1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ПРОВЕРЯ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50 – 10 = 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93 – 3 =9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59 + 1 =6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85 – 5 =8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70 + 10 = 8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67 – 7 + 1 =6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5" name="Picture 4" descr="57"/>
          <p:cNvPicPr/>
          <p:nvPr/>
        </p:nvPicPr>
        <p:blipFill>
          <a:blip r:embed="rId1"/>
          <a:stretch/>
        </p:blipFill>
        <p:spPr>
          <a:xfrm>
            <a:off x="3995640" y="2708280"/>
            <a:ext cx="2521080" cy="2160720"/>
          </a:xfrm>
          <a:prstGeom prst="rect">
            <a:avLst/>
          </a:prstGeom>
          <a:ln w="0">
            <a:noFill/>
          </a:ln>
        </p:spPr>
      </p:pic>
      <p:sp>
        <p:nvSpPr>
          <p:cNvPr id="826" name="AutoShape 5"/>
          <p:cNvSpPr/>
          <p:nvPr/>
        </p:nvSpPr>
        <p:spPr>
          <a:xfrm>
            <a:off x="6012000" y="1700280"/>
            <a:ext cx="2735280" cy="1081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ОЛОДЦЫ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Верны ли утверждени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533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числе 57 – 5 ед. и 7 де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мма чисел 30 и 4 равна 3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7 больше, чем 7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число 8 увеличить на 6, получится 1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ое слагаемое – 9, второе – 7. Сумма 1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156000" y="1844640"/>
            <a:ext cx="259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830" name="Picture 5" descr="helper1"/>
          <p:cNvPicPr/>
          <p:nvPr/>
        </p:nvPicPr>
        <p:blipFill>
          <a:blip r:embed="rId1"/>
          <a:stretch/>
        </p:blipFill>
        <p:spPr>
          <a:xfrm>
            <a:off x="179280" y="333360"/>
            <a:ext cx="1584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5:33:47Z</dcterms:created>
  <dc:creator>USER</dc:creator>
  <dc:description/>
  <dc:language>en-US</dc:language>
  <cp:lastModifiedBy>Зверь-машина</cp:lastModifiedBy>
  <dcterms:modified xsi:type="dcterms:W3CDTF">2014-12-18T17:51:40Z</dcterms:modified>
  <cp:revision>3</cp:revision>
  <dc:subject/>
  <dc:title>ПУТЕШЕСТВИЕ</dc:title>
</cp:coreProperties>
</file>