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277-F51C-46CE-82EA-FDAB41DC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E69-2B3E-45D8-B595-DD8C1A81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1B0-EE49-4D03-8B5F-54FB37A2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9B8-3C33-4216-85A5-90CD701C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2917-4B9B-44F4-B248-253BB5B9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9499-0017-43EC-8424-7C8B1F3B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F2B5-AC06-4CEC-A4F3-0426D659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7C4F-9F86-4D4D-B77C-50F2C09B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70C1-AE52-4B8E-8A23-77404967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23C9-0083-475E-A96F-037E7B71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62A6-E54B-45DF-8732-F490DBFA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992-1635-49BC-A2D8-A9079F99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1571-3C4B-4CF3-BACE-D65A2803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22D4-102B-4906-90A9-CB00C80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B21E-DA6F-4AC3-BE93-718DF73B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83F4-EB42-4A19-B3FB-34EDD5F1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D2AB-D361-4BEB-957A-CED09841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B9C-3655-4887-8AF3-BA5D1EDC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539-1E51-4588-B303-FDBA843B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2D7-E961-4B58-B8D9-E5BBEB65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B75-8B03-4F42-81E8-273AF344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341-B124-44C9-B47C-D09178B9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E59-E989-4185-A705-2789DA0E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B9D5-0F84-4D0F-BDCD-B742182C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5314-D8AA-4B13-B2E6-A4A760E387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7E95-3701-4964-B303-A1F05BE2CE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Беседы с родителями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10760" y="2971800"/>
            <a:ext cx="652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МОУ Фировская  средняя общеобразовательная школа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выполнила:</a:t>
            </a:r>
            <a:br>
              <a:rPr sz="1800"/>
            </a:br>
            <a:r>
              <a:rPr b="1" lang="ru-RU" sz="1800" spc="-1" strike="noStrike">
                <a:solidFill>
                  <a:srgbClr val="ffffb7"/>
                </a:solidFill>
                <a:latin typeface="Arial"/>
              </a:rPr>
              <a:t>Карась Татьяна Юрьевна - 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Удачи!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Спасибо за внимание 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-18000"/>
            <a:ext cx="7261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есколько правил,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оторые нам очень помогают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 учебной деятельности:</a:t>
            </a:r>
            <a:br>
              <a:rPr sz="54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советы опытной мамы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rastemvrossii@mail.r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6091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    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щение с педагогом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ужно не просто прийти, поздороваться с преподавателем, или забрать ребенка из школы. Важно обсудить с учителем как прошел день ребенка, какие недочеты выявлены, с чем ребенок отлично справляется и т.д. и т.п.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    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людение инструкц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дителям, сложно контролировать учебный процесс. В нашем детстве была совершенно другая программа образования. Выполнение заданий строго по алгоритмам сэкономит и время, и нервы. 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    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 выполнении задани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ребёнку необходимо сначала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говорить свои действ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Родители будут знать, понял ли он задание, которое выполняет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    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ременные рам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самый сложный, но очень важный пункт. Если ребенок научится выполнять задания за отведенное на это время, то хорошая учеба вам обеспечена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    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вивать и поощрять ответственность за что-либ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важно, за что или за кого ребенок будет отвечать - в нем развивается самостоятельность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    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ставление распорядка дня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усть ребенок сам составит распорядок дня. Нужно обязательно включить в него не только расписание уроков в школе, но и занятия в секциях. В конце дня лучше устно проговорить, что из списка сделано, что нет. 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этом возрасте дети, как правило, уже не зависят от родителей физически, но все еще нуждаются в родительском совете и поддержке. В эти годы они с жадностью впитывают жизненные установки, закладываемые родителями, остальными членами семьи, школой и обществом. Правильная тактика любящих родителей,  стабильная семейная жизнь - и адаптация к школе пройдет  незаметно.  Это может стать золотым временем для детей и в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16:46:03Z</dcterms:created>
  <dc:creator>User</dc:creator>
  <dc:description/>
  <dc:language>en-US</dc:language>
  <cp:lastModifiedBy>User</cp:lastModifiedBy>
  <dcterms:modified xsi:type="dcterms:W3CDTF">2014-12-17T17:08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