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D9F-9CFB-468E-B442-30FA64AE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7F0-9B1C-44E6-BFB9-DB5A19C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B6F-062E-4012-A49E-B5AD4CE0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B30-170B-4C49-9441-44EE8E39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D30A-D77E-480A-ABA7-C78C29E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242D-2926-44B6-927C-B443D2E2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B18A-2105-449B-9311-50DB0C31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4463-7EC7-48D1-A834-68A9D58A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8757-12B1-40D1-AE1F-719AEA75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9AF6-2E12-4390-A7CC-20CB310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0094-4153-414F-87A3-02D761D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BB6-B24F-48BE-969F-C8AE6BB9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51F0-3501-465E-B0E9-CC66DBFF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FCBF-A121-447C-938C-EA26318C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B077-6CDF-4F5C-9B9F-E227B3EA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B22E-6FC0-4A5D-BAF2-D9A819A7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4473-289B-4EE7-9B81-72FFBA73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841-5069-428A-9A51-BEEE543D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F4F-7ABB-4F88-A379-F315CF7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D2C-0C67-425B-BA92-9B326823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D5D-F934-47BB-AC79-8C3DE67F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066-90D4-4788-B5AA-460D7E6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B14-71F6-4601-AD8D-D8059D0C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297-E815-4F21-98A4-88D6C6E8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270-B160-45AF-86B6-44C7CAC997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46D5-2EDA-4A9B-955A-B460FDB319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Беседы с родителям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10760" y="2971800"/>
            <a:ext cx="652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МОУ Фировская  средняя общеобразовательная школа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выполнила: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Карась Татьяна Юрьевна - 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Удачи!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Спасибо за внимание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-18000"/>
            <a:ext cx="7261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есколько правил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оторые нам очень помогают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учебной деятельности:</a:t>
            </a:r>
            <a:br>
              <a:rPr sz="54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советы опытной мамы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rastemvrossii@mail.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    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щение с педагогом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ужно не просто прийти, поздороваться с преподавателем, или забрать ребенка из школы. Важно обсудить с учителем как прошел день ребенка, какие недочеты выявлены, с чем ребенок отлично справляется и т.д. и т.п.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    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людение инструкц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дителям, сложно контролировать учебный процесс. В нашем детстве была совершенно другая программа образования. Выполнение заданий строго по алгоритмам сэкономит и время, и нервы. 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    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выполнении задан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ребёнку необходимо сначала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говорить свои дейст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Родители будут знать, понял ли он задание, которое выполняет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    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ременные рам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амый сложный, но очень важный пункт. Если ребенок научится выполнять задания за отведенное на это время, то хорошая учеба вам обеспечена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    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вать и поощрять ответственность за что-либ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важно, за что или за кого ребенок будет отвечать - в нем развивается самостоятельность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    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ставление распорядка дня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усть ребенок сам составит распорядок дня. Нужно обязательно включить в него не только расписание уроков в школе, но и занятия в секциях. В конце дня лучше устно проговорить, что из списка сделано, что нет.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этом возрасте дети, как правило, уже не зависят от родителей физически, но все еще нуждаются в родительском совете и поддержке. В эти годы они с жадностью впитывают жизненные установки, закладываемые родителями, остальными членами семьи, школой и обществом. Правильная тактика любящих родителей,  стабильная семейная жизнь - и адаптация к школе пройдет  незаметно.  Это может стать золотым временем для детей и в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16:46:03Z</dcterms:created>
  <dc:creator>User</dc:creator>
  <dc:description/>
  <dc:language>en-US</dc:language>
  <cp:lastModifiedBy>User</cp:lastModifiedBy>
  <dcterms:modified xsi:type="dcterms:W3CDTF">2014-12-17T17:08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