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AE6-F6DF-4D84-A32B-9090218E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408-2CEA-44EF-80E4-A6DFE897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F0C-ED6A-4AF7-8F48-17B7D722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0AB-C89A-447F-AA38-B6E9B885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FEC-A881-4756-B53F-C265A6F8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2302-703D-42A0-9E5E-3852328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588-A6B5-4398-954D-97942FCC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E33F-89BE-46B0-A598-D84E4005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1D94-E4E0-4AF8-91CB-E14A67AA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0DC6-8EFA-4C94-A588-F7E9F58D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8327-0A9D-4132-B0E4-26216B8E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D86-C5A0-44D0-85EF-B8B425E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544-0D73-49CE-B11E-CE78AE9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7850-F4F6-474D-AB2A-4438646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C0E-FC5B-4625-8534-AC2D6D6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ACE-B793-4D96-8526-BF2CF159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B5C7-C7A2-4AA9-B850-1E259DE9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A62-A481-487E-A6E3-F7829E29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19A-42CF-4134-A07C-8B19E099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23A-8F6C-49FA-A212-D50F502B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FDA-2BE5-4D0A-9A99-7970CC4D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EBA-6AAA-4D87-AC47-A1F938C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BFF-D1DD-4042-92DE-8AC78F5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46E-CE62-464E-8C02-2F787DC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E8A-6F92-4E0C-8958-774A686A4D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06B-828A-4AA4-924F-130C246C36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уппа № 4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Осьминож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19160" y="2282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ниципаль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ий сад общеразвивающего вида № 8 «Ёлочк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343400" y="39625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тели групп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убкова И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хова Л.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6870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емн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5480" y="1599840"/>
            <a:ext cx="392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9.6 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ное, 2 плафо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большое ок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девальные шкафчики 25 шт., 5 банкет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нформационные  стенды для родителе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3" descr="F:\поделки 023.jpg"/>
          <p:cNvPicPr/>
          <p:nvPr/>
        </p:nvPicPr>
        <p:blipFill>
          <a:blip r:embed="rId1"/>
          <a:stretch/>
        </p:blipFill>
        <p:spPr>
          <a:xfrm>
            <a:off x="1295280" y="1219320"/>
            <a:ext cx="1766880" cy="2355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F:\поделки 024.jpg"/>
          <p:cNvPicPr/>
          <p:nvPr/>
        </p:nvPicPr>
        <p:blipFill>
          <a:blip r:embed="rId2"/>
          <a:stretch/>
        </p:blipFill>
        <p:spPr>
          <a:xfrm>
            <a:off x="762120" y="3886200"/>
            <a:ext cx="32716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ол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371240"/>
            <a:ext cx="377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2.7 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ное, 2 плафо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большое ок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 столов больших, 23 детских стульчика, 2 шкафа для посуд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ойка для посуды, кулер с питьевой вод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5" descr="F:\поделки 022.jpg"/>
          <p:cNvPicPr/>
          <p:nvPr/>
        </p:nvPicPr>
        <p:blipFill>
          <a:blip r:embed="rId1"/>
          <a:stretch/>
        </p:blipFill>
        <p:spPr>
          <a:xfrm>
            <a:off x="1066680" y="1447920"/>
            <a:ext cx="28767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льн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3.9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ка 1 ш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 больших ок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4 детских кроватей, шкаф для кни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9" descr="F:\поделки 025.jpg"/>
          <p:cNvPicPr/>
          <p:nvPr/>
        </p:nvPicPr>
        <p:blipFill>
          <a:blip r:embed="rId1"/>
          <a:stretch/>
        </p:blipFill>
        <p:spPr>
          <a:xfrm>
            <a:off x="4495680" y="2158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руппов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09800" y="1447560"/>
            <a:ext cx="377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ное, 8 плафон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больших ок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стола большие, стол дидактический – «Ромашка», 10 детских стульчиков, 8 шкаф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2 паласа, магнитная доска, зерка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0" descr="F:\поделки 021.jpg"/>
          <p:cNvPicPr/>
          <p:nvPr/>
        </p:nvPicPr>
        <p:blipFill>
          <a:blip r:embed="rId1"/>
          <a:stretch/>
        </p:blipFill>
        <p:spPr>
          <a:xfrm>
            <a:off x="1071720" y="123192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DSC04040"/>
          <p:cNvPicPr/>
          <p:nvPr/>
        </p:nvPicPr>
        <p:blipFill>
          <a:blip r:embed="rId1"/>
          <a:stretch/>
        </p:blipFill>
        <p:spPr>
          <a:xfrm>
            <a:off x="934920" y="1295280"/>
            <a:ext cx="2173320" cy="250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SC04041"/>
          <p:cNvPicPr/>
          <p:nvPr/>
        </p:nvPicPr>
        <p:blipFill>
          <a:blip r:embed="rId2"/>
          <a:stretch/>
        </p:blipFill>
        <p:spPr>
          <a:xfrm>
            <a:off x="4191120" y="1371600"/>
            <a:ext cx="2146320" cy="247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DSC04045"/>
          <p:cNvPicPr/>
          <p:nvPr/>
        </p:nvPicPr>
        <p:blipFill>
          <a:blip r:embed="rId3"/>
          <a:stretch/>
        </p:blipFill>
        <p:spPr>
          <a:xfrm>
            <a:off x="2552760" y="3886200"/>
            <a:ext cx="1984320" cy="2644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1"/>
          <p:cNvSpPr/>
          <p:nvPr/>
        </p:nvSpPr>
        <p:spPr>
          <a:xfrm>
            <a:off x="838080" y="685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изкультурный уго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48320" y="76212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нижный уго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449720" y="5105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о уго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4" descr="DSC04054"/>
          <p:cNvPicPr/>
          <p:nvPr/>
        </p:nvPicPr>
        <p:blipFill>
          <a:blip r:embed="rId4"/>
          <a:stretch/>
        </p:blipFill>
        <p:spPr>
          <a:xfrm>
            <a:off x="6477120" y="3886200"/>
            <a:ext cx="2098440" cy="2797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5"/>
          <p:cNvSpPr/>
          <p:nvPr/>
        </p:nvSpPr>
        <p:spPr>
          <a:xfrm>
            <a:off x="6478560" y="32767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голок приро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F:\поделки 012.jpg"/>
          <p:cNvPicPr/>
          <p:nvPr/>
        </p:nvPicPr>
        <p:blipFill>
          <a:blip r:embed="rId1"/>
          <a:stretch/>
        </p:blipFill>
        <p:spPr>
          <a:xfrm>
            <a:off x="380880" y="160020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:\поделки 019.jpg"/>
          <p:cNvPicPr/>
          <p:nvPr/>
        </p:nvPicPr>
        <p:blipFill>
          <a:blip r:embed="rId2"/>
          <a:stretch/>
        </p:blipFill>
        <p:spPr>
          <a:xfrm>
            <a:off x="4343400" y="31240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овая зо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3" descr="F:\поделки 017.jpg"/>
          <p:cNvPicPr/>
          <p:nvPr/>
        </p:nvPicPr>
        <p:blipFill>
          <a:blip r:embed="rId1"/>
          <a:stretch/>
        </p:blipFill>
        <p:spPr>
          <a:xfrm rot="5975400">
            <a:off x="4519800" y="1559520"/>
            <a:ext cx="2732040" cy="205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:\поделки 018.jpg"/>
          <p:cNvPicPr/>
          <p:nvPr/>
        </p:nvPicPr>
        <p:blipFill>
          <a:blip r:embed="rId2"/>
          <a:stretch/>
        </p:blipFill>
        <p:spPr>
          <a:xfrm rot="5245200">
            <a:off x="-30960" y="145332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F:\поделки 014.jpg"/>
          <p:cNvPicPr/>
          <p:nvPr/>
        </p:nvPicPr>
        <p:blipFill>
          <a:blip r:embed="rId3"/>
          <a:stretch/>
        </p:blipFill>
        <p:spPr>
          <a:xfrm>
            <a:off x="19810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F:\поделки 015.jpg"/>
          <p:cNvPicPr/>
          <p:nvPr/>
        </p:nvPicPr>
        <p:blipFill>
          <a:blip r:embed="rId4"/>
          <a:stretch/>
        </p:blipFill>
        <p:spPr>
          <a:xfrm>
            <a:off x="5613480" y="44197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мывальн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1" descr="DSC04055"/>
          <p:cNvPicPr/>
          <p:nvPr/>
        </p:nvPicPr>
        <p:blipFill>
          <a:blip r:embed="rId1"/>
          <a:stretch/>
        </p:blipFill>
        <p:spPr>
          <a:xfrm>
            <a:off x="1523880" y="3581280"/>
            <a:ext cx="2781360" cy="2086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09800" y="1218960"/>
            <a:ext cx="377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щая площадь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.8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в.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ампочное, 2 плафо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польная керамическая плит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большое ок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ка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ковины –  1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мывальники – 2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нитазы – 2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нная для мытья ног – 1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ркало – 1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исок детей на полотенц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ыльницы – 3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4" descr="DSC04056"/>
          <p:cNvPicPr/>
          <p:nvPr/>
        </p:nvPicPr>
        <p:blipFill>
          <a:blip r:embed="rId2"/>
          <a:stretch/>
        </p:blipFill>
        <p:spPr>
          <a:xfrm>
            <a:off x="533520" y="1295280"/>
            <a:ext cx="27273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1T06:44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