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1AF-32AE-4E68-BD89-A500BF5B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356-52D3-4DA2-801F-7305762B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06A-34C7-49D0-9223-A3BB4150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45F-1AB4-418D-AF4B-8404D2E9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4C03-6F96-419B-ADA8-5D79A721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D055-E09D-4ABA-A8F5-63AE4716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09A1-0FD7-42FE-A594-24F4C0D6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3A86-CDCF-4B37-B862-4775C903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321A-29A6-4820-93A5-491715B5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FB35-F29C-4600-8BA5-44480D55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4F58-5733-43AF-8DC7-08F0D00D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D28-8CBE-4400-9A21-B1D490C9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62A8-AA1A-4AC2-B14C-AD190B00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29E-067F-42DD-95C2-92769BE2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FE65-EA11-4C92-B1D5-D46DAD8E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8B72-129B-4ED8-810A-C8662262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BEB0-3797-4CBD-B76A-84EF1605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5D7-B976-4722-BE1F-85B7167D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7D0-8B74-4469-A299-69DA29C4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B31-2AE6-4118-B938-655008BC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669-C412-472B-9075-233A2C35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10C-2908-422C-82EC-F495A0B0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95F-F881-49A3-BEA6-63EFF014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626-F1C1-4AB6-A39D-F946970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2E9C-B151-4995-868A-4ED5A40A46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BF3D-AF95-40D0-ABC0-CE7D6BB4D8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уппа № 4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Осьминожк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19160" y="2282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униципальное дошко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тский сад общеразвивающего вида № 8 «Ёлочк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343400" y="39625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атели групп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убкова И.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ухова Л.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68709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емная комна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5480" y="1599840"/>
            <a:ext cx="392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щая площад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9.6 кв.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вещен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ампочное, 2 плафон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польное покрыт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нолеу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личие дневного све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большое ок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б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девальные шкафчики 25 шт., 5 банкето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полнительные средства для дизайна интерьер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нформационные  стенды для родителе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13" descr="F:\поделки 023.jpg"/>
          <p:cNvPicPr/>
          <p:nvPr/>
        </p:nvPicPr>
        <p:blipFill>
          <a:blip r:embed="rId1"/>
          <a:stretch/>
        </p:blipFill>
        <p:spPr>
          <a:xfrm>
            <a:off x="1295280" y="1219320"/>
            <a:ext cx="1766880" cy="2355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F:\поделки 024.jpg"/>
          <p:cNvPicPr/>
          <p:nvPr/>
        </p:nvPicPr>
        <p:blipFill>
          <a:blip r:embed="rId2"/>
          <a:stretch/>
        </p:blipFill>
        <p:spPr>
          <a:xfrm>
            <a:off x="762120" y="3886200"/>
            <a:ext cx="32716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толова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09800" y="1371240"/>
            <a:ext cx="377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щая площадь: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2.7 кв.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вещен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ампочное, 2 плафо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польное покрыт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нолеу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личие дневного све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большое окн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б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 столов больших, 23 детских стульчика, 2 шкафа для посуд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полнительные средства для дизайна интерьер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мойка для посуды, кулер с питьевой водо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15" descr="F:\поделки 022.jpg"/>
          <p:cNvPicPr/>
          <p:nvPr/>
        </p:nvPicPr>
        <p:blipFill>
          <a:blip r:embed="rId1"/>
          <a:stretch/>
        </p:blipFill>
        <p:spPr>
          <a:xfrm>
            <a:off x="1066680" y="1447920"/>
            <a:ext cx="28767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альная комна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щая площад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3.9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в.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вещен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ампочка 1 ш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польное покрыт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нолеу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личие дневного све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 больших ок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б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4 детских кроватей, шкаф для кни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9" descr="F:\поделки 025.jpg"/>
          <p:cNvPicPr/>
          <p:nvPr/>
        </p:nvPicPr>
        <p:blipFill>
          <a:blip r:embed="rId1"/>
          <a:stretch/>
        </p:blipFill>
        <p:spPr>
          <a:xfrm>
            <a:off x="4495680" y="21589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рупповая комна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09800" y="1447560"/>
            <a:ext cx="377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щая площадь: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6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в.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свещен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ампочное, 8 плафон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польное покрытие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инолеу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личие дневного света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больших окн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ебель: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стола большие, стол дидактический – «Ромашка», 10 детских стульчиков, 8 шкаф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полнительные средства для дизайна интерьера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2 паласа, магнитная доска, зеркал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0" descr="F:\поделки 021.jpg"/>
          <p:cNvPicPr/>
          <p:nvPr/>
        </p:nvPicPr>
        <p:blipFill>
          <a:blip r:embed="rId1"/>
          <a:stretch/>
        </p:blipFill>
        <p:spPr>
          <a:xfrm>
            <a:off x="1071720" y="123192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DSC04040"/>
          <p:cNvPicPr/>
          <p:nvPr/>
        </p:nvPicPr>
        <p:blipFill>
          <a:blip r:embed="rId1"/>
          <a:stretch/>
        </p:blipFill>
        <p:spPr>
          <a:xfrm>
            <a:off x="934920" y="1295280"/>
            <a:ext cx="2173320" cy="250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DSC04041"/>
          <p:cNvPicPr/>
          <p:nvPr/>
        </p:nvPicPr>
        <p:blipFill>
          <a:blip r:embed="rId2"/>
          <a:stretch/>
        </p:blipFill>
        <p:spPr>
          <a:xfrm>
            <a:off x="4191120" y="1371600"/>
            <a:ext cx="2146320" cy="247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DSC04045"/>
          <p:cNvPicPr/>
          <p:nvPr/>
        </p:nvPicPr>
        <p:blipFill>
          <a:blip r:embed="rId3"/>
          <a:stretch/>
        </p:blipFill>
        <p:spPr>
          <a:xfrm>
            <a:off x="2552760" y="3886200"/>
            <a:ext cx="1984320" cy="2644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1"/>
          <p:cNvSpPr/>
          <p:nvPr/>
        </p:nvSpPr>
        <p:spPr>
          <a:xfrm>
            <a:off x="838080" y="685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изкультурный угол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648320" y="76212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нижный угол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449720" y="510552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зо угол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4" descr="DSC04054"/>
          <p:cNvPicPr/>
          <p:nvPr/>
        </p:nvPicPr>
        <p:blipFill>
          <a:blip r:embed="rId4"/>
          <a:stretch/>
        </p:blipFill>
        <p:spPr>
          <a:xfrm>
            <a:off x="6477120" y="3886200"/>
            <a:ext cx="2098440" cy="2797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5"/>
          <p:cNvSpPr/>
          <p:nvPr/>
        </p:nvSpPr>
        <p:spPr>
          <a:xfrm>
            <a:off x="6478560" y="327672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голок природ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" descr="F:\поделки 012.jpg"/>
          <p:cNvPicPr/>
          <p:nvPr/>
        </p:nvPicPr>
        <p:blipFill>
          <a:blip r:embed="rId1"/>
          <a:stretch/>
        </p:blipFill>
        <p:spPr>
          <a:xfrm>
            <a:off x="380880" y="160020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F:\поделки 019.jpg"/>
          <p:cNvPicPr/>
          <p:nvPr/>
        </p:nvPicPr>
        <p:blipFill>
          <a:blip r:embed="rId2"/>
          <a:stretch/>
        </p:blipFill>
        <p:spPr>
          <a:xfrm>
            <a:off x="4343400" y="3124080"/>
            <a:ext cx="3772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гровая зо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3" descr="F:\поделки 017.jpg"/>
          <p:cNvPicPr/>
          <p:nvPr/>
        </p:nvPicPr>
        <p:blipFill>
          <a:blip r:embed="rId1"/>
          <a:stretch/>
        </p:blipFill>
        <p:spPr>
          <a:xfrm rot="5975400">
            <a:off x="4519800" y="1559520"/>
            <a:ext cx="2732040" cy="205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:\поделки 018.jpg"/>
          <p:cNvPicPr/>
          <p:nvPr/>
        </p:nvPicPr>
        <p:blipFill>
          <a:blip r:embed="rId2"/>
          <a:stretch/>
        </p:blipFill>
        <p:spPr>
          <a:xfrm rot="5245200">
            <a:off x="-30960" y="1453320"/>
            <a:ext cx="3271680" cy="2454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F:\поделки 014.jpg"/>
          <p:cNvPicPr/>
          <p:nvPr/>
        </p:nvPicPr>
        <p:blipFill>
          <a:blip r:embed="rId3"/>
          <a:stretch/>
        </p:blipFill>
        <p:spPr>
          <a:xfrm>
            <a:off x="1981080" y="44956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F:\поделки 015.jpg"/>
          <p:cNvPicPr/>
          <p:nvPr/>
        </p:nvPicPr>
        <p:blipFill>
          <a:blip r:embed="rId4"/>
          <a:stretch/>
        </p:blipFill>
        <p:spPr>
          <a:xfrm>
            <a:off x="5613480" y="44197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мывальная комна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11" descr="DSC04055"/>
          <p:cNvPicPr/>
          <p:nvPr/>
        </p:nvPicPr>
        <p:blipFill>
          <a:blip r:embed="rId1"/>
          <a:stretch/>
        </p:blipFill>
        <p:spPr>
          <a:xfrm>
            <a:off x="1523880" y="3581280"/>
            <a:ext cx="2781360" cy="20862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09800" y="1218960"/>
            <a:ext cx="377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щая площадь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.8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в.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вещение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ампочное, 2 плафо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польное покрытие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польная керамическая плит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аличие дневного света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большое окн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бель: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ка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полнительные средства для дизайна интерьер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ковины –  1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мывальники – 2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нитазы – 2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анная для мытья ног – 1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еркало – 1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исок детей на полотенц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ыльницы – 3 ш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4" descr="DSC04056"/>
          <p:cNvPicPr/>
          <p:nvPr/>
        </p:nvPicPr>
        <p:blipFill>
          <a:blip r:embed="rId2"/>
          <a:stretch/>
        </p:blipFill>
        <p:spPr>
          <a:xfrm>
            <a:off x="533520" y="1295280"/>
            <a:ext cx="27273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1T06:44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