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146CD-7CB2-4077-B3E6-FFA3139D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FEC94-8135-4C47-9630-5A817D26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C89F7-913A-4C92-8A06-EAE0B5C43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59BF2-571C-4858-A015-1543410F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8B0BA-50CD-4521-852E-931BE343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896F9-6BB3-46DB-9495-EB025AFC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7C701-10C7-4B0F-976A-7C6FC689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3F1F8-E219-489E-B48F-9A2AB785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E1618-EC6D-424A-A73A-19F733A6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A7EC1-F8D2-4995-AF66-520D9A0A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73BD5-6FF4-4F7C-B7F0-1D2A95B6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D2F17-2F43-4522-A384-67ACC3EA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CF36-1333-48BD-A7BE-5A2DEF289E3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09800" y="1341000"/>
            <a:ext cx="7116480" cy="201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600"/>
                </a:solidFill>
                <a:latin typeface="Consolas"/>
                <a:ea typeface="Consolas"/>
              </a:rPr>
              <a:t>THE PRESENT CONTINUOUS TENSE</a:t>
            </a:r>
            <a:r>
              <a:rPr b="1" lang="ru-RU" sz="3600" spc="-1" strike="noStrike">
                <a:solidFill>
                  <a:srgbClr val="ff8600"/>
                </a:solidFill>
                <a:latin typeface="Consolas"/>
                <a:ea typeface="Consolas"/>
              </a:rPr>
              <a:t> </a:t>
            </a:r>
            <a:r>
              <a:rPr b="1" lang="ru-RU" sz="3600" spc="-1" strike="noStrike">
                <a:solidFill>
                  <a:srgbClr val="ff8600"/>
                </a:solidFill>
                <a:latin typeface="Monotype Corsiva"/>
              </a:rPr>
              <a:t>(НАСТОЯЩЕЕ ПРОДОЛЖЕННОЕ ВРЕМЯ)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09800" y="4776840"/>
            <a:ext cx="711648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Выполнила презентацию учитель английского языка ГБОУ СОШ № 497 Невского района Аверинова Ольга Алексеевна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489800" cy="19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ru-RU" sz="1600" spc="-1" strike="noStrike" u="sng">
                <a:solidFill>
                  <a:srgbClr val="ff8600"/>
                </a:solidFill>
                <a:uFillTx/>
                <a:latin typeface="Arial Black"/>
                <a:ea typeface="Times New Roman"/>
              </a:rPr>
              <a:t>Present continuous </a:t>
            </a:r>
            <a:r>
              <a:rPr b="1" lang="ru-RU" sz="1600" spc="-1" strike="noStrike">
                <a:solidFill>
                  <a:srgbClr val="ff8600"/>
                </a:solidFill>
                <a:latin typeface="Arial Black"/>
                <a:ea typeface="Times New Roman"/>
              </a:rPr>
              <a:t>(другое название </a:t>
            </a:r>
            <a:r>
              <a:rPr b="1" lang="ru-RU" sz="1600" spc="-1" strike="noStrike" u="sng">
                <a:solidFill>
                  <a:srgbClr val="ff8600"/>
                </a:solidFill>
                <a:uFillTx/>
                <a:latin typeface="Arial Black"/>
                <a:ea typeface="Times New Roman"/>
              </a:rPr>
              <a:t>Present Progressive</a:t>
            </a:r>
            <a:r>
              <a:rPr b="1" lang="ru-RU" sz="1600" spc="-1" strike="noStrike">
                <a:solidFill>
                  <a:srgbClr val="ff8600"/>
                </a:solidFill>
                <a:latin typeface="Arial Black"/>
                <a:ea typeface="Times New Roman"/>
              </a:rPr>
              <a:t>) используется при описании действия или события, которое происходит в момент речи или в настоящий период времени. Present continuous часто используется с такими наречиями и обстоятельственными выражениями как today (сегодня), now (сейчас), at the moment (в этот момент).</a:t>
            </a:r>
            <a:endParaRPr b="0" lang="en-US" sz="16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46" name="Объект 3" descr=""/>
          <p:cNvPicPr/>
          <p:nvPr/>
        </p:nvPicPr>
        <p:blipFill>
          <a:blip r:embed="rId1"/>
          <a:stretch/>
        </p:blipFill>
        <p:spPr>
          <a:xfrm>
            <a:off x="2052720" y="2792520"/>
            <a:ext cx="50385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Заголовок 1"/>
          <p:cNvGrpSpPr/>
          <p:nvPr/>
        </p:nvGrpSpPr>
        <p:grpSpPr>
          <a:xfrm>
            <a:off x="676440" y="1305000"/>
            <a:ext cx="7791120" cy="1633320"/>
            <a:chOff x="676440" y="1305000"/>
            <a:chExt cx="7791120" cy="1633320"/>
          </a:xfrm>
        </p:grpSpPr>
        <p:pic>
          <p:nvPicPr>
            <p:cNvPr id="4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676440" y="1305000"/>
              <a:ext cx="779112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914400" y="1544760"/>
              <a:ext cx="7315200" cy="11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 Black"/>
                </a:rPr>
                <a:t>CONTINUOUS</a:t>
              </a: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 Black"/>
              </a:rPr>
              <a:t>ДЛИТЕЛЬНО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 Black"/>
              </a:rPr>
              <a:t>(</a:t>
            </a: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NOW-</a:t>
            </a:r>
            <a:r>
              <a:rPr b="0" lang="ru-RU" sz="5400" spc="-1" strike="noStrike">
                <a:solidFill>
                  <a:srgbClr val="ffffff"/>
                </a:solidFill>
                <a:latin typeface="Arial Black"/>
              </a:rPr>
              <a:t>сейчас, в данный момент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" name="Прямая со стрелкой 4"/>
          <p:cNvCxnSpPr/>
          <p:nvPr/>
        </p:nvCxnSpPr>
        <p:spPr>
          <a:xfrm>
            <a:off x="4571640" y="1773000"/>
            <a:ext cx="1080" cy="864360"/>
          </a:xfrm>
          <a:prstGeom prst="straightConnector1">
            <a:avLst/>
          </a:prstGeom>
          <a:ln w="76320">
            <a:solidFill>
              <a:srgbClr val="838d9b"/>
            </a:solidFill>
            <a:miter/>
            <a:tailEnd len="med" type="arrow" w="med"/>
          </a:ln>
        </p:spPr>
      </p:cxnSp>
      <p:pic>
        <p:nvPicPr>
          <p:cNvPr id="52" name="Picture 2" descr="C:\Users\DIMA\AppData\Local\Microsoft\Windows\Temporary Internet Files\Content.IE5\1B3Q4ZPN\MC900432665[1].png"/>
          <p:cNvPicPr/>
          <p:nvPr/>
        </p:nvPicPr>
        <p:blipFill>
          <a:blip r:embed="rId2"/>
          <a:stretch/>
        </p:blipFill>
        <p:spPr>
          <a:xfrm>
            <a:off x="6732720" y="16794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Заголовок 1"/>
          <p:cNvGrpSpPr/>
          <p:nvPr/>
        </p:nvGrpSpPr>
        <p:grpSpPr>
          <a:xfrm>
            <a:off x="255600" y="669960"/>
            <a:ext cx="8705880" cy="1055520"/>
            <a:chOff x="255600" y="669960"/>
            <a:chExt cx="8705880" cy="1055520"/>
          </a:xfrm>
        </p:grpSpPr>
        <p:pic>
          <p:nvPicPr>
            <p:cNvPr id="5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55600" y="669960"/>
              <a:ext cx="8705880" cy="10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24000" y="692280"/>
              <a:ext cx="856908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 Black"/>
                </a:rPr>
                <a:t>THE PRESENT CONTINUOUS TENS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6" name=""/>
          <p:cNvGraphicFramePr/>
          <p:nvPr/>
        </p:nvGraphicFramePr>
        <p:xfrm>
          <a:off x="324000" y="1806480"/>
          <a:ext cx="8569080" cy="4637160"/>
        </p:xfrm>
        <a:graphic>
          <a:graphicData uri="http://schemas.openxmlformats.org/drawingml/2006/table">
            <a:tbl>
              <a:tblPr/>
              <a:tblGrid>
                <a:gridCol w="863280"/>
                <a:gridCol w="863640"/>
                <a:gridCol w="865440"/>
                <a:gridCol w="863640"/>
                <a:gridCol w="863280"/>
                <a:gridCol w="863640"/>
                <a:gridCol w="865440"/>
                <a:gridCol w="1441440"/>
                <a:gridCol w="1079280"/>
              </a:tblGrid>
              <a:tr h="668520">
                <a:tc gridSpan="3"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55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55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55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960">
                <a:tc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5d4"/>
                    </a:solidFill>
                  </a:tcPr>
                </a:tc>
                <a:tc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5d4"/>
                    </a:solidFill>
                  </a:tcPr>
                </a:tc>
                <a:tc rowSpan="3"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5d4"/>
                    </a:solidFill>
                  </a:tcPr>
                </a:tc>
                <a:tc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5d4"/>
                    </a:solidFill>
                  </a:tcPr>
                </a:tc>
                <a:tc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5d4"/>
                    </a:solidFill>
                  </a:tcPr>
                </a:tc>
                <a:tc rowSpan="3"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5d4"/>
                    </a:solidFill>
                  </a:tcPr>
                </a:tc>
                <a:tc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5d4"/>
                    </a:solidFill>
                  </a:tcPr>
                </a:tc>
                <a:tc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(I’m no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5d4"/>
                    </a:solidFill>
                  </a:tcPr>
                </a:tc>
                <a:tc rowSpan="3"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g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5d4"/>
                    </a:solidFill>
                  </a:tcPr>
                </a:tc>
              </a:tr>
              <a:tr h="1649160">
                <a:tc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beb"/>
                    </a:solidFill>
                  </a:tcPr>
                </a:tc>
                <a:tc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be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beb"/>
                    </a:solidFill>
                  </a:tcPr>
                </a:tc>
                <a:tc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be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beb"/>
                    </a:solidFill>
                  </a:tcPr>
                </a:tc>
                <a:tc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(aren’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be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9520">
                <a:tc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5d4"/>
                    </a:solidFill>
                  </a:tcPr>
                </a:tc>
                <a:tc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5d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5d4"/>
                    </a:solidFill>
                  </a:tcPr>
                </a:tc>
                <a:tc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5d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5d4"/>
                    </a:solidFill>
                  </a:tcPr>
                </a:tc>
                <a:tc>
                  <a:txBody>
                    <a:bodyPr lIns="79200" rIns="792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(isn’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9200" marR="79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5d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Заголовок 1"/>
          <p:cNvGrpSpPr/>
          <p:nvPr/>
        </p:nvGrpSpPr>
        <p:grpSpPr>
          <a:xfrm>
            <a:off x="255600" y="652320"/>
            <a:ext cx="8559720" cy="1060560"/>
            <a:chOff x="255600" y="652320"/>
            <a:chExt cx="8559720" cy="1060560"/>
          </a:xfrm>
        </p:grpSpPr>
        <p:pic>
          <p:nvPicPr>
            <p:cNvPr id="5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55600" y="652320"/>
              <a:ext cx="855972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24000" y="676440"/>
              <a:ext cx="8424720" cy="9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1.</a:t>
              </a:r>
              <a:r>
                <a:rPr b="0" lang="ru-RU" sz="2800" spc="-1" strike="noStrike">
                  <a:solidFill>
                    <a:srgbClr val="ffffff"/>
                  </a:solidFill>
                  <a:latin typeface="Arial"/>
                  <a:ea typeface="Aharoni"/>
                </a:rPr>
                <a:t>Преобразуй предложения, употребляя время </a:t>
              </a:r>
              <a:r>
                <a:rPr b="0" lang="en-US" sz="28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THE PRESENT CONTINUOUS TENS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" name=""/>
          <p:cNvSpPr txBox="1"/>
          <p:nvPr/>
        </p:nvSpPr>
        <p:spPr>
          <a:xfrm>
            <a:off x="324000" y="1844280"/>
            <a:ext cx="8424720" cy="4824360"/>
          </a:xfrm>
          <a:prstGeom prst="rect">
            <a:avLst/>
          </a:prstGeom>
          <a:gradFill rotWithShape="0">
            <a:gsLst>
              <a:gs pos="0">
                <a:srgbClr val="d8d3d0"/>
              </a:gs>
              <a:gs pos="100000">
                <a:srgbClr val="b0a099"/>
              </a:gs>
            </a:gsLst>
            <a:lin ang="5400000"/>
          </a:gradFill>
          <a:ln w="12600">
            <a:solidFill>
              <a:srgbClr val="80716a"/>
            </a:solidFill>
            <a:miter/>
          </a:ln>
          <a:effectLst>
            <a:outerShdw dist="38160" dir="5400000" blurRad="0" rotWithShape="0">
              <a:srgbClr val="000000">
                <a:alpha val="28000"/>
              </a:srgbClr>
            </a:outerShdw>
          </a:effectLst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ch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to read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ory and the pupil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to liste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sty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to sing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to sing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ussi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to paint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not / to cook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to feed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t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paren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to watch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V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3000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18:16:23Z</dcterms:created>
  <dc:creator>DIMA</dc:creator>
  <dc:description/>
  <dc:language>en-US</dc:language>
  <cp:lastModifiedBy> </cp:lastModifiedBy>
  <cp:lastPrinted>2013-04-16T19:27:56Z</cp:lastPrinted>
  <dcterms:modified xsi:type="dcterms:W3CDTF">2014-12-19T19:45:24Z</dcterms:modified>
  <cp:revision>16</cp:revision>
  <dc:subject/>
  <dc:title>THE PRESENT CONTINUOUS TENSE (НАСТОЯЩЕЕ ПРОДОЛЖЕННОЕ ВРЕМЯ)</dc:title>
</cp:coreProperties>
</file>