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A597-E677-47FD-BD63-894ECB82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0BEA-918E-4CB5-9730-A160296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CB48-B650-49E2-9511-09302BFA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1912-BD84-4294-8D45-9825A12A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416F-EC62-4D31-AEED-321D9F8A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3CC7-43D0-4B54-A467-1485553D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8DDC-7CA2-4083-9909-5F05BE75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2AEC-72AA-4D07-BBB8-AB25C8BB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C4E5-80D1-4A13-9469-347528BE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5D84-FB66-4B16-BE9B-BD00611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EDEB-4852-46E9-AFFD-2693AE3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1EF8-6F42-4F11-BE3B-DC348857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6061-9AAB-4673-B8E6-FC2D508036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9800" y="1341000"/>
            <a:ext cx="711648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600"/>
                </a:solidFill>
                <a:latin typeface="Consolas"/>
                <a:ea typeface="Consolas"/>
              </a:rPr>
              <a:t>THE PRESENT CONTINUOUS TENSE</a:t>
            </a:r>
            <a:r>
              <a:rPr b="1" lang="ru-RU" sz="3600" spc="-1" strike="noStrike">
                <a:solidFill>
                  <a:srgbClr val="ff8600"/>
                </a:solidFill>
                <a:latin typeface="Consolas"/>
                <a:ea typeface="Consolas"/>
              </a:rPr>
              <a:t> </a:t>
            </a:r>
            <a:r>
              <a:rPr b="1" lang="ru-RU" sz="3600" spc="-1" strike="noStrike">
                <a:solidFill>
                  <a:srgbClr val="ff8600"/>
                </a:solidFill>
                <a:latin typeface="Monotype Corsiva"/>
              </a:rPr>
              <a:t>(НАСТОЯЩЕЕ ПРОДОЛЖЕННОЕ ВРЕМЯ)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ыполнила презентацию учитель английского языка ГБОУ СОШ № 497 Невского района Аверинова Ольга Алексеевн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48980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ff8600"/>
                </a:solidFill>
                <a:uFillTx/>
                <a:latin typeface="Arial Black"/>
                <a:ea typeface="Times New Roman"/>
              </a:rPr>
              <a:t>Present continuous </a:t>
            </a:r>
            <a:r>
              <a:rPr b="1" lang="ru-RU" sz="1600" spc="-1" strike="noStrike">
                <a:solidFill>
                  <a:srgbClr val="ff8600"/>
                </a:solidFill>
                <a:latin typeface="Arial Black"/>
                <a:ea typeface="Times New Roman"/>
              </a:rPr>
              <a:t>(другое название </a:t>
            </a:r>
            <a:r>
              <a:rPr b="1" lang="ru-RU" sz="1600" spc="-1" strike="noStrike" u="sng">
                <a:solidFill>
                  <a:srgbClr val="ff8600"/>
                </a:solidFill>
                <a:uFillTx/>
                <a:latin typeface="Arial Black"/>
                <a:ea typeface="Times New Roman"/>
              </a:rPr>
              <a:t>Present Progressive</a:t>
            </a:r>
            <a:r>
              <a:rPr b="1" lang="ru-RU" sz="1600" spc="-1" strike="noStrike">
                <a:solidFill>
                  <a:srgbClr val="ff8600"/>
                </a:solidFill>
                <a:latin typeface="Arial Black"/>
                <a:ea typeface="Times New Roman"/>
              </a:rPr>
              <a:t>) используется при описании действия или события, которое происходит в момент речи или в настоящий период времени. Present continuous часто используется с такими наречиями и обстоятельственными выражениями как today (сегодня), now (сейчас), at the moment (в этот момент).</a:t>
            </a:r>
            <a:endParaRPr b="0" lang="en-US" sz="1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2052720" y="2792520"/>
            <a:ext cx="50385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Заголовок 1"/>
          <p:cNvGrpSpPr/>
          <p:nvPr/>
        </p:nvGrpSpPr>
        <p:grpSpPr>
          <a:xfrm>
            <a:off x="676440" y="1305000"/>
            <a:ext cx="7791120" cy="1633320"/>
            <a:chOff x="676440" y="1305000"/>
            <a:chExt cx="7791120" cy="1633320"/>
          </a:xfrm>
        </p:grpSpPr>
        <p:pic>
          <p:nvPicPr>
            <p:cNvPr id="4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76440" y="1305000"/>
              <a:ext cx="779112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14400" y="1544760"/>
              <a:ext cx="7315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 Black"/>
                </a:rPr>
                <a:t>CONTINUOUS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ДЛИТЕЛЬН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NOW-</a:t>
            </a: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сейчас, в данный момент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" name="Прямая со стрелкой 4"/>
          <p:cNvCxnSpPr/>
          <p:nvPr/>
        </p:nvCxnSpPr>
        <p:spPr>
          <a:xfrm>
            <a:off x="4571640" y="1773000"/>
            <a:ext cx="1080" cy="864360"/>
          </a:xfrm>
          <a:prstGeom prst="straightConnector1">
            <a:avLst/>
          </a:prstGeom>
          <a:ln w="76320">
            <a:solidFill>
              <a:srgbClr val="838d9b"/>
            </a:solidFill>
            <a:miter/>
            <a:tailEnd len="med" type="arrow" w="med"/>
          </a:ln>
        </p:spPr>
      </p:cxnSp>
      <p:pic>
        <p:nvPicPr>
          <p:cNvPr id="52" name="Picture 2" descr="C:\Users\DIMA\AppData\Local\Microsoft\Windows\Temporary Internet Files\Content.IE5\1B3Q4ZPN\MC900432665[1].png"/>
          <p:cNvPicPr/>
          <p:nvPr/>
        </p:nvPicPr>
        <p:blipFill>
          <a:blip r:embed="rId2"/>
          <a:stretch/>
        </p:blipFill>
        <p:spPr>
          <a:xfrm>
            <a:off x="6732720" y="16794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255600" y="669960"/>
            <a:ext cx="8705880" cy="1055520"/>
            <a:chOff x="255600" y="669960"/>
            <a:chExt cx="8705880" cy="105552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55600" y="669960"/>
              <a:ext cx="870588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24000" y="692280"/>
              <a:ext cx="85690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 Black"/>
                </a:rPr>
                <a:t>THE PRESENT CONTINUOUS TENS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24000" y="1806480"/>
          <a:ext cx="8569080" cy="4637160"/>
        </p:xfrm>
        <a:graphic>
          <a:graphicData uri="http://schemas.openxmlformats.org/drawingml/2006/table">
            <a:tbl>
              <a:tblPr/>
              <a:tblGrid>
                <a:gridCol w="863280"/>
                <a:gridCol w="863640"/>
                <a:gridCol w="865440"/>
                <a:gridCol w="863640"/>
                <a:gridCol w="863280"/>
                <a:gridCol w="863640"/>
                <a:gridCol w="865440"/>
                <a:gridCol w="1441440"/>
                <a:gridCol w="1079280"/>
              </a:tblGrid>
              <a:tr h="668520">
                <a:tc grid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5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5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5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row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row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(I’m no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row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g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</a:tr>
              <a:tr h="1649160"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(aren’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9520"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(isn’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255600" y="652320"/>
            <a:ext cx="8559720" cy="1060560"/>
            <a:chOff x="255600" y="652320"/>
            <a:chExt cx="8559720" cy="106056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55600" y="652320"/>
              <a:ext cx="855972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4000" y="676440"/>
              <a:ext cx="842472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1.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Aharoni"/>
                </a:rPr>
                <a:t>Преобразуй предложения, употребляя время </a:t>
              </a:r>
              <a:r>
                <a:rPr b="0" lang="en-US" sz="28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 PRESENT CONTINUOUS TENS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324000" y="1844280"/>
            <a:ext cx="8424720" cy="4824360"/>
          </a:xfrm>
          <a:prstGeom prst="rect">
            <a:avLst/>
          </a:prstGeom>
          <a:gradFill rotWithShape="0">
            <a:gsLst>
              <a:gs pos="0">
                <a:srgbClr val="d8d3d0"/>
              </a:gs>
              <a:gs pos="100000">
                <a:srgbClr val="b0a099"/>
              </a:gs>
            </a:gsLst>
            <a:lin ang="5400000"/>
          </a:gradFill>
          <a:ln w="12600">
            <a:solidFill>
              <a:srgbClr val="80716a"/>
            </a:solidFill>
            <a:miter/>
          </a:ln>
          <a:effectLst>
            <a:outerShdw dist="38160" dir="5400000" blurRad="0" rotWithShape="0">
              <a:srgbClr val="000000">
                <a:alpha val="2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read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ory and the pupi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list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y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sing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sing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ussi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paint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ot / to coo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feed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ar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watch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3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8:16:23Z</dcterms:created>
  <dc:creator>DIMA</dc:creator>
  <dc:description/>
  <dc:language>en-US</dc:language>
  <cp:lastModifiedBy> </cp:lastModifiedBy>
  <cp:lastPrinted>2013-04-16T19:27:56Z</cp:lastPrinted>
  <dcterms:modified xsi:type="dcterms:W3CDTF">2014-12-19T19:45:24Z</dcterms:modified>
  <cp:revision>16</cp:revision>
  <dc:subject/>
  <dc:title>THE PRESENT CONTINUOUS TENSE (НАСТОЯЩЕЕ ПРОДОЛЖЕННОЕ ВРЕМЯ)</dc:title>
</cp:coreProperties>
</file>