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0B6-1BD5-4798-9053-B43A9B7D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86C-9A11-4E5F-A719-0F2B2F1D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632-FC01-4347-A8A1-70088640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A158-12E5-4754-84C5-26E7FC52F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7D9F-8A37-4029-87C9-3BD12BCD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1A45-7E3B-4CAC-A750-9A972AA9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65D0-87B1-4141-AF2C-7B1C04DD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5514-DA7E-4EFE-BCDA-167EEA19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8708-FF3B-45BC-BC66-D2ABC4F6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E3FE-33EA-4BC3-9212-EE40C861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5989-04E0-4254-A66B-17E3525C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7F5-3E34-4C49-942F-AD73573B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2BEE-3DFB-483F-9765-08FA951B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8612-5B9B-4877-881F-0387C093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2253-F37C-465F-86F1-784E7A6E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02B7-1C29-4539-AAFE-D39C3CF7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B608-4428-4EE2-8135-8C5AEE84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DFC8-4907-4F35-A611-31E94DCB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CA40-65A6-4365-95F3-F762EB76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0DBB-D39D-404F-84D9-C2FFF792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7CA7-6023-4693-950B-C96AE9BA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25B-760E-46AD-9036-973D3AD6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0AD-2DAF-4909-BC18-A0F8EAF1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C7F-4036-4D72-89F6-6D0CF861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F45D-4A25-4DD4-B38F-2A132909D38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DB65-1D53-4843-9F43-2C67CB2A2EF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2"/>
          <p:cNvSpPr/>
          <p:nvPr/>
        </p:nvSpPr>
        <p:spPr>
          <a:xfrm>
            <a:off x="914400" y="685800"/>
            <a:ext cx="7696080" cy="58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Как древние люди представляли себе Вселенную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ЈС‚СЂРµРЅРЅСЏСЏ РїРѕР±СѓРґРєР° - РџС‚РёС‡РєРё _).mp3" descr=""/>
          <p:cNvPicPr/>
          <p:nvPr/>
        </p:nvPicPr>
        <p:blipFill>
          <a:blip r:embed="rId2"/>
          <a:stretch/>
        </p:blipFill>
        <p:spPr>
          <a:xfrm>
            <a:off x="4327560" y="3184560"/>
            <a:ext cx="487440" cy="487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6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6374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Астрономические представления в Индии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0" y="144792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  <a:ea typeface="Times New Roman"/>
              </a:rPr>
              <a:t>Плоская Земля с громадной горой в центре стоит на трех слонах. Слоны -  на огромной черепахе, плавающей в океане. Её поддерживает зме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  <a:ea typeface="Times New Roman"/>
              </a:rPr>
              <a:t>В первом веке в Индии были созданы работы, в которых уже говорилось, что Земля шарообразна. Она- центр, и вокруг нее по кругу вращаются небесные тела</a:t>
            </a:r>
            <a:r>
              <a:rPr b="0" lang="ru-RU" sz="1800" spc="-1" strike="noStrike">
                <a:solidFill>
                  <a:srgbClr val="3399ff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7"/>
          <p:cNvPicPr/>
          <p:nvPr/>
        </p:nvPicPr>
        <p:blipFill>
          <a:blip r:embed="rId1"/>
          <a:stretch/>
        </p:blipFill>
        <p:spPr>
          <a:xfrm>
            <a:off x="304920" y="2057400"/>
            <a:ext cx="4037040" cy="3314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  <a:ea typeface="Times New Roman"/>
              </a:rPr>
              <a:t>Обсерватории древних Майя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04960" y="2666880"/>
            <a:ext cx="51051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  <a:ea typeface="Times New Roman"/>
              </a:rPr>
              <a:t>В Центральной Америке к концу первого века велись  наблюдения небесных светил невооруженным глазом с помощью угломерных приборов</a:t>
            </a:r>
            <a:r>
              <a:rPr b="0" lang="ru-RU" sz="2000" spc="-1" strike="noStrike">
                <a:solidFill>
                  <a:srgbClr val="3399ff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первый самодельный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елескоп появился только в начале 17 ве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8"/>
          <p:cNvPicPr/>
          <p:nvPr/>
        </p:nvPicPr>
        <p:blipFill>
          <a:blip r:embed="rId1"/>
          <a:stretch/>
        </p:blipFill>
        <p:spPr>
          <a:xfrm>
            <a:off x="533520" y="1371600"/>
            <a:ext cx="31017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ccff"/>
                </a:solidFill>
                <a:latin typeface="Arial"/>
                <a:ea typeface="Times New Roman"/>
              </a:rPr>
              <a:t>Небесный</a:t>
            </a:r>
            <a:r>
              <a:rPr b="0" lang="ru-RU" sz="3600" spc="-1" strike="noStrike">
                <a:solidFill>
                  <a:srgbClr val="99ccff"/>
                </a:solidFill>
                <a:latin typeface="Arial"/>
                <a:ea typeface="Arial"/>
              </a:rPr>
              <a:t>   </a:t>
            </a:r>
            <a:r>
              <a:rPr b="0" lang="ru-RU" sz="3600" spc="-1" strike="noStrike">
                <a:solidFill>
                  <a:srgbClr val="99ccff"/>
                </a:solidFill>
                <a:latin typeface="Arial"/>
                <a:ea typeface="Times New Roman"/>
              </a:rPr>
              <a:t>глобус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105160" y="2026800"/>
            <a:ext cx="380988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ff"/>
                </a:solidFill>
                <a:latin typeface="Arial"/>
                <a:ea typeface="Times New Roman"/>
              </a:rPr>
              <a:t>Расположение созвездий и звезд на небе было удобно изображать на его уменьшенной модели — небесном глобусе. Первые небесные глобусы в Европе начали изготовлять в середине 16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99ccff"/>
                </a:solidFill>
                <a:latin typeface="Arial"/>
                <a:ea typeface="Times New Roman"/>
              </a:rPr>
              <a:t>века в Германии. Однако на Востоке такие глобусы появились значительно раньше — во второй половине  13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99ccff"/>
                </a:solidFill>
                <a:latin typeface="Arial"/>
                <a:ea typeface="Times New Roman"/>
              </a:rPr>
              <a:t>век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6" descr="b44882c649c7t"/>
          <p:cNvPicPr/>
          <p:nvPr/>
        </p:nvPicPr>
        <p:blipFill>
          <a:blip r:embed="rId1"/>
          <a:stretch/>
        </p:blipFill>
        <p:spPr>
          <a:xfrm>
            <a:off x="0" y="2027160"/>
            <a:ext cx="483876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Николай Коперник</a:t>
            </a:r>
            <a:br>
              <a:rPr sz="40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( 1473 – 1543 )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08360" y="177336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851280" y="2060640"/>
            <a:ext cx="500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 указал, что планета Земля занимает третье место от Солнца  и движется в пространстве вокруг своей ос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перник  доказал, что известные небесные явления связаны с движением Земли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kopernik"/>
          <p:cNvPicPr/>
          <p:nvPr/>
        </p:nvPicPr>
        <p:blipFill>
          <a:blip r:embed="rId1"/>
          <a:stretch/>
        </p:blipFill>
        <p:spPr>
          <a:xfrm>
            <a:off x="566640" y="2000160"/>
            <a:ext cx="2786040" cy="4449960"/>
          </a:xfrm>
          <a:prstGeom prst="rect">
            <a:avLst/>
          </a:prstGeom>
          <a:ln w="0">
            <a:noFill/>
          </a:ln>
        </p:spPr>
      </p:pic>
      <p:grpSp>
        <p:nvGrpSpPr>
          <p:cNvPr id="149" name="Стрелка влево 8"/>
          <p:cNvGrpSpPr/>
          <p:nvPr/>
        </p:nvGrpSpPr>
        <p:grpSpPr>
          <a:xfrm>
            <a:off x="8418600" y="6419880"/>
            <a:ext cx="738000" cy="450720"/>
            <a:chOff x="8418600" y="6419880"/>
            <a:chExt cx="738000" cy="450720"/>
          </a:xfrm>
        </p:grpSpPr>
        <p:pic>
          <p:nvPicPr>
            <p:cNvPr id="150" name="Стрелка влево 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418600" y="6419880"/>
              <a:ext cx="73800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7"/>
            <p:cNvSpPr/>
            <p:nvPr/>
          </p:nvSpPr>
          <p:spPr>
            <a:xfrm>
              <a:off x="8585280" y="6535800"/>
              <a:ext cx="5587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еперь все представления о небе и Земле основываются на точных расчётах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Люди считали, что звезды – это серебряные гвоздики, вбитые в небесный свод, или дырочки, через которые на землю глядят б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Arial"/>
                <a:ea typeface="Times New Roman"/>
              </a:rPr>
              <a:t>Представления о мире древних египтян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4" name="Picture 5" descr="50918246_Grobnica_Pashedu_pravaya_polovina"/>
          <p:cNvPicPr/>
          <p:nvPr/>
        </p:nvPicPr>
        <p:blipFill>
          <a:blip r:embed="rId1"/>
          <a:stretch/>
        </p:blipFill>
        <p:spPr>
          <a:xfrm>
            <a:off x="0" y="1676520"/>
            <a:ext cx="5105520" cy="51814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5505480" y="1676520"/>
            <a:ext cx="3505320" cy="41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Земля казалась им плоской, а небо – громадным куполом, раскинувшимся над Зем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ff"/>
                </a:solidFill>
                <a:latin typeface="Arial"/>
              </a:rPr>
              <a:t>В Древнем Египте верили в бога Солнца Ра, который объезжает небо на своей колесниц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34286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На картине показано, как небесный свод опирается на четыре высокие горы, расположенные где-то на краю света. Египет - в центре Земли. Небесные светила как бы подвешены на св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Этот рисунок находится на стене внутри одной из египетских пирами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2"/>
          <p:cNvPicPr/>
          <p:nvPr/>
        </p:nvPicPr>
        <p:blipFill>
          <a:blip r:embed="rId1"/>
          <a:stretch/>
        </p:blipFill>
        <p:spPr>
          <a:xfrm>
            <a:off x="914400" y="0"/>
            <a:ext cx="708660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ff"/>
                </a:solidFill>
                <a:latin typeface="Arial"/>
                <a:ea typeface="Times New Roman"/>
              </a:rPr>
              <a:t>Представления о мире народов Междуречь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5" descr="1318935971_1296633645_shumer-01"/>
          <p:cNvPicPr/>
          <p:nvPr/>
        </p:nvPicPr>
        <p:blipFill>
          <a:blip r:embed="rId1"/>
          <a:stretch/>
        </p:blipFill>
        <p:spPr>
          <a:xfrm>
            <a:off x="4572000" y="1600200"/>
            <a:ext cx="4267080" cy="4343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1752480"/>
            <a:ext cx="4343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  <a:ea typeface="Times New Roman"/>
              </a:rPr>
              <a:t>Очень похожи были и представления халдеев – народов, населявших Междуречье. По их мнению Вселенная была замкнутым миром, в центре которого находилась Земля, лежащая на воде и похожая на гор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534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99ff"/>
                </a:solidFill>
                <a:latin typeface="Arial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3399ff"/>
                </a:solidFill>
                <a:latin typeface="Arial"/>
                <a:ea typeface="Times New Roman"/>
              </a:rPr>
              <a:t>Небо халдеи считали большим куполом, возвышающимся над миром. Он сделан из твердого металла верховным богом. Днем небосвод отражал солнечный свет, а ночью служил темно-синим фоном для игры богов – планет, Луны и звезд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3"/>
          <p:cNvPicPr/>
          <p:nvPr/>
        </p:nvPicPr>
        <p:blipFill>
          <a:blip r:embed="rId1"/>
          <a:stretch/>
        </p:blipFill>
        <p:spPr>
          <a:xfrm>
            <a:off x="2133720" y="3200400"/>
            <a:ext cx="5105160" cy="3419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ff"/>
                </a:solidFill>
                <a:latin typeface="Arial"/>
                <a:ea typeface="Times New Roman"/>
              </a:rPr>
              <a:t>Вселенная по представлению древних греков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4" name="Picture 5" descr="athens2"/>
          <p:cNvPicPr/>
          <p:nvPr/>
        </p:nvPicPr>
        <p:blipFill>
          <a:blip r:embed="rId1"/>
          <a:stretch/>
        </p:blipFill>
        <p:spPr>
          <a:xfrm>
            <a:off x="1486080" y="1295280"/>
            <a:ext cx="6324480" cy="3240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380880" y="4800600"/>
            <a:ext cx="8534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99ff"/>
                </a:solidFill>
                <a:latin typeface="Arial"/>
                <a:ea typeface="Times New Roman"/>
              </a:rPr>
              <a:t>Как и многие другие народы, они представляли  себе Землю плоской. Такого мнения, например, придерживался и древнегреческий философ Фалес Милетск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723920" y="304560"/>
            <a:ext cx="40388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99ff"/>
                </a:solidFill>
                <a:latin typeface="Arial"/>
                <a:ea typeface="Times New Roman"/>
              </a:rPr>
              <a:t>Землю он считал плоским диском, окруженным недоступным человеку морем, из которого каждый вечер выходят и заходят звезды. Из восточного моря в золотой колеснице поднимался каждое утро бог Солнца Гелиос и совершал свой путь по небу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3399ff"/>
                </a:solidFill>
                <a:latin typeface="Arial"/>
                <a:ea typeface="Times New Roman"/>
              </a:rPr>
              <a:t> </a:t>
            </a:r>
            <a:r>
              <a:rPr b="0" lang="ru-RU" sz="2100" spc="-1" strike="noStrike">
                <a:solidFill>
                  <a:srgbClr val="3399ff"/>
                </a:solidFill>
                <a:latin typeface="Arial"/>
                <a:ea typeface="Times New Roman"/>
              </a:rPr>
              <a:t>Грек Самосский утверждал, что Земля, вместе с другими планетами вращается вокруг солнца. Ему не верили и изгнали с родины. А он был прав! Лишь через 1700 лет это было доказано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4" descr="4"/>
          <p:cNvPicPr/>
          <p:nvPr/>
        </p:nvPicPr>
        <p:blipFill>
          <a:blip r:embed="rId1"/>
          <a:stretch/>
        </p:blipFill>
        <p:spPr>
          <a:xfrm>
            <a:off x="304920" y="1905120"/>
            <a:ext cx="4037040" cy="3043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Модель Вселенной 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Аристарха Самосского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4267080" y="3124080"/>
            <a:ext cx="914400" cy="9144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н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3809880" y="2666880"/>
            <a:ext cx="1905120" cy="1828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3581280" y="2590920"/>
            <a:ext cx="2362320" cy="2057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6"/>
          <p:cNvSpPr/>
          <p:nvPr/>
        </p:nvSpPr>
        <p:spPr>
          <a:xfrm>
            <a:off x="3352680" y="2362320"/>
            <a:ext cx="2895840" cy="2514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7"/>
          <p:cNvSpPr/>
          <p:nvPr/>
        </p:nvSpPr>
        <p:spPr>
          <a:xfrm>
            <a:off x="3124080" y="2133720"/>
            <a:ext cx="3353040" cy="3047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8"/>
          <p:cNvSpPr/>
          <p:nvPr/>
        </p:nvSpPr>
        <p:spPr>
          <a:xfrm>
            <a:off x="2819520" y="1828800"/>
            <a:ext cx="3886200" cy="3733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9"/>
          <p:cNvSpPr/>
          <p:nvPr/>
        </p:nvSpPr>
        <p:spPr>
          <a:xfrm>
            <a:off x="2590920" y="1600200"/>
            <a:ext cx="4343400" cy="4191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4114800" y="2971800"/>
            <a:ext cx="1219320" cy="1219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3962520" y="2819520"/>
            <a:ext cx="1600200" cy="1523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5791320" y="1676520"/>
            <a:ext cx="30456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2743200" y="38098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14"/>
          <p:cNvSpPr/>
          <p:nvPr/>
        </p:nvSpPr>
        <p:spPr>
          <a:xfrm>
            <a:off x="6324480" y="32004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15"/>
          <p:cNvSpPr/>
          <p:nvPr/>
        </p:nvSpPr>
        <p:spPr>
          <a:xfrm>
            <a:off x="4952880" y="4648320"/>
            <a:ext cx="30492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16"/>
          <p:cNvSpPr/>
          <p:nvPr/>
        </p:nvSpPr>
        <p:spPr>
          <a:xfrm>
            <a:off x="3505320" y="2971800"/>
            <a:ext cx="30456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17"/>
          <p:cNvSpPr/>
          <p:nvPr/>
        </p:nvSpPr>
        <p:spPr>
          <a:xfrm>
            <a:off x="5334120" y="4038480"/>
            <a:ext cx="30456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18"/>
          <p:cNvSpPr/>
          <p:nvPr/>
        </p:nvSpPr>
        <p:spPr>
          <a:xfrm>
            <a:off x="5334120" y="3200400"/>
            <a:ext cx="30456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9"/>
          <p:cNvSpPr/>
          <p:nvPr/>
        </p:nvSpPr>
        <p:spPr>
          <a:xfrm>
            <a:off x="4648320" y="2819520"/>
            <a:ext cx="30456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</cp:lastModifiedBy>
  <dcterms:modified xsi:type="dcterms:W3CDTF">2013-12-09T14:23:4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