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5A4-C0FA-4116-8936-DDA3EF60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704-3D4D-4861-A018-0A64638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F16-47A3-4B1A-A734-FB62319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B5A-D4EE-4F22-B729-64CB8597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4C6-B1E0-40B8-ADE8-A809CCDD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852-4B78-4C9A-AF47-8313CCAC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8A9-88E2-4AEF-B09F-8879C5F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6E54-531D-4603-894C-22C4885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57EC-89B8-4489-A13E-06C69F2D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3EE2-D15E-49C0-B2DD-08EB2B18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F41-BBAF-4441-8443-B6A5281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132-FBE7-4004-AA5C-CFC0C11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59D5-10CC-4C41-BF5B-938F6B8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011E-3039-40CC-A329-7D2DA9A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C292-BF33-468D-B678-600BA90E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9130-CE21-4996-B0E7-DC427D8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39ED-C1A9-462E-B5A5-ADAB7C8C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109-8099-4F82-8F36-15FA204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BBC-FE42-441E-9034-9E5E2D8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66-E5BD-4EA5-991C-B3A903D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C83-8EE9-481B-95C5-2AE8764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628-2AE1-4A7C-9107-C31B793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3AA-EBC0-4666-AF4C-820103B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BFE-B67B-4B66-9884-742CC8C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1E7-D956-4267-8C23-21BF2C0A9F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7AB-0E6D-40BB-B9E1-85702C23AB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914400" y="685800"/>
            <a:ext cx="769608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древние люди представляли себе Вселенну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ЈС‚СЂРµРЅРЅСЏСЏ РїРѕР±СѓРґРєР° - РџС‚РёС‡РєРё _).mp3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Астрономические представления в Индии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Плоская Земля с громадной горой в центре стоит на трех слонах. Слоны -  на огромной черепахе, плавающей в океане. Её поддерживает зм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В первом веке в Индии были созданы работы, в которых уже говорилось, что Земля шарообразна. Она- центр, и вокруг нее по кругу вращаются небесные тел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7"/>
          <p:cNvPicPr/>
          <p:nvPr/>
        </p:nvPicPr>
        <p:blipFill>
          <a:blip r:embed="rId1"/>
          <a:stretch/>
        </p:blipFill>
        <p:spPr>
          <a:xfrm>
            <a:off x="304920" y="2057400"/>
            <a:ext cx="40370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Обсерватории древних Майя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4960" y="2666880"/>
            <a:ext cx="5105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В Центральной Америке к концу первого века велись  наблюдения небесных светил невооруженным глазом с помощью угломерных прибор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первый самодельны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лескоп появился только в начале 17 ве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8"/>
          <p:cNvPicPr/>
          <p:nvPr/>
        </p:nvPicPr>
        <p:blipFill>
          <a:blip r:embed="rId1"/>
          <a:stretch/>
        </p:blipFill>
        <p:spPr>
          <a:xfrm>
            <a:off x="533520" y="1371600"/>
            <a:ext cx="3101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Небесный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глобус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05160" y="2026800"/>
            <a:ext cx="38098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Расположение созвездий и звезд на небе было удобно изображать на его уменьшенной модели — небесном глобусе. Первые небесные глобусы в Европе начали изготовлять в середине 16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 в Германии. Однако на Востоке такие глобусы появились значительно раньше — во второй половине  13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b44882c649c7t"/>
          <p:cNvPicPr/>
          <p:nvPr/>
        </p:nvPicPr>
        <p:blipFill>
          <a:blip r:embed="rId1"/>
          <a:stretch/>
        </p:blipFill>
        <p:spPr>
          <a:xfrm>
            <a:off x="0" y="2027160"/>
            <a:ext cx="48387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иколай Коперник</a:t>
            </a:r>
            <a:br>
              <a:rPr sz="40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( 1473 – 1543 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177336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51280" y="2060640"/>
            <a:ext cx="50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казал, что планета Земля занимает третье место от Солнца  и движется в пространстве вокруг своей о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перник  доказал, что известные небесные явления связаны с движением Земл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kopernik"/>
          <p:cNvPicPr/>
          <p:nvPr/>
        </p:nvPicPr>
        <p:blipFill>
          <a:blip r:embed="rId1"/>
          <a:stretch/>
        </p:blipFill>
        <p:spPr>
          <a:xfrm>
            <a:off x="566640" y="2000160"/>
            <a:ext cx="2786040" cy="4449960"/>
          </a:xfrm>
          <a:prstGeom prst="rect">
            <a:avLst/>
          </a:prstGeom>
          <a:ln w="0">
            <a:noFill/>
          </a:ln>
        </p:spPr>
      </p:pic>
      <p:grpSp>
        <p:nvGrpSpPr>
          <p:cNvPr id="149" name="Стрелка влево 8"/>
          <p:cNvGrpSpPr/>
          <p:nvPr/>
        </p:nvGrpSpPr>
        <p:grpSpPr>
          <a:xfrm>
            <a:off x="8418600" y="6419880"/>
            <a:ext cx="738000" cy="450720"/>
            <a:chOff x="8418600" y="6419880"/>
            <a:chExt cx="738000" cy="450720"/>
          </a:xfrm>
        </p:grpSpPr>
        <p:pic>
          <p:nvPicPr>
            <p:cNvPr id="150" name="Стрелка влево 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418600" y="6419880"/>
              <a:ext cx="738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7"/>
            <p:cNvSpPr/>
            <p:nvPr/>
          </p:nvSpPr>
          <p:spPr>
            <a:xfrm>
              <a:off x="8585280" y="6535800"/>
              <a:ext cx="558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перь все представления о небе и Земле основываются на точных расчётах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Люди считали, что звезды – это серебряные гвоздики, вбитые в небесный свод, или дырочки, через которые на землю глядят б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древних египтя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Picture 5" descr="50918246_Grobnica_Pashedu_pravaya_polovina"/>
          <p:cNvPicPr/>
          <p:nvPr/>
        </p:nvPicPr>
        <p:blipFill>
          <a:blip r:embed="rId1"/>
          <a:stretch/>
        </p:blipFill>
        <p:spPr>
          <a:xfrm>
            <a:off x="0" y="167652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505480" y="1676520"/>
            <a:ext cx="350532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Земля казалась им плоской, а небо – громадным куполом, раскинувшимся над Зем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В Древнем Египте верили в бога Солнца Ра, который объезжает небо на своей колесниц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 картине показано, как небесный свод опирается на четыре высокие горы, расположенные где-то на краю света. Египет - в центре Земли. Небесные светила как бы подвешены на с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Этот рисунок находится на стене внутри одной из египетских пирами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народов Междуречь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5" descr="1318935971_1296633645_shumer-01"/>
          <p:cNvPicPr/>
          <p:nvPr/>
        </p:nvPicPr>
        <p:blipFill>
          <a:blip r:embed="rId1"/>
          <a:stretch/>
        </p:blipFill>
        <p:spPr>
          <a:xfrm>
            <a:off x="4572000" y="160020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Очень похожи были и представления халдеев – народов, населявших Междуречье. По их мнению Вселенная была замкнутым миром, в центре которого находилась Земля, лежащая на воде и похожая на го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Небо халдеи считали большим куполом, возвышающимся над миром. Он сделан из твердого металла верховным богом. Днем небосвод отражал солнечный свет, а ночью служил темно-синим фоном для игры богов – планет, Луны и звез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3"/>
          <p:cNvPicPr/>
          <p:nvPr/>
        </p:nvPicPr>
        <p:blipFill>
          <a:blip r:embed="rId1"/>
          <a:stretch/>
        </p:blipFill>
        <p:spPr>
          <a:xfrm>
            <a:off x="2133720" y="3200400"/>
            <a:ext cx="5105160" cy="341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Вселенная по представлению древних грек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5" descr="athens2"/>
          <p:cNvPicPr/>
          <p:nvPr/>
        </p:nvPicPr>
        <p:blipFill>
          <a:blip r:embed="rId1"/>
          <a:stretch/>
        </p:blipFill>
        <p:spPr>
          <a:xfrm>
            <a:off x="1486080" y="1295280"/>
            <a:ext cx="6324480" cy="32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80880" y="48006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Как и многие другие народы, они представляли  себе Землю плоской. Такого мнения, например, придерживался и древнегреческий философ Фалес Милет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23920" y="304560"/>
            <a:ext cx="4038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Землю он считал плоским диском, окруженным недоступным человеку морем, из которого каждый вечер выходят и заходят звезды. Из восточного моря в золотой колеснице поднимался каждое утро бог Солнца Гелиос и совершал свой путь по неб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Грек Самосский утверждал, что Земля, вместе с другими планетами вращается вокруг солнца. Ему не верили и изгнали с родины. А он был прав! Лишь через 1700 лет это было доказа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4"/>
          <p:cNvPicPr/>
          <p:nvPr/>
        </p:nvPicPr>
        <p:blipFill>
          <a:blip r:embed="rId1"/>
          <a:stretch/>
        </p:blipFill>
        <p:spPr>
          <a:xfrm>
            <a:off x="304920" y="1905120"/>
            <a:ext cx="403704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одель Вселенной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Аристарха Самосског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267080" y="3124080"/>
            <a:ext cx="9144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809880" y="2666880"/>
            <a:ext cx="190512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581280" y="2590920"/>
            <a:ext cx="236232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352680" y="2362320"/>
            <a:ext cx="2895840" cy="2514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124080" y="2133720"/>
            <a:ext cx="3353040" cy="3047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819520" y="1828800"/>
            <a:ext cx="388620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2590920" y="1600200"/>
            <a:ext cx="4343400" cy="4191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114800" y="2971800"/>
            <a:ext cx="121932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3962520" y="2819520"/>
            <a:ext cx="16002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791320" y="1676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24480" y="32004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5334120" y="403848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334120" y="32004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3-12-09T14:23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