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18F-96F0-486A-8E20-586D8A99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FE3-5B42-4E03-9A48-D9295D60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AF8-53FE-41AA-871D-D5B0F38D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899-E81E-449C-832E-968D1553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4083-7B4E-4975-BE6B-55C5ABC6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A006-4D6D-4BA8-A92E-E3A4E2A7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819A-55E6-4ADE-8B0A-C60E715E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060B-4670-4FD6-8635-63F9B3F8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4D17-D1C9-44F8-A74F-BE018B70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BC14-4933-46FB-B710-5BD2BE47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35CF-1F6C-46AC-85BD-63BFE1C1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56AB-9876-4D53-BE39-B5464C65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D00E-1730-4C24-ABDC-39B0AEA6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7A88-37E4-42ED-9F64-505D3230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5EB7-288C-489F-962A-6CD97917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2E04-89DD-42CE-AE63-A4DBFB41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0140-66FF-411F-BFC3-80DB2B72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29C4-C9B0-4157-93DF-A65454AF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817-46D2-4F7F-8A69-02D6598F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3AD-14AB-454E-A1BB-5D61CB37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FC2-C4CF-480B-91DA-C4FD25C2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3A4E-BA8B-48AA-BD06-4B633F62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794-A159-4D8C-B0F9-8FDACDC0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01F-D0C7-4099-B319-2154C545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A676-DA7A-4FA5-B0A9-F36728478A6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E513-5D6B-49D1-AA45-4CD620AA3FD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2"/>
          <p:cNvSpPr/>
          <p:nvPr/>
        </p:nvSpPr>
        <p:spPr>
          <a:xfrm>
            <a:off x="914400" y="685800"/>
            <a:ext cx="7696080" cy="58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Как древние люди представляли себе Вселенную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ЈС‚СЂРµРЅРЅСЏСЏ РїРѕР±СѓРґРєР° - РџС‚РёС‡РєРё _).mp3" descr=""/>
          <p:cNvPicPr/>
          <p:nvPr/>
        </p:nvPicPr>
        <p:blipFill>
          <a:blip r:embed="rId2"/>
          <a:stretch/>
        </p:blipFill>
        <p:spPr>
          <a:xfrm>
            <a:off x="432756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6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6374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Астрономические представления в Индии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0" y="144792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  <a:ea typeface="Times New Roman"/>
              </a:rPr>
              <a:t>Плоская Земля с громадной горой в центре стоит на трех слонах. Слоны -  на огромной черепахе, плавающей в океане. Её поддерживает зме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  <a:ea typeface="Times New Roman"/>
              </a:rPr>
              <a:t>В первом веке в Индии были созданы работы, в которых уже говорилось, что Земля шарообразна. Она- центр, и вокруг нее по кругу вращаются небесные тела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7"/>
          <p:cNvPicPr/>
          <p:nvPr/>
        </p:nvPicPr>
        <p:blipFill>
          <a:blip r:embed="rId1"/>
          <a:stretch/>
        </p:blipFill>
        <p:spPr>
          <a:xfrm>
            <a:off x="304920" y="2057400"/>
            <a:ext cx="403704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  <a:ea typeface="Times New Roman"/>
              </a:rPr>
              <a:t>Обсерватории древних Майя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04960" y="2666880"/>
            <a:ext cx="51051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  <a:ea typeface="Times New Roman"/>
              </a:rPr>
              <a:t>В Центральной Америке к концу первого века велись  наблюдения небесных светил невооруженным глазом с помощью угломерных приборов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первый самодельный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елескоп появился только в начале 17 ве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8"/>
          <p:cNvPicPr/>
          <p:nvPr/>
        </p:nvPicPr>
        <p:blipFill>
          <a:blip r:embed="rId1"/>
          <a:stretch/>
        </p:blipFill>
        <p:spPr>
          <a:xfrm>
            <a:off x="533520" y="1371600"/>
            <a:ext cx="31017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ccff"/>
                </a:solidFill>
                <a:latin typeface="Arial"/>
                <a:ea typeface="Times New Roman"/>
              </a:rPr>
              <a:t>Небесный</a:t>
            </a:r>
            <a:r>
              <a:rPr b="0" lang="ru-RU" sz="3600" spc="-1" strike="noStrike">
                <a:solidFill>
                  <a:srgbClr val="99ccff"/>
                </a:solidFill>
                <a:latin typeface="Arial"/>
                <a:ea typeface="Arial"/>
              </a:rPr>
              <a:t>   </a:t>
            </a:r>
            <a:r>
              <a:rPr b="0" lang="ru-RU" sz="3600" spc="-1" strike="noStrike">
                <a:solidFill>
                  <a:srgbClr val="99ccff"/>
                </a:solidFill>
                <a:latin typeface="Arial"/>
                <a:ea typeface="Times New Roman"/>
              </a:rPr>
              <a:t>глобус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05160" y="2026800"/>
            <a:ext cx="380988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ff"/>
                </a:solidFill>
                <a:latin typeface="Arial"/>
                <a:ea typeface="Times New Roman"/>
              </a:rPr>
              <a:t>Расположение созвездий и звезд на небе было удобно изображать на его уменьшенной модели — небесном глобусе. Первые небесные глобусы в Европе начали изготовлять в середине 16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99ccff"/>
                </a:solidFill>
                <a:latin typeface="Arial"/>
                <a:ea typeface="Times New Roman"/>
              </a:rPr>
              <a:t>века в Германии. Однако на Востоке такие глобусы появились значительно раньше — во второй половине  13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99ccff"/>
                </a:solidFill>
                <a:latin typeface="Arial"/>
                <a:ea typeface="Times New Roman"/>
              </a:rPr>
              <a:t>век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6" descr="b44882c649c7t"/>
          <p:cNvPicPr/>
          <p:nvPr/>
        </p:nvPicPr>
        <p:blipFill>
          <a:blip r:embed="rId1"/>
          <a:stretch/>
        </p:blipFill>
        <p:spPr>
          <a:xfrm>
            <a:off x="0" y="2027160"/>
            <a:ext cx="483876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Николай Коперник</a:t>
            </a:r>
            <a:br>
              <a:rPr sz="40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( 1473 – 1543 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08360" y="177336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851280" y="2060640"/>
            <a:ext cx="500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указал, что планета Земля занимает третье место от Солнца  и движется в пространстве вокруг своей ос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перник  доказал, что известные небесные явления связаны с движением Земли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kopernik"/>
          <p:cNvPicPr/>
          <p:nvPr/>
        </p:nvPicPr>
        <p:blipFill>
          <a:blip r:embed="rId1"/>
          <a:stretch/>
        </p:blipFill>
        <p:spPr>
          <a:xfrm>
            <a:off x="566640" y="2000160"/>
            <a:ext cx="2786040" cy="4449960"/>
          </a:xfrm>
          <a:prstGeom prst="rect">
            <a:avLst/>
          </a:prstGeom>
          <a:ln w="0">
            <a:noFill/>
          </a:ln>
        </p:spPr>
      </p:pic>
      <p:grpSp>
        <p:nvGrpSpPr>
          <p:cNvPr id="149" name="Стрелка влево 8"/>
          <p:cNvGrpSpPr/>
          <p:nvPr/>
        </p:nvGrpSpPr>
        <p:grpSpPr>
          <a:xfrm>
            <a:off x="8418600" y="6419880"/>
            <a:ext cx="738000" cy="450720"/>
            <a:chOff x="8418600" y="6419880"/>
            <a:chExt cx="738000" cy="450720"/>
          </a:xfrm>
        </p:grpSpPr>
        <p:pic>
          <p:nvPicPr>
            <p:cNvPr id="150" name="Стрелка влево 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418600" y="6419880"/>
              <a:ext cx="73800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7"/>
            <p:cNvSpPr/>
            <p:nvPr/>
          </p:nvSpPr>
          <p:spPr>
            <a:xfrm>
              <a:off x="8585280" y="6535800"/>
              <a:ext cx="5587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еперь все представления о небе и Земле основываются на точных расчётах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Люди считали, что звезды – это серебряные гвоздики, вбитые в небесный свод, или дырочки, через которые на землю глядят б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Arial"/>
                <a:ea typeface="Times New Roman"/>
              </a:rPr>
              <a:t>Представления о мире древних египтян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4" name="Picture 5" descr="50918246_Grobnica_Pashedu_pravaya_polovina"/>
          <p:cNvPicPr/>
          <p:nvPr/>
        </p:nvPicPr>
        <p:blipFill>
          <a:blip r:embed="rId1"/>
          <a:stretch/>
        </p:blipFill>
        <p:spPr>
          <a:xfrm>
            <a:off x="0" y="1676520"/>
            <a:ext cx="5105520" cy="51814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5505480" y="1676520"/>
            <a:ext cx="3505320" cy="41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Земля казалась им плоской, а небо – громадным куполом, раскинувшимся над Зем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В Древнем Египте верили в бога Солнца Ра, который объезжает небо на своей колесниц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34286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На картине показано, как небесный свод опирается на четыре высокие горы, расположенные где-то на краю света. Египет - в центре Земли. Небесные светила как бы подвешены на св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Этот рисунок находится на стене внутри одной из египетских пирами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2"/>
          <p:cNvPicPr/>
          <p:nvPr/>
        </p:nvPicPr>
        <p:blipFill>
          <a:blip r:embed="rId1"/>
          <a:stretch/>
        </p:blipFill>
        <p:spPr>
          <a:xfrm>
            <a:off x="914400" y="0"/>
            <a:ext cx="708660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ff"/>
                </a:solidFill>
                <a:latin typeface="Arial"/>
                <a:ea typeface="Times New Roman"/>
              </a:rPr>
              <a:t>Представления о мире народов Междуречь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5" descr="1318935971_1296633645_shumer-01"/>
          <p:cNvPicPr/>
          <p:nvPr/>
        </p:nvPicPr>
        <p:blipFill>
          <a:blip r:embed="rId1"/>
          <a:stretch/>
        </p:blipFill>
        <p:spPr>
          <a:xfrm>
            <a:off x="4572000" y="1600200"/>
            <a:ext cx="4267080" cy="4343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1752480"/>
            <a:ext cx="4343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  <a:ea typeface="Times New Roman"/>
              </a:rPr>
              <a:t>Очень похожи были и представления халдеев – народов, населявших Междуречье. По их мнению Вселенная была замкнутым миром, в центре которого находилась Земля, лежащая на воде и похожая на гор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534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99ff"/>
                </a:solidFill>
                <a:latin typeface="Arial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3399ff"/>
                </a:solidFill>
                <a:latin typeface="Arial"/>
                <a:ea typeface="Times New Roman"/>
              </a:rPr>
              <a:t>Небо халдеи считали большим куполом, возвышающимся над миром. Он сделан из твердого металла верховным богом. Днем небосвод отражал солнечный свет, а ночью служил темно-синим фоном для игры богов – планет, Луны и звезд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3"/>
          <p:cNvPicPr/>
          <p:nvPr/>
        </p:nvPicPr>
        <p:blipFill>
          <a:blip r:embed="rId1"/>
          <a:stretch/>
        </p:blipFill>
        <p:spPr>
          <a:xfrm>
            <a:off x="2133720" y="3200400"/>
            <a:ext cx="5105160" cy="3419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ff"/>
                </a:solidFill>
                <a:latin typeface="Arial"/>
                <a:ea typeface="Times New Roman"/>
              </a:rPr>
              <a:t>Вселенная по представлению древних греков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4" name="Picture 5" descr="athens2"/>
          <p:cNvPicPr/>
          <p:nvPr/>
        </p:nvPicPr>
        <p:blipFill>
          <a:blip r:embed="rId1"/>
          <a:stretch/>
        </p:blipFill>
        <p:spPr>
          <a:xfrm>
            <a:off x="1486080" y="1295280"/>
            <a:ext cx="6324480" cy="3240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380880" y="4800600"/>
            <a:ext cx="853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  <a:ea typeface="Times New Roman"/>
              </a:rPr>
              <a:t>Как и многие другие народы, они представляли  себе Землю плоской. Такого мнения, например, придерживался и древнегреческий философ Фалес Милетск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723920" y="304560"/>
            <a:ext cx="40388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99ff"/>
                </a:solidFill>
                <a:latin typeface="Arial"/>
                <a:ea typeface="Times New Roman"/>
              </a:rPr>
              <a:t>Землю он считал плоским диском, окруженным недоступным человеку морем, из которого каждый вечер выходят и заходят звезды. Из восточного моря в золотой колеснице поднимался каждое утро бог Солнца Гелиос и совершал свой путь по небу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99ff"/>
                </a:solidFill>
                <a:latin typeface="Arial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3399ff"/>
                </a:solidFill>
                <a:latin typeface="Arial"/>
                <a:ea typeface="Times New Roman"/>
              </a:rPr>
              <a:t>Грек Самосский утверждал, что Земля, вместе с другими планетами вращается вокруг солнца. Ему не верили и изгнали с родины. А он был прав! Лишь через 1700 лет это было доказано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4"/>
          <p:cNvPicPr/>
          <p:nvPr/>
        </p:nvPicPr>
        <p:blipFill>
          <a:blip r:embed="rId1"/>
          <a:stretch/>
        </p:blipFill>
        <p:spPr>
          <a:xfrm>
            <a:off x="304920" y="1905120"/>
            <a:ext cx="4037040" cy="3043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Модель Вселенной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Аристарха Самосского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4267080" y="3124080"/>
            <a:ext cx="914400" cy="9144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н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3809880" y="2666880"/>
            <a:ext cx="1905120" cy="1828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3581280" y="2590920"/>
            <a:ext cx="2362320" cy="2057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3352680" y="2362320"/>
            <a:ext cx="2895840" cy="2514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3124080" y="2133720"/>
            <a:ext cx="3353040" cy="3047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2819520" y="1828800"/>
            <a:ext cx="3886200" cy="3733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2590920" y="1600200"/>
            <a:ext cx="4343400" cy="4191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4114800" y="2971800"/>
            <a:ext cx="1219320" cy="1219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3962520" y="2819520"/>
            <a:ext cx="1600200" cy="1523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5791320" y="1676520"/>
            <a:ext cx="30456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2743200" y="38098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6324480" y="32004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16"/>
          <p:cNvSpPr/>
          <p:nvPr/>
        </p:nvSpPr>
        <p:spPr>
          <a:xfrm>
            <a:off x="3505320" y="2971800"/>
            <a:ext cx="30456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17"/>
          <p:cNvSpPr/>
          <p:nvPr/>
        </p:nvSpPr>
        <p:spPr>
          <a:xfrm>
            <a:off x="5334120" y="4038480"/>
            <a:ext cx="30456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18"/>
          <p:cNvSpPr/>
          <p:nvPr/>
        </p:nvSpPr>
        <p:spPr>
          <a:xfrm>
            <a:off x="5334120" y="3200400"/>
            <a:ext cx="30456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9"/>
          <p:cNvSpPr/>
          <p:nvPr/>
        </p:nvSpPr>
        <p:spPr>
          <a:xfrm>
            <a:off x="4648320" y="2819520"/>
            <a:ext cx="30456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</cp:lastModifiedBy>
  <dcterms:modified xsi:type="dcterms:W3CDTF">2013-12-09T14:23:4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