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2DE-AE2A-4724-8363-30125F63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C68-6760-48DB-A9CC-3321E62E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F5E-E26E-43A3-A7EF-EA4CBE35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DB4-BCBB-411B-883F-5189C200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FDE7-E09C-4812-BB03-87F67F26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31C3-DA13-469D-A14C-F7E8EAFB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E724-AD5A-4CA5-B8B5-1A2DC5AA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88F0-C2D8-4DB2-A156-09CE0CA4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553B-282A-45C1-A4DE-1F7755F1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F389-447A-4A26-B3CE-CF745B16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3FAF-7105-420C-9C7A-78E28E6F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8D1-720A-4D49-A7FB-D49F700E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CD4B-134F-4642-859F-3C897B79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6592-C986-47B1-88D3-675DDDF7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019E-30E7-4219-B0CB-265D3FF5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3F17-9C98-4AB2-9DC2-BBF9E8CD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68AA-5B56-443E-8228-5C921B56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1322-25E4-49FA-92FF-383A4652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76A-D6E8-479E-9A3F-72C005F6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287-5281-4BC7-9ED6-2AD1B7F0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DDB-7689-436D-BB77-7763F740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CA8-37B5-4547-A268-4BE1D4FD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D24C-A267-4F52-86DE-ABE34C6F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5CE7-6F4D-4540-9777-17B636CC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9ec8c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9ec8c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4957-757C-4F55-961E-8EB00B20F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9ec8c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849cbb"/>
                </a:gs>
                <a:gs pos="100000">
                  <a:srgbClr val="9ec8c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90db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B803-480A-4379-A621-68350CB49A77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go.mail.ru/frame.html?imgurl=http://lj.rossia.org/userpic/173402/19047&amp;pageurl=http://gogol-sc769.narod.ru/15.html&amp;id=65349244&amp;iid=0&amp;imgwidth=235&amp;imgheight=300&amp;imgsize=14129&amp;images_links=b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go.mail.ru/frame.html?imgurl=http://www.kniga.ru/upload/image/1000557478.jpg&amp;pageurl=http://www.mactub.ru/main/gogol.html&amp;id=117629744&amp;iid=0&amp;imgwidth=200&amp;imgheight=313&amp;imgsize=18776&amp;images_links=b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museum.ru/img.asp?42728&amp;pageurl=http://www.rusk.ru/st.php?idar=105663&amp;id=106598222&amp;iid=6&amp;imgwidth=282&amp;imgheight=350&amp;imgsize=152162&amp;images_links=b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masurenkov.ru/dat/localized/rus/images/bubnov_aleksandr_pavlovich__taras_bulba_thumb.jpg&amp;pageurl=http://maslovka.org/modules.php?name=Buy&amp;i1=37&amp;i2=225&amp;i3=434&amp;i4=626&amp;i5=827&amp;r2=225&amp;id=7144637&amp;iid=4&amp;imgwidth=255&amp;imgheight=160&amp;imgsize=606656&amp;images_links=b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go.mail.ru/frame.html?imgurl=http://nikolay.gogol.ru/pages_pics/_128x128/56/6356.jpg&amp;pageurl=http://fratria.ru/blog/kalis/index.php?s=6ebdf14fca808a3055dc7ab1a34ecd1c&amp;&amp;st=10&amp;id=11200644&amp;iid=3&amp;imgwidth=435&amp;imgheight=301&amp;imgsize=64686&amp;images_links=b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tstu.ru/win/kultur/kul_img/mus_img/ger_img/pr_img/34.jpg&amp;pageurl=http://www.tstu.ru/win/kultur/museum/gerasim/pr/34.htm&amp;id=29296180&amp;iid=7&amp;imgwidth=455&amp;imgheight=330&amp;imgsize=106378&amp;images_links=b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gorod.cn.ua/image/users/2763/blog_00000087.jpeg&amp;pageurl=http://funeral-spb.narod.ru/necropols/smolenskoep/tombs/shevchenko/shevchenko.html&amp;id=65045453&amp;iid=3&amp;imgwidth=200&amp;imgheight=266&amp;imgsize=26944&amp;images_links=b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go.mail.ru/frame.html?imgurl=http://www.day.kiev.ua/img/27855/41-7-4.jpg&amp;pageurl=http://www.day.kiev.ua/28690/&amp;id=49227587&amp;iid=7&amp;imgwidth=250&amp;imgheight=187&amp;imgsize=41309&amp;images_links=b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playcast.ru/uploads/2009/04/10/926566.jpg&amp;pageurl=http://www.playcast.ru/playcasts/view.php?card=836868&amp;code=1bcfc4c27dd574d18745708896fc777e9df9ca6a&amp;id=53654261&amp;iid=3&amp;imgwidth=906&amp;imgheight=927&amp;imgsize=662256&amp;images_links=b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6" descr=""/>
          <p:cNvPicPr/>
          <p:nvPr/>
        </p:nvPicPr>
        <p:blipFill>
          <a:blip r:embed="rId1"/>
          <a:stretch/>
        </p:blipFill>
        <p:spPr>
          <a:xfrm>
            <a:off x="1762200" y="596880"/>
            <a:ext cx="646092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7" descr=""/>
          <p:cNvPicPr/>
          <p:nvPr/>
        </p:nvPicPr>
        <p:blipFill>
          <a:blip r:embed="rId2"/>
          <a:stretch/>
        </p:blipFill>
        <p:spPr>
          <a:xfrm>
            <a:off x="1731960" y="2494080"/>
            <a:ext cx="6680160" cy="23223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3" descr="http://im0-tub.mail.ru/i?id=65349244&amp;tov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24600" y="420840"/>
            <a:ext cx="2011320" cy="22986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http://im0-tub.mail.ru/i?id=117629744&amp;tov=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309760" y="4243320"/>
            <a:ext cx="2090880" cy="251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28840" y="2142720"/>
            <a:ext cx="7500960" cy="4095720"/>
          </a:xfrm>
          <a:prstGeom prst="rect">
            <a:avLst/>
          </a:prstGeom>
          <a:gradFill rotWithShape="0">
            <a:gsLst>
              <a:gs pos="0">
                <a:srgbClr val="b4bacb"/>
              </a:gs>
              <a:gs pos="100000">
                <a:srgbClr val="ebedf1"/>
              </a:gs>
            </a:gsLst>
            <a:lin ang="16200000"/>
          </a:gradFill>
          <a:ln w="9360">
            <a:solidFill>
              <a:srgbClr val="0029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ff"/>
                </a:solidFill>
                <a:latin typeface="Times New Roman"/>
              </a:rPr>
              <a:t>Цели и задачи: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звитие внимания, мышления, памяти учащихся, коммуникативных и креативных способностей; обучение обобщению полученных знаний; повторение сведений по теории литературы; расширение словарного запаса учащихся; воспитание уважения к литературному наследию, уважения к чужому мнению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ff"/>
                </a:solidFill>
                <a:latin typeface="Times New Roman"/>
              </a:rPr>
              <a:t>Тип урока: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онтроль и проверка знаний учащихся по теме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ff"/>
                </a:solidFill>
                <a:latin typeface="Times New Roman"/>
              </a:rPr>
              <a:t>Форма урока: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рок – тест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Заголовок 6" descr=""/>
          <p:cNvPicPr/>
          <p:nvPr/>
        </p:nvPicPr>
        <p:blipFill>
          <a:blip r:embed="rId1"/>
          <a:stretch/>
        </p:blipFill>
        <p:spPr>
          <a:xfrm>
            <a:off x="1371600" y="324000"/>
            <a:ext cx="761364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71760" y="571680"/>
            <a:ext cx="7215120" cy="1428480"/>
          </a:xfrm>
          <a:prstGeom prst="rect">
            <a:avLst/>
          </a:prstGeom>
          <a:gradFill rotWithShape="0">
            <a:gsLst>
              <a:gs pos="0">
                <a:srgbClr val="b4bacb"/>
              </a:gs>
              <a:gs pos="100000">
                <a:srgbClr val="ebedf1"/>
              </a:gs>
            </a:gsLst>
            <a:lin ang="16200000"/>
          </a:gradFill>
          <a:ln w="9360">
            <a:solidFill>
              <a:srgbClr val="0029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Задания, которые предлагаются, помогут выяснить уровень знаний учащихся.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Это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тесты, предполагающие наличие одного правильного ответа, есть среди них и задания проблемного и творческого характера.</a:t>
            </a:r>
            <a:endParaRPr b="0" lang="en-US" sz="18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71920" y="2714760"/>
            <a:ext cx="5214960" cy="3714480"/>
          </a:xfrm>
          <a:prstGeom prst="rect">
            <a:avLst/>
          </a:prstGeom>
          <a:gradFill rotWithShape="0">
            <a:gsLst>
              <a:gs pos="0">
                <a:srgbClr val="b4bacb"/>
              </a:gs>
              <a:gs pos="100000">
                <a:srgbClr val="ebedf1"/>
              </a:gs>
            </a:gsLst>
            <a:lin ang="16200000"/>
          </a:gradFill>
          <a:ln w="9360">
            <a:solidFill>
              <a:srgbClr val="0029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1" i="1" lang="ru-RU" sz="2400" spc="-1" strike="noStrike">
                <a:solidFill>
                  <a:srgbClr val="9966ff"/>
                </a:solidFill>
                <a:latin typeface="Times New Roman"/>
              </a:rPr>
              <a:t>С какой целью Н.В.Гоголь вводит повесть «Тарас Бульба» в сборник «Миргород»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Чтобы противопоставить запорожскую вольницу ничтожному существованию миргородских жителей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Все произведения сборника объединены одной темой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Писатель включил в сборник все, что было им к тому времени написано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Рисунок 3" descr="http://im6-tub.mail.ru/i?id=106598222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7960" y="2981160"/>
            <a:ext cx="196380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499760" y="571320"/>
            <a:ext cx="4429080" cy="5219640"/>
          </a:xfrm>
          <a:prstGeom prst="rect">
            <a:avLst/>
          </a:prstGeom>
          <a:gradFill rotWithShape="0">
            <a:gsLst>
              <a:gs pos="0">
                <a:srgbClr val="b4bacb"/>
              </a:gs>
              <a:gs pos="100000">
                <a:srgbClr val="ebedf1"/>
              </a:gs>
            </a:gsLst>
            <a:lin ang="16200000"/>
          </a:gradFill>
          <a:ln w="9360">
            <a:solidFill>
              <a:srgbClr val="0029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С какой целью Н.В.Гоголь вводит в начало повести описание Запорожской Сечи?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Для создания в повести национального колорита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Чтобы показать истоки героизма Тараса и Остапа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Чтобы посмеяться над запорожцами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Основное занятие в Запоржской Сечи в мирное время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Торговля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Землепашество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Гульба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) Дипломатическая деятельность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Рисунок 4" descr="http://im4-tub.mail.ru/i?id=7144637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78400" y="847800"/>
            <a:ext cx="2657520" cy="1730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http://im3-tub.mail.ru/i?id=11200644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51480" y="4065480"/>
            <a:ext cx="2584440" cy="1798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500280" y="357120"/>
            <a:ext cx="5429520" cy="5786640"/>
          </a:xfrm>
          <a:prstGeom prst="rect">
            <a:avLst/>
          </a:prstGeom>
          <a:gradFill rotWithShape="0">
            <a:gsLst>
              <a:gs pos="0">
                <a:srgbClr val="b4bacb"/>
              </a:gs>
              <a:gs pos="100000">
                <a:srgbClr val="ebedf1"/>
              </a:gs>
            </a:gsLst>
            <a:lin ang="16200000"/>
          </a:gradFill>
          <a:ln w="9360">
            <a:solidFill>
              <a:srgbClr val="0029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ff"/>
                </a:solidFill>
                <a:latin typeface="Arial"/>
              </a:rPr>
              <a:t>С помощью каких средств Н.В.Гоголь добивается создания героического пафоса в повести?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А) Система образов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Б) Авторские лирические отступления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) Прямое обращение автора к читателю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Г) Введение фольклорных образов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ff"/>
                </a:solidFill>
                <a:latin typeface="Arial"/>
              </a:rPr>
              <a:t>С какой целью Н.В.Гоголь при описании боя запорожцев с врагами использует приемы народного творчества?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А) Чтобы подчеркнуть физическую силу казаков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Б) Чтобы провести параллель образов казаков с богатырями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) Чтобы показать любовь народа к казакам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Рисунок 3" descr="http://im7-tub.mail.ru/i?id=29296180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1857240"/>
            <a:ext cx="200016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571400" y="356760"/>
            <a:ext cx="5273640" cy="5429160"/>
          </a:xfrm>
          <a:prstGeom prst="rect">
            <a:avLst/>
          </a:prstGeom>
          <a:gradFill rotWithShape="0">
            <a:gsLst>
              <a:gs pos="0">
                <a:srgbClr val="b4bacb"/>
              </a:gs>
              <a:gs pos="100000">
                <a:srgbClr val="ebedf1"/>
              </a:gs>
            </a:gsLst>
            <a:lin ang="16200000"/>
          </a:gradFill>
          <a:ln w="9360">
            <a:solidFill>
              <a:srgbClr val="0029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Какие задачи ставил перед собой Тарас Бульба в борьбе с поляками?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Расширение границ русского государства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Борьба за национальную независимость Украины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Завоевание славы среди казаков.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С какой целью Н.В.Гоголь вводит в повествование рассказ о жизни Остапа и Андрия в бурсе? Чтобы…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Показать истоки предательства Андрия и героизм Остапа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Дать более глубокое представление о братьях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Рассказать об украинской бурсе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Рисунок 3" descr="http://im3-tub.mail.ru/i?id=65045453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3840" y="35712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http://im7-tub.mail.ru/i?id=49227587&amp;tov=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43840" y="3571920"/>
            <a:ext cx="1714320" cy="2071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714480" y="499680"/>
            <a:ext cx="5143320" cy="6000840"/>
          </a:xfrm>
          <a:prstGeom prst="rect">
            <a:avLst/>
          </a:prstGeom>
          <a:gradFill rotWithShape="0">
            <a:gsLst>
              <a:gs pos="0">
                <a:srgbClr val="b4bacb"/>
              </a:gs>
              <a:gs pos="100000">
                <a:srgbClr val="ebedf1"/>
              </a:gs>
            </a:gsLst>
            <a:lin ang="16200000"/>
          </a:gradFill>
          <a:ln w="9360">
            <a:solidFill>
              <a:srgbClr val="0029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Какие приемы использует Н.В.Гоголь для создания образов братьев?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Гиперболу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Параллелизм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Метафору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) Антитезу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Почему Андрий оказался способен на предательство?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В его характере преобладали пылкость, порыв, необузданность желаний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Его полностью поглотило чувство любви к полячке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Андрию не нравилось в Запорожской Сечи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) Андрий на самом деле не любил отца и брата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Рисунок 3" descr="http://im3-tub.mail.ru/i?id=53654261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0120" y="857160"/>
            <a:ext cx="1928880" cy="18576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http://im6-tub.mail.ru/i?id=86390636&amp;tov=6"/>
          <p:cNvPicPr/>
          <p:nvPr/>
        </p:nvPicPr>
        <p:blipFill>
          <a:blip r:embed="rId3"/>
          <a:stretch/>
        </p:blipFill>
        <p:spPr>
          <a:xfrm>
            <a:off x="1571760" y="3643200"/>
            <a:ext cx="185724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c8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370160" y="214200"/>
            <a:ext cx="5773680" cy="6429600"/>
          </a:xfrm>
          <a:prstGeom prst="rect">
            <a:avLst/>
          </a:prstGeom>
          <a:gradFill rotWithShape="0">
            <a:gsLst>
              <a:gs pos="0">
                <a:srgbClr val="b4bacb"/>
              </a:gs>
              <a:gs pos="100000">
                <a:srgbClr val="ebedf1"/>
              </a:gs>
            </a:gsLst>
            <a:lin ang="16200000"/>
          </a:gradFill>
          <a:ln w="9360">
            <a:solidFill>
              <a:srgbClr val="0029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Какой факт дает основания считать, что Андрий даже перед смертью не раскаивается в предательстве?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Он не просит пощады у отца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Он умирает с именем прекрасной полячки на устах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Он даже не вспоминает об Остапе.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Как изменяется характер Тараса после гибели Остапа?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Он становится грустным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Он становится беспощадным к врагу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Он сломлен духовно и потерял веру в борьбу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) Видимо, не меняется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66ff"/>
                </a:solidFill>
                <a:latin typeface="Arial"/>
              </a:rPr>
              <a:t>Каков финал повести?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) Трагический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) Философский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) Оптимистический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Безымянный3"/>
          <p:cNvPicPr/>
          <p:nvPr/>
        </p:nvPicPr>
        <p:blipFill>
          <a:blip r:embed="rId1"/>
          <a:stretch/>
        </p:blipFill>
        <p:spPr>
          <a:xfrm>
            <a:off x="7215120" y="4143240"/>
            <a:ext cx="1714680" cy="1467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http://im3-tub.mail.ru/i?id=103327814&amp;tov=3"/>
          <p:cNvPicPr/>
          <p:nvPr/>
        </p:nvPicPr>
        <p:blipFill>
          <a:blip r:embed="rId2"/>
          <a:stretch/>
        </p:blipFill>
        <p:spPr>
          <a:xfrm>
            <a:off x="7429680" y="500040"/>
            <a:ext cx="135720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10:00:33Z</dcterms:created>
  <dc:creator>www.PHILka.RU</dc:creator>
  <dc:description/>
  <dc:language>en-US</dc:language>
  <cp:lastModifiedBy>Admin</cp:lastModifiedBy>
  <dcterms:modified xsi:type="dcterms:W3CDTF">2011-11-30T17:14:53Z</dcterms:modified>
  <cp:revision>36</cp:revision>
  <dc:subject/>
  <dc:title>Адресаты  любовной лирики Пушкина</dc:title>
</cp:coreProperties>
</file>