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A15-76E5-4181-B6A5-A54E0352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D12-8E7C-49E7-959C-8A588E9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8C3-2BB1-4BB7-9A96-407D4E61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BA4-8F96-47B5-BC61-D4720C19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9265-4BC7-45EF-B103-CCC89E10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FFC-2E4D-49B4-AED7-0B51DE36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04D4-3CCE-46CD-8F0C-EF112D5B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2B56-523C-4413-8B87-4ACABBA6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D4F-63D5-4C51-B09B-085447B9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E380-30E9-4BD0-90FE-64086820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A987-AECD-47DF-BC3B-6C7F377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D03-A92D-4978-8A69-E9892DF3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18E4-5D3A-460C-BA19-9E986876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949-DE1F-453F-8D57-2D5DBAC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7CFD-AEBD-426F-BE80-66009FAB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67F3-D4D5-4F68-9CDE-6E5E8BBD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9BFA-66B1-4283-9BFA-003132A8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AF5-A0F8-483D-8501-CD65389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99A-7AA1-44DD-9059-6625E0A7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F66-40B5-454C-97B7-323A730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E39-A8E7-4216-9C0F-3738CAB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703-FD73-47E7-813F-1F0E204B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5C7-F7F9-4529-96CE-682085E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7DE-C96E-4046-A677-A927B5B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3BC1-A260-4382-800B-8FBCAD56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E24-F39A-429B-BE42-4C025E83EF4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go.mail.ru/frame.html?imgurl=http://lj.rossia.org/userpic/173402/19047&amp;pageurl=http://gogol-sc769.narod.ru/15.html&amp;id=65349244&amp;iid=0&amp;imgwidth=235&amp;imgheight=300&amp;imgsize=14129&amp;images_links=b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go.mail.ru/frame.html?imgurl=http://www.kniga.ru/upload/image/1000557478.jpg&amp;pageurl=http://www.mactub.ru/main/gogol.html&amp;id=117629744&amp;iid=0&amp;imgwidth=200&amp;imgheight=313&amp;imgsize=18776&amp;images_links=b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useum.ru/img.asp?42728&amp;pageurl=http://www.rusk.ru/st.php?idar=105663&amp;id=106598222&amp;iid=6&amp;imgwidth=282&amp;imgheight=350&amp;imgsize=152162&amp;images_links=b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asurenkov.ru/dat/localized/rus/images/bubnov_aleksandr_pavlovich__taras_bulba_thumb.jpg&amp;pageurl=http://maslovka.org/modules.php?name=Buy&amp;i1=37&amp;i2=225&amp;i3=434&amp;i4=626&amp;i5=827&amp;r2=225&amp;id=7144637&amp;iid=4&amp;imgwidth=255&amp;imgheight=160&amp;imgsize=606656&amp;images_links=b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go.mail.ru/frame.html?imgurl=http://nikolay.gogol.ru/pages_pics/_128x128/56/6356.jpg&amp;pageurl=http://fratria.ru/blog/kalis/index.php?s=6ebdf14fca808a3055dc7ab1a34ecd1c&amp;&amp;st=10&amp;id=11200644&amp;iid=3&amp;imgwidth=435&amp;imgheight=301&amp;imgsize=64686&amp;images_links=b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tstu.ru/win/kultur/kul_img/mus_img/ger_img/pr_img/34.jpg&amp;pageurl=http://www.tstu.ru/win/kultur/museum/gerasim/pr/34.htm&amp;id=29296180&amp;iid=7&amp;imgwidth=455&amp;imgheight=330&amp;imgsize=106378&amp;images_links=b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gorod.cn.ua/image/users/2763/blog_00000087.jpeg&amp;pageurl=http://funeral-spb.narod.ru/necropols/smolenskoep/tombs/shevchenko/shevchenko.html&amp;id=65045453&amp;iid=3&amp;imgwidth=200&amp;imgheight=266&amp;imgsize=26944&amp;images_links=b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go.mail.ru/frame.html?imgurl=http://www.day.kiev.ua/img/27855/41-7-4.jpg&amp;pageurl=http://www.day.kiev.ua/28690/&amp;id=49227587&amp;iid=7&amp;imgwidth=250&amp;imgheight=187&amp;imgsize=41309&amp;images_links=b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playcast.ru/uploads/2009/04/10/926566.jpg&amp;pageurl=http://www.playcast.ru/playcasts/view.php?card=836868&amp;code=1bcfc4c27dd574d18745708896fc777e9df9ca6a&amp;id=53654261&amp;iid=3&amp;imgwidth=906&amp;imgheight=927&amp;imgsize=662256&amp;images_links=b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6" descr=""/>
          <p:cNvPicPr/>
          <p:nvPr/>
        </p:nvPicPr>
        <p:blipFill>
          <a:blip r:embed="rId1"/>
          <a:stretch/>
        </p:blipFill>
        <p:spPr>
          <a:xfrm>
            <a:off x="1762200" y="596880"/>
            <a:ext cx="64609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1731960" y="2494080"/>
            <a:ext cx="6680160" cy="2322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im0-tub.mail.ru/i?id=65349244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24600" y="420840"/>
            <a:ext cx="2011320" cy="229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http://im0-tub.mail.ru/i?id=117629744&amp;tov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09760" y="4243320"/>
            <a:ext cx="209088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8840" y="2142720"/>
            <a:ext cx="7500960" cy="409572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Цели и задачи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звитие внимания, мышления, памяти учащихся, коммуникативных и креативных способностей; обучение обобщению полученных знаний; повторение сведений по теории литературы; расширение словарного запаса учащихся; воспитание уважения к литературному наследию, уважения к чужому мнению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Тип урока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нтроль и проверка знаний учащихся по теме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Форма урока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рок – тест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1371600" y="324000"/>
            <a:ext cx="76136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1760" y="571680"/>
            <a:ext cx="7215120" cy="142848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дания, которые предлагаются, помогут выяснить уровень знаний учащихся.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тесты, предполагающие наличие одного правильного ответа, есть среди них и задания проблемного и творческого характера.</a:t>
            </a:r>
            <a:endParaRPr b="0" lang="en-US" sz="1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920" y="2714760"/>
            <a:ext cx="5214960" cy="371448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9966ff"/>
                </a:solidFill>
                <a:latin typeface="Times New Roman"/>
              </a:rPr>
              <a:t>С какой целью Н.В.Гоголь вводит повесть «Тарас Бульба» в сборник «Миргород»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Чтобы противопоставить запорожскую вольницу ничтожному существованию миргородских жителе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Все произведения сборника объединены одной темо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Писатель включил в сборник все, что было им к тому времени написано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Рисунок 3" descr="http://im6-tub.mail.ru/i?id=106598222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7960" y="2981160"/>
            <a:ext cx="19638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99760" y="571320"/>
            <a:ext cx="4429080" cy="52196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С какой целью Н.В.Гоголь вводит в начало повести описание Запорожской Сеч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Для создания в повести национального колорит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Чтобы показать истоки героизма Тараса и Остап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Чтобы посмеяться над запорожцам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Основное занятие в Запоржской Сечи в мирное врем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Торговл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Землепашество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Гульб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Дипломатическая деятельность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Рисунок 4" descr="http://im4-tub.mail.ru/i?id=714463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8400" y="847800"/>
            <a:ext cx="2657520" cy="173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http://im3-tub.mail.ru/i?id=11200644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1480" y="406548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00280" y="357120"/>
            <a:ext cx="5429520" cy="57866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С помощью каких средств Н.В.Гоголь добивается создания героического пафоса в повест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) Система образ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Б) Авторские лирические отступлени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) Прямое обращение автора к читателю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Г) Введение фольклорных образ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С какой целью Н.В.Гоголь при описании боя запорожцев с врагами использует приемы народного творчества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) Чтобы подчеркнуть физическую силу казак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Б) Чтобы провести параллель образов казаков с богатырям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) Чтобы показать любовь народа к казака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Рисунок 3" descr="http://im7-tub.mail.ru/i?id=29296180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857240"/>
            <a:ext cx="200016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71400" y="356760"/>
            <a:ext cx="5273640" cy="542916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ие задачи ставил перед собой Тарас Бульба в борьбе с поляками?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Расширение границ русского государств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Борьба за национальную независимость Украины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Завоевание славы среди казаков.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С какой целью Н.В.Гоголь вводит в повествование рассказ о жизни Остапа и Андрия в бурсе? Чтобы…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Показать истоки предательства Андрия и героизм Остап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Дать более глубокое представление о братьях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Рассказать об украинской бурсе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Рисунок 3" descr="http://im3-tub.mail.ru/i?id=65045453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3840" y="35712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http://im7-tub.mail.ru/i?id=49227587&amp;tov=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357192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14480" y="499680"/>
            <a:ext cx="5143320" cy="60008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ие приемы использует Н.В.Гоголь для создания образов братьев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Гипербол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Параллелиз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Метафор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Антитез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Почему Андрий оказался способен на предательство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В его характере преобладали пылкость, порыв, необузданность желан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Его полностью поглотило чувство любви к полячке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Андрию не нравилось в Запорожской Сеч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Андрий на самом деле не любил отца и брат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http://im3-tub.mail.ru/i?id=5365426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85716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http://im6-tub.mail.ru/i?id=86390636&amp;tov=6"/>
          <p:cNvPicPr/>
          <p:nvPr/>
        </p:nvPicPr>
        <p:blipFill>
          <a:blip r:embed="rId3"/>
          <a:stretch/>
        </p:blipFill>
        <p:spPr>
          <a:xfrm>
            <a:off x="1571760" y="3643200"/>
            <a:ext cx="18572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0160" y="214200"/>
            <a:ext cx="5773680" cy="642960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ой факт дает основания считать, что Андрий даже перед смертью не раскаивается в предательстве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Он не просит пощады у отц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Он умирает с именем прекрасной полячки на устах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н даже не вспоминает об Остапе.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 изменяется характер Тараса после гибели Остапа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Он становится грустны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Он становится беспощадным к враг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н сломлен духовно и потерял веру в борьб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Видимо, не меняетс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ов финал повест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Трагиче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Философ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птимистиче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Безымянный3"/>
          <p:cNvPicPr/>
          <p:nvPr/>
        </p:nvPicPr>
        <p:blipFill>
          <a:blip r:embed="rId1"/>
          <a:stretch/>
        </p:blipFill>
        <p:spPr>
          <a:xfrm>
            <a:off x="7215120" y="4143240"/>
            <a:ext cx="171468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http://im3-tub.mail.ru/i?id=103327814&amp;tov=3"/>
          <p:cNvPicPr/>
          <p:nvPr/>
        </p:nvPicPr>
        <p:blipFill>
          <a:blip r:embed="rId2"/>
          <a:stretch/>
        </p:blipFill>
        <p:spPr>
          <a:xfrm>
            <a:off x="7429680" y="500040"/>
            <a:ext cx="13572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0:00:33Z</dcterms:created>
  <dc:creator>www.PHILka.RU</dc:creator>
  <dc:description/>
  <dc:language>en-US</dc:language>
  <cp:lastModifiedBy>Admin</cp:lastModifiedBy>
  <dcterms:modified xsi:type="dcterms:W3CDTF">2011-11-30T17:14:53Z</dcterms:modified>
  <cp:revision>36</cp:revision>
  <dc:subject/>
  <dc:title>Адресаты  любовной лирики Пушкина</dc:title>
</cp:coreProperties>
</file>