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C0874-C3FE-4E33-ABBD-85F06FB32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ADF84-C237-4BFD-AD73-9C26FCC49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8D8A9-5B96-490B-A72E-79B0A166F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7FA23-766C-4385-A2AA-04394F353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92AF4-C21D-4327-9A90-FEDE63B66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406A5-F34D-4987-8F35-0D2C25EDB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165A3-3AE7-42B7-BF78-47B01E09A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2A47-3578-4C63-91F8-ED576E0C0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26175-4FED-4111-B22A-6B97E5B2B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E5075-6149-40AC-ADEB-8BF9EFD23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5C40-92E1-42E6-A152-7B2792DAD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93472-5593-4E0C-8C40-EB578C22F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5568-9FCC-4A14-BA51-8FB58ED49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1989000"/>
            <a:ext cx="7920000" cy="4003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Arial"/>
              </a:rPr>
              <a:t>Характер и темперамент</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зентация к пар 8 «Обществознание 6 класс» авт. В.В. Барабанов, И.П. Насонова. «Вентана - Граф»</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готовила учитель истории и обществознания МОУ «СОШ с. Ириновка» Макеева Валентина Сергеевн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620640"/>
            <a:ext cx="8569080" cy="486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Груша - огурец - дыня.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 таком друге, как ты, можно только мечтать. Ты человек сильный, надежный и в то же время чуткий и доброжелательный. Ребята понимают это и тянутся к тебе, во всех компаниях ты пользуешься большой популярностью. Тебе нравятся спорт, активные игры, походы и путешествия. Ты с удовольствием примешь участие в ремонте, который твоя семья затеет делать своими силами, но заставить тебя наводить порядок в твоей комнате или регулярно мыть шею - задача невыполнима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5280" y="620640"/>
            <a:ext cx="8424720" cy="394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Груша - огурец - арбуз</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у тебя вышло такое сочетание, значит, ты неисправимый мечтатель. Буйное воображение часто уносит тебя в таинственный мир, полный чудесных и увлекательных приключений. Увы, в действительности отношения с людьми складываются не так гладко. Поэтому ты часто обижаешься на родных и друзей - и в большинстве случаев совершенно напрасно! Поверь, что твои знакомые прекрасно относятся к тебе и считают тебя человеком милым и симпатичн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4360" y="836640"/>
            <a:ext cx="806436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Груша - помидор - дыня.</a:t>
            </a:r>
            <a:r>
              <a:rPr b="1" lang="en-US"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е, кто выбирает такое сочетание, обожают комфорт и уют. Они разборчивы в еде, всегда одеты со вкусом. Дом их всегда чист, ухожен, полон красивых вещей и симпатичных безделушек. У них очень развито чувство прекрасного, они любят природу, искусство, музыку. Что же касается характера, то по натуре они более впечатлительны, чувствительны и ранимы, чем другие люд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68360" y="692280"/>
            <a:ext cx="799128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Груша - помидор - арбуз.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знайся, тебе довольно часто говорят, что ты мог бы быть Отличником (или, по крайней мере, хорошистом), если бы не ленился? Потому что любое напряжение, любое волевое усилие для тебя - нож острый. Ты человек веселый, общительный, компанейский, у тебя легкий и дружелюбный характер. С людьми ты ведешь себя искренне и естественно, поэтому иногда тебя обвиняют в излишней прямолинейности и отсутствии так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О ДЕТЯХ &quot; Страница 2"/>
          <p:cNvPicPr/>
          <p:nvPr/>
        </p:nvPicPr>
        <p:blipFill>
          <a:blip r:embed="rId1"/>
          <a:stretch/>
        </p:blipFill>
        <p:spPr>
          <a:xfrm>
            <a:off x="250920" y="404640"/>
            <a:ext cx="6767280" cy="6007320"/>
          </a:xfrm>
          <a:prstGeom prst="rect">
            <a:avLst/>
          </a:prstGeom>
          <a:ln w="0">
            <a:noFill/>
          </a:ln>
        </p:spPr>
      </p:pic>
      <p:sp>
        <p:nvSpPr>
          <p:cNvPr id="61" name=""/>
          <p:cNvSpPr/>
          <p:nvPr/>
        </p:nvSpPr>
        <p:spPr>
          <a:xfrm>
            <a:off x="7164360" y="1773360"/>
            <a:ext cx="19796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Работа с учебником с. 5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Определите типы темперамен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03280" y="549360"/>
            <a:ext cx="669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Темперамент – это особенности поведения человека, которые заложены в нем от рождения</a:t>
            </a:r>
            <a:endParaRPr b="0" lang="en-US" sz="2000" spc="-1" strike="noStrike">
              <a:solidFill>
                <a:srgbClr val="000000"/>
              </a:solidFill>
              <a:latin typeface="Arial"/>
            </a:endParaRPr>
          </a:p>
        </p:txBody>
      </p:sp>
      <p:pic>
        <p:nvPicPr>
          <p:cNvPr id="63" name="" descr="Задачи: Знакомство с понятием &quot;Темперамент&quot; и его структурными компонентами; Диагностика собственных формально-динамических хара"/>
          <p:cNvPicPr/>
          <p:nvPr/>
        </p:nvPicPr>
        <p:blipFill>
          <a:blip r:embed="rId1"/>
          <a:stretch/>
        </p:blipFill>
        <p:spPr>
          <a:xfrm>
            <a:off x="0" y="1484280"/>
            <a:ext cx="8893080" cy="510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Веснин Менеджмент"/>
          <p:cNvPicPr/>
          <p:nvPr/>
        </p:nvPicPr>
        <p:blipFill>
          <a:blip r:embed="rId1"/>
          <a:stretch/>
        </p:blipFill>
        <p:spPr>
          <a:xfrm>
            <a:off x="250920" y="749160"/>
            <a:ext cx="8893080" cy="6108840"/>
          </a:xfrm>
          <a:prstGeom prst="rect">
            <a:avLst/>
          </a:prstGeom>
          <a:ln w="0">
            <a:noFill/>
          </a:ln>
        </p:spPr>
      </p:pic>
      <p:sp>
        <p:nvSpPr>
          <p:cNvPr id="65" name=""/>
          <p:cNvSpPr/>
          <p:nvPr/>
        </p:nvSpPr>
        <p:spPr>
          <a:xfrm>
            <a:off x="179280" y="260280"/>
            <a:ext cx="89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Выделите положительные и отрицательные черты каждого тип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89000"/>
            <a:ext cx="889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Темперамент появляется при рождении, а характер формируется в процессе жизни. </a:t>
            </a:r>
            <a:r>
              <a:rPr b="1" lang="en-US" sz="2400" spc="-1" strike="noStrike">
                <a:solidFill>
                  <a:srgbClr val="ff3300"/>
                </a:solidFill>
                <a:latin typeface="Arial"/>
              </a:rPr>
              <a:t>Как формируется характер человека? </a:t>
            </a:r>
            <a:endParaRPr b="0" lang="en-US" sz="2400" spc="-1" strike="noStrike">
              <a:solidFill>
                <a:srgbClr val="000000"/>
              </a:solidFill>
              <a:latin typeface="Arial"/>
            </a:endParaRPr>
          </a:p>
        </p:txBody>
      </p:sp>
      <p:pic>
        <p:nvPicPr>
          <p:cNvPr id="67" name="" descr=""/>
          <p:cNvPicPr/>
          <p:nvPr/>
        </p:nvPicPr>
        <p:blipFill>
          <a:blip r:embed="rId1"/>
          <a:stretch/>
        </p:blipFill>
        <p:spPr>
          <a:xfrm>
            <a:off x="611280" y="1511280"/>
            <a:ext cx="7632720" cy="521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4360" y="765000"/>
            <a:ext cx="741672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наете ли вы, что психологи могут определять характер человека по его вкусам и предпочтениям?</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ужно ответить всего на 3 вопроса что тебе больше всего нравится?</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Как научить ребенка думать / Дошкольники"/>
          <p:cNvPicPr/>
          <p:nvPr/>
        </p:nvPicPr>
        <p:blipFill>
          <a:blip r:embed="rId1"/>
          <a:stretch/>
        </p:blipFill>
        <p:spPr>
          <a:xfrm>
            <a:off x="4435560" y="2637000"/>
            <a:ext cx="4708440" cy="3824280"/>
          </a:xfrm>
          <a:prstGeom prst="rect">
            <a:avLst/>
          </a:prstGeom>
          <a:ln w="0">
            <a:noFill/>
          </a:ln>
        </p:spPr>
      </p:pic>
      <p:pic>
        <p:nvPicPr>
          <p:cNvPr id="44" name="" descr="Красивая девочка, задумалась - Обои на рабочий стол - Дети - Прикольные фото обои Wallpaper-Table.ru"/>
          <p:cNvPicPr/>
          <p:nvPr/>
        </p:nvPicPr>
        <p:blipFill>
          <a:blip r:embed="rId2"/>
          <a:stretch/>
        </p:blipFill>
        <p:spPr>
          <a:xfrm>
            <a:off x="0" y="2924280"/>
            <a:ext cx="4427640" cy="354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26920" y="404640"/>
            <a:ext cx="727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руша           или         Яблоко?</a:t>
            </a:r>
            <a:endParaRPr b="0" lang="en-US" sz="2400" spc="-1" strike="noStrike">
              <a:solidFill>
                <a:srgbClr val="000000"/>
              </a:solidFill>
              <a:latin typeface="Arial"/>
            </a:endParaRPr>
          </a:p>
        </p:txBody>
      </p:sp>
      <p:pic>
        <p:nvPicPr>
          <p:cNvPr id="46" name="" descr=""/>
          <p:cNvPicPr/>
          <p:nvPr/>
        </p:nvPicPr>
        <p:blipFill>
          <a:blip r:embed="rId1"/>
          <a:stretch/>
        </p:blipFill>
        <p:spPr>
          <a:xfrm>
            <a:off x="1547640" y="1268280"/>
            <a:ext cx="5761080" cy="50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187280" y="260280"/>
            <a:ext cx="705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гурцы             или         Помидора?</a:t>
            </a:r>
            <a:endParaRPr b="0" lang="en-US" sz="2400" spc="-1" strike="noStrike">
              <a:solidFill>
                <a:srgbClr val="000000"/>
              </a:solidFill>
              <a:latin typeface="Arial"/>
            </a:endParaRPr>
          </a:p>
        </p:txBody>
      </p:sp>
      <p:pic>
        <p:nvPicPr>
          <p:cNvPr id="48" name="" descr=""/>
          <p:cNvPicPr/>
          <p:nvPr/>
        </p:nvPicPr>
        <p:blipFill>
          <a:blip r:embed="rId1"/>
          <a:stretch/>
        </p:blipFill>
        <p:spPr>
          <a:xfrm>
            <a:off x="1187280" y="1628640"/>
            <a:ext cx="6382080" cy="462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00000" y="26028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ыни           или         Арбузы?</a:t>
            </a:r>
            <a:endParaRPr b="0" lang="en-US" sz="2400" spc="-1" strike="noStrike">
              <a:solidFill>
                <a:srgbClr val="000000"/>
              </a:solidFill>
              <a:latin typeface="Arial"/>
            </a:endParaRPr>
          </a:p>
        </p:txBody>
      </p:sp>
      <p:pic>
        <p:nvPicPr>
          <p:cNvPr id="50" name="" descr=""/>
          <p:cNvPicPr/>
          <p:nvPr/>
        </p:nvPicPr>
        <p:blipFill>
          <a:blip r:embed="rId1"/>
          <a:stretch/>
        </p:blipFill>
        <p:spPr>
          <a:xfrm>
            <a:off x="971640" y="1268280"/>
            <a:ext cx="7343640" cy="488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116000" y="2276640"/>
            <a:ext cx="56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0920" y="476280"/>
            <a:ext cx="8569080" cy="574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Яблоко - огурец - дыня.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 мнению психологов, такой выбор свойствен мальчикам. Если ты парень, то, очевидно, в твоем характере немало черт, которые принято называть мужскими - сила воли, решительность, смелость, умение владеть собой. Если же ты девочка, то, скорее всего, предпочитаешь общаться с мальчиками, а не с девочками, а в детстве больше любила играть в войну и лазать по деревьям, чем готовить куклам обед и шить для них платья. Однако вне зависимости от того, парень ты или девчонка, в своей компании ты являешься лидером и заводилой. Ребята уважают тебя и ценят твою дружб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50920" y="476280"/>
            <a:ext cx="8893080" cy="5563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ff"/>
                </a:solidFill>
                <a:latin typeface="Arial"/>
              </a:rPr>
              <a:t>Яблоко - огурец - арбуз.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т уж кто задал в детстве хлопот родителям и прочим воспитателям! Твоя фантазия и жажда приключений не знает границ. Тебе ничего не стоит влипнуть в какую-нибудь историю или изобрести такую проделку, что взрослые только руками разведут. Ровесники же обожают тусоваться в твоем обществе - еще бы, ведь с тобой всегда так весело и так интересно! У тебя непостоянный, переменчивый характер. Чего ожидать от тебя в следующую минуту, не знает никто, даже ты сам. Впрочем, твои находчивость и сообразительность всегда помогают тебе найти выход из самой, казалось бы, тупиковой ситуации.</a:t>
            </a:r>
            <a:r>
              <a:rPr b="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76280"/>
            <a:ext cx="828036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Яблоко - помидор - дыня.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Люди, выбирающие такое сочетание, отлично знают, чего хотят от жизни. Они практичны, предприимчивы и обладают цепким умом. В общении с другими они всегда очень вежливы и тактичны. Если ты попал в эту группу, значит, скорее всего, подавляющее большинство твоих знакомых отзываются о тебе положительно. Ребята уважают тебя, родители гордятся твоей воспитанностью и самостоятельностью, учителя выделяют из всего класса и ставят в пример другим. А ты посмеиваешься про себя - каков ты на самом деле, никто из них даже не догадываетс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620640"/>
            <a:ext cx="8351640" cy="4673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Яблоко - помидор - арбуз.</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воему спокойствию, уравновешенности и рассудительности можно только позавидовать, ты не сторонник слишком активных игр, не любишь больших шумных компаний, и терпеть не можешь никаких ссор и конфликтов. Любые потрясения и даже просто крупные изменения в жизни могут надолго выбить тебя из колеи. Ты не слишком общителен. Если возникает вопрос, как провести выходной, ты, скорее всего, просидишь весь день за телевизором или компьютером, чем отправишься на тусов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1T17:17:26Z</dcterms:created>
  <dc:creator>Алексей</dc:creator>
  <dc:description/>
  <dc:language>en-US</dc:language>
  <cp:lastModifiedBy>Алексей</cp:lastModifiedBy>
  <dcterms:modified xsi:type="dcterms:W3CDTF">2014-12-21T11:14:07Z</dcterms:modified>
  <cp:revision>4</cp:revision>
  <dc:subject/>
  <dc:title>Слайд 1</dc:title>
</cp:coreProperties>
</file>